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CDB57-0797-4B8E-9587-E32F6A685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4C88146E-0230-4350-9EF0-4E0FC73DF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486AF804-1441-4309-8F66-258FF5EDB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A5B41C40-B31E-46C2-BC76-D95AACE42B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AA261-BEDD-4278-8378-C4910F01E5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42DF227-8FEB-4426-84EF-27D1D6EBDC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A9B7CED-7B8A-41F9-8F95-291199EF3E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35839CD-4C48-4DB1-B395-FDF3DB7923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02438ADB-2AB5-4E09-AAAD-D0E50A6CE1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8A900151-70D5-4D8D-87FD-16FB9F87A5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AE1124D-0D85-4FEC-B95F-40D0ECB3BB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4082FF2-3995-417F-904C-EE8BC7DAA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D4B02E4-0D0C-4102-ADC9-1886A637BF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0337E72E-D1B8-4F3E-A9E2-44351B452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803A8DA8-930E-417B-AE8F-14077A1BE3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D9D6D8F8-CF75-49E7-881F-1715F605F1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A180E96-FFE0-43C8-B79E-91AB00A242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3471818-CDE3-4D0A-8BDC-FFA06EBFFA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22B81D40-52EF-45EB-A997-47C9D5AFA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0979FDDF-43B2-4B52-9E6A-1BFF5953F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940C033-342F-4041-968B-6F55756CBC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AB2D632-A247-4400-95CA-E82034D65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22F79E3B-2774-4C72-BEF2-9DD6E1F9B6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D0FBB31-3F68-451F-A00A-D31B29BBD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2E9A-0DB1-4640-B12C-40B5994A5CB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5FB2-2619-46EB-8D4D-926A520EA0F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Performance Profiling</a:t>
            </a:r>
            <a:endParaRPr b="0" lang="en-US" sz="2400" spc="-1" strike="noStrike">
              <a:solidFill>
                <a:srgbClr val="000000"/>
              </a:solidFill>
              <a:latin typeface="Verdana"/>
            </a:endParaRPr>
          </a:p>
        </p:txBody>
      </p:sp>
      <p:sp>
        <p:nvSpPr>
          <p:cNvPr id="101"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3A9361F-A38A-4084-9499-5A253B0CFD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eap and garbage collection</a:t>
            </a:r>
            <a:endParaRPr b="0" lang="en-US" sz="4000" spc="-1" strike="noStrike">
              <a:solidFill>
                <a:srgbClr val="000000"/>
              </a:solidFill>
              <a:latin typeface="Verdana"/>
            </a:endParaRPr>
          </a:p>
        </p:txBody>
      </p:sp>
      <p:sp>
        <p:nvSpPr>
          <p:cNvPr id="121" name=""/>
          <p:cNvSpPr/>
          <p:nvPr/>
        </p:nvSpPr>
        <p:spPr>
          <a:xfrm flipV="1">
            <a:off x="701640" y="1906200"/>
            <a:ext cx="0" cy="431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01640" y="6211800"/>
            <a:ext cx="8178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73120" y="3252960"/>
            <a:ext cx="7647120" cy="3022560"/>
          </a:xfrm>
          <a:custGeom>
            <a:avLst/>
            <a:gdLst/>
            <a:ahLst/>
            <a:rect l="l" t="t" r="r" b="b"/>
            <a:pathLst>
              <a:path w="4817" h="1904">
                <a:moveTo>
                  <a:pt x="81" y="1856"/>
                </a:moveTo>
                <a:cubicBezTo>
                  <a:pt x="145" y="1835"/>
                  <a:pt x="0" y="1904"/>
                  <a:pt x="201" y="1744"/>
                </a:cubicBezTo>
                <a:lnTo>
                  <a:pt x="369" y="1488"/>
                </a:lnTo>
                <a:lnTo>
                  <a:pt x="689" y="1408"/>
                </a:lnTo>
                <a:lnTo>
                  <a:pt x="977" y="1016"/>
                </a:lnTo>
                <a:lnTo>
                  <a:pt x="1385" y="864"/>
                </a:lnTo>
                <a:lnTo>
                  <a:pt x="1561" y="560"/>
                </a:lnTo>
                <a:lnTo>
                  <a:pt x="1897" y="288"/>
                </a:lnTo>
                <a:lnTo>
                  <a:pt x="2817" y="0"/>
                </a:lnTo>
                <a:lnTo>
                  <a:pt x="3441" y="96"/>
                </a:lnTo>
                <a:lnTo>
                  <a:pt x="3985" y="176"/>
                </a:lnTo>
                <a:lnTo>
                  <a:pt x="4545" y="0"/>
                </a:lnTo>
                <a:lnTo>
                  <a:pt x="4817" y="16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1640" y="2554200"/>
            <a:ext cx="817884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4240" y="2567160"/>
            <a:ext cx="7556760" cy="3632040"/>
          </a:xfrm>
          <a:custGeom>
            <a:avLst/>
            <a:gdLst/>
            <a:ahLst/>
            <a:rect l="l" t="t" r="r" b="b"/>
            <a:pathLst>
              <a:path w="4760" h="2288">
                <a:moveTo>
                  <a:pt x="0" y="2288"/>
                </a:moveTo>
                <a:lnTo>
                  <a:pt x="176" y="1800"/>
                </a:lnTo>
                <a:lnTo>
                  <a:pt x="488" y="1560"/>
                </a:lnTo>
                <a:lnTo>
                  <a:pt x="792" y="992"/>
                </a:lnTo>
                <a:lnTo>
                  <a:pt x="1160" y="640"/>
                </a:lnTo>
                <a:lnTo>
                  <a:pt x="1624" y="0"/>
                </a:lnTo>
                <a:lnTo>
                  <a:pt x="1632" y="848"/>
                </a:lnTo>
                <a:lnTo>
                  <a:pt x="1864" y="480"/>
                </a:lnTo>
                <a:lnTo>
                  <a:pt x="2128" y="240"/>
                </a:lnTo>
                <a:lnTo>
                  <a:pt x="2336" y="0"/>
                </a:lnTo>
                <a:lnTo>
                  <a:pt x="2336" y="552"/>
                </a:lnTo>
                <a:lnTo>
                  <a:pt x="2624" y="256"/>
                </a:lnTo>
                <a:lnTo>
                  <a:pt x="3128" y="8"/>
                </a:lnTo>
                <a:lnTo>
                  <a:pt x="3128" y="496"/>
                </a:lnTo>
                <a:lnTo>
                  <a:pt x="3472" y="312"/>
                </a:lnTo>
                <a:lnTo>
                  <a:pt x="3736" y="8"/>
                </a:lnTo>
                <a:lnTo>
                  <a:pt x="3736" y="576"/>
                </a:lnTo>
                <a:lnTo>
                  <a:pt x="4432" y="0"/>
                </a:lnTo>
                <a:lnTo>
                  <a:pt x="4432" y="448"/>
                </a:lnTo>
                <a:lnTo>
                  <a:pt x="4760" y="32"/>
                </a:lnTo>
              </a:path>
            </a:pathLst>
          </a:custGeom>
          <a:noFill/>
          <a:ln w="57240">
            <a:solidFill>
              <a:srgbClr val="ffcf0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83400" y="139716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ize</a:t>
            </a:r>
            <a:endParaRPr b="0" lang="en-US" sz="2400" spc="-1" strike="noStrike">
              <a:solidFill>
                <a:srgbClr val="000000"/>
              </a:solidFill>
              <a:latin typeface="Times New Roman"/>
            </a:endParaRPr>
          </a:p>
        </p:txBody>
      </p:sp>
      <p:sp>
        <p:nvSpPr>
          <p:cNvPr id="127" name=""/>
          <p:cNvSpPr/>
          <p:nvPr/>
        </p:nvSpPr>
        <p:spPr>
          <a:xfrm>
            <a:off x="994680" y="203184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Heap Size</a:t>
            </a:r>
            <a:endParaRPr b="0" lang="en-US" sz="2400" spc="-1" strike="noStrike">
              <a:solidFill>
                <a:srgbClr val="000000"/>
              </a:solidFill>
              <a:latin typeface="Times New Roman"/>
            </a:endParaRPr>
          </a:p>
        </p:txBody>
      </p:sp>
      <p:sp>
        <p:nvSpPr>
          <p:cNvPr id="128" name=""/>
          <p:cNvSpPr/>
          <p:nvPr/>
        </p:nvSpPr>
        <p:spPr>
          <a:xfrm>
            <a:off x="8066520" y="640080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ime</a:t>
            </a:r>
            <a:endParaRPr b="0" lang="en-US" sz="2400" spc="-1" strike="noStrike">
              <a:solidFill>
                <a:srgbClr val="000000"/>
              </a:solidFill>
              <a:latin typeface="Times New Roman"/>
            </a:endParaRPr>
          </a:p>
        </p:txBody>
      </p:sp>
      <p:sp>
        <p:nvSpPr>
          <p:cNvPr id="129" name=""/>
          <p:cNvSpPr/>
          <p:nvPr/>
        </p:nvSpPr>
        <p:spPr>
          <a:xfrm>
            <a:off x="701640" y="3227400"/>
            <a:ext cx="8178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19080" y="276876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Max Occupancy</a:t>
            </a:r>
            <a:endParaRPr b="0" lang="en-US" sz="2400" spc="-1" strike="noStrike">
              <a:solidFill>
                <a:srgbClr val="000000"/>
              </a:solidFill>
              <a:latin typeface="Times New Roman"/>
            </a:endParaRPr>
          </a:p>
        </p:txBody>
      </p:sp>
      <p:sp>
        <p:nvSpPr>
          <p:cNvPr id="131" name=""/>
          <p:cNvSpPr/>
          <p:nvPr/>
        </p:nvSpPr>
        <p:spPr>
          <a:xfrm>
            <a:off x="288612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2" name=""/>
          <p:cNvSpPr/>
          <p:nvPr/>
        </p:nvSpPr>
        <p:spPr>
          <a:xfrm>
            <a:off x="399096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3" name=""/>
          <p:cNvSpPr/>
          <p:nvPr/>
        </p:nvSpPr>
        <p:spPr>
          <a:xfrm>
            <a:off x="522288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4" name=""/>
          <p:cNvSpPr/>
          <p:nvPr/>
        </p:nvSpPr>
        <p:spPr>
          <a:xfrm>
            <a:off x="620064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5" name=""/>
          <p:cNvSpPr/>
          <p:nvPr/>
        </p:nvSpPr>
        <p:spPr>
          <a:xfrm>
            <a:off x="7292880" y="2021040"/>
            <a:ext cx="812880" cy="736560"/>
          </a:xfrm>
          <a:prstGeom prst="irregularSeal1">
            <a:avLst/>
          </a:prstGeom>
          <a:solidFill>
            <a:srgbClr val="ffff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GC</a:t>
            </a:r>
            <a:endParaRPr b="0" lang="en-US" sz="2400" spc="-1" strike="noStrike">
              <a:solidFill>
                <a:srgbClr val="000000"/>
              </a:solidFill>
              <a:latin typeface="Times New Roman"/>
            </a:endParaRPr>
          </a:p>
        </p:txBody>
      </p:sp>
      <p:sp>
        <p:nvSpPr>
          <p:cNvPr id="136" name=""/>
          <p:cNvSpPr/>
          <p:nvPr/>
        </p:nvSpPr>
        <p:spPr>
          <a:xfrm>
            <a:off x="5921280" y="3879720"/>
            <a:ext cx="3014640" cy="1014480"/>
          </a:xfrm>
          <a:prstGeom prst="wedgeRoundRectCallout">
            <a:avLst>
              <a:gd name="adj1" fmla="val -42888"/>
              <a:gd name="adj2" fmla="val -94912"/>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Total size of reachable objects</a:t>
            </a:r>
            <a:endParaRPr b="0" lang="en-US" sz="2800" spc="-1" strike="noStrike">
              <a:solidFill>
                <a:srgbClr val="000000"/>
              </a:solidFill>
              <a:latin typeface="Times New Roman"/>
            </a:endParaRPr>
          </a:p>
        </p:txBody>
      </p:sp>
      <p:sp>
        <p:nvSpPr>
          <p:cNvPr id="137" name=""/>
          <p:cNvSpPr/>
          <p:nvPr/>
        </p:nvSpPr>
        <p:spPr>
          <a:xfrm>
            <a:off x="3270240" y="5008680"/>
            <a:ext cx="2949480" cy="1092240"/>
          </a:xfrm>
          <a:prstGeom prst="wedgeRoundRectCallout">
            <a:avLst>
              <a:gd name="adj1" fmla="val -96986"/>
              <a:gd name="adj2" fmla="val -11075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宋体"/>
              </a:rPr>
              <a:t>Total size of allocated object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7D7E82A-C3DD-401E-8742-41B709E03B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benchmarking, ...</a:t>
            </a:r>
            <a:endParaRPr b="0" lang="en-US" sz="4000" spc="-1" strike="noStrike">
              <a:solidFill>
                <a:srgbClr val="000000"/>
              </a:solidFill>
              <a:latin typeface="Verdana"/>
            </a:endParaRPr>
          </a:p>
        </p:txBody>
      </p:sp>
      <p:sp>
        <p:nvSpPr>
          <p:cNvPr id="13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iling</a:t>
            </a:r>
            <a:r>
              <a:rPr b="0" lang="en-US" sz="2400" spc="-1" strike="noStrike">
                <a:solidFill>
                  <a:srgbClr val="000000"/>
                </a:solidFill>
                <a:latin typeface="Verdana"/>
              </a:rPr>
              <a:t>: Measuring relative system statistics.</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is the most time being spent? ("classical" profiling)</a:t>
            </a:r>
            <a:endParaRPr b="0" lang="en-US" sz="20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 takes the most time?</a:t>
            </a:r>
            <a:endParaRPr b="0" lang="en-US" sz="18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 is called the most?</a:t>
            </a:r>
            <a:endParaRPr b="0" lang="en-US" sz="18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is memory being used?</a:t>
            </a:r>
            <a:endParaRPr b="0" lang="en-US" sz="20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kind of objects are being created?</a:t>
            </a:r>
            <a:endParaRPr b="0" lang="en-US" sz="1800" spc="-1" strike="noStrike">
              <a:solidFill>
                <a:srgbClr val="000000"/>
              </a:solidFill>
              <a:latin typeface="Verdana"/>
            </a:endParaRPr>
          </a:p>
          <a:p>
            <a:pPr lvl="2" marL="1143000" indent="-228600">
              <a:lnSpc>
                <a:spcPct val="8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in especially applicable in OO, GCed environments.</a:t>
            </a:r>
            <a:endParaRPr b="0" lang="en-US" sz="18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ing is </a:t>
            </a:r>
            <a:r>
              <a:rPr b="0" i="1" lang="en-US" sz="2000" spc="-1" strike="noStrike">
                <a:solidFill>
                  <a:srgbClr val="000000"/>
                </a:solidFill>
                <a:latin typeface="Verdana"/>
              </a:rPr>
              <a:t>not </a:t>
            </a:r>
            <a:r>
              <a:rPr b="0" lang="en-US" sz="2000" spc="-1" strike="noStrike">
                <a:solidFill>
                  <a:srgbClr val="000000"/>
                </a:solidFill>
                <a:latin typeface="Verdana"/>
              </a:rPr>
              <a:t>the same as benchmarking or optimizing.</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chmarking</a:t>
            </a:r>
            <a:r>
              <a:rPr b="0" lang="en-US" sz="2400" spc="-1" strike="noStrike">
                <a:solidFill>
                  <a:srgbClr val="000000"/>
                </a:solidFill>
                <a:latin typeface="Verdana"/>
              </a:rPr>
              <a:t>: Measuring the absolute performance of your app on a particular platform.</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ptimization</a:t>
            </a:r>
            <a:r>
              <a:rPr b="0" lang="en-US" sz="2400" spc="-1" strike="noStrike">
                <a:solidFill>
                  <a:srgbClr val="000000"/>
                </a:solidFill>
                <a:latin typeface="Verdana"/>
              </a:rPr>
              <a:t>: Applying refactoring and enhancements to speed up cod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470E8A6-7597-43AB-9480-AAD0DF30D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motivation</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use a profile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intuition about what's slow is often wro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 is a major aspect of program acceptance by users / custom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r advantag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ura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nes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id, statistical inform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tform- and machine-independence</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should I profile my cod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E1A0FF0-28EE-4E5C-B69D-7E9085B742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profiling tells you</a:t>
            </a:r>
            <a:endParaRPr b="0" lang="en-US" sz="4000" spc="-1" strike="noStrike">
              <a:solidFill>
                <a:srgbClr val="000000"/>
              </a:solidFill>
              <a:latin typeface="Verdana"/>
            </a:endParaRPr>
          </a:p>
        </p:txBody>
      </p:sp>
      <p:sp>
        <p:nvSpPr>
          <p:cNvPr id="14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inform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uch time is spent in each method? ("flat" profi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many objects of each type are allocated?</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yond the basic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 flow ("hierarchical" profiling)</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calls to method A cause method B to take too much time?</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line information</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line(s) in a given method are the most expensive?</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ich methods created which object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ization aspects </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easy to use the profiler to get to the information you're interested in?</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3ADD0FD-B994-4FD6-8A90-1B401F5A04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ypes of profilers</a:t>
            </a:r>
            <a:endParaRPr b="0" lang="en-US" sz="40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 variety of types of profiler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ing</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usually a trade-off in terms of:</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urac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nularity of informatio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usivenes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9C48889-E34E-400A-B6B5-9FC3A00A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ertion profiling</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ertion</a:t>
            </a:r>
            <a:r>
              <a:rPr b="0" lang="en-US" sz="2400" spc="-1" strike="noStrike">
                <a:solidFill>
                  <a:srgbClr val="000000"/>
                </a:solidFill>
                <a:latin typeface="Verdana"/>
              </a:rPr>
              <a:t>: placing special profiling measurement code into your program automatically at compile-tim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used across a variety of platform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accurate (in some ways)</a:t>
            </a: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recompilation or relinking of the ap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ing code may affect performanc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icult to calculate exact impac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4B48E9B-5C1B-450F-997D-3C4BF5F1DB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ampling profiling</a:t>
            </a:r>
            <a:endParaRPr b="0" lang="en-US" sz="4000" spc="-1" strike="noStrike">
              <a:solidFill>
                <a:srgbClr val="000000"/>
              </a:solidFill>
              <a:latin typeface="Verdana"/>
            </a:endParaRPr>
          </a:p>
        </p:txBody>
      </p:sp>
      <p:sp>
        <p:nvSpPr>
          <p:cNvPr id="14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mpling</a:t>
            </a:r>
            <a:r>
              <a:rPr b="0" lang="en-US" sz="2400" spc="-1" strike="noStrike">
                <a:solidFill>
                  <a:srgbClr val="000000"/>
                </a:solidFill>
                <a:latin typeface="Verdana"/>
              </a:rPr>
              <a:t>: monitoring CPU or VM at regular intervals and saving a snapshot of CPU and/or memory state</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data is then compared with the program's layout in memory to get an idea of where the program was at each sample.</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odification of app is necessary</a:t>
            </a: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accurate; varying sample interval leads to a time/accuracy trade-off</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high sample rate is accurate, but takes a lot of time</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small methods will almost always be missed</a:t>
            </a:r>
            <a:endParaRPr b="0" lang="en-US" sz="2000" spc="-1" strike="noStrike">
              <a:solidFill>
                <a:srgbClr val="000000"/>
              </a:solidFill>
              <a:latin typeface="Verdana"/>
            </a:endParaRPr>
          </a:p>
          <a:p>
            <a:pPr lvl="2" marL="1143000" indent="-228600">
              <a:lnSpc>
                <a:spcPct val="90000"/>
              </a:lnSpc>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 small method is called frequently and you have are unlucky, small but expensive methods may </a:t>
            </a:r>
            <a:r>
              <a:rPr b="0" lang="en-US" sz="1800" spc="-1" strike="noStrike" u="sng">
                <a:solidFill>
                  <a:srgbClr val="000000"/>
                </a:solidFill>
                <a:uFillTx/>
                <a:latin typeface="Verdana"/>
              </a:rPr>
              <a:t>never</a:t>
            </a:r>
            <a:r>
              <a:rPr b="0" lang="en-US" sz="1800" spc="-1" strike="noStrike">
                <a:solidFill>
                  <a:srgbClr val="000000"/>
                </a:solidFill>
                <a:latin typeface="Verdana"/>
              </a:rPr>
              <a:t> show up</a:t>
            </a:r>
            <a:endParaRPr b="0" lang="en-US" sz="18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pling cannot easily monitor memory usag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3D5C66C-2086-464E-9386-2618A272A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trumented VM profiling</a:t>
            </a:r>
            <a:endParaRPr b="0" lang="en-US" sz="4000" spc="-1" strike="noStrike">
              <a:solidFill>
                <a:srgbClr val="000000"/>
              </a:solidFill>
              <a:latin typeface="Verdana"/>
            </a:endParaRPr>
          </a:p>
        </p:txBody>
      </p:sp>
      <p:sp>
        <p:nvSpPr>
          <p:cNvPr id="15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rumenting the Java VM</a:t>
            </a:r>
            <a:r>
              <a:rPr b="0" lang="en-US" sz="2400" spc="-1" strike="noStrike">
                <a:solidFill>
                  <a:srgbClr val="000000"/>
                </a:solidFill>
                <a:latin typeface="Verdana"/>
              </a:rPr>
              <a:t>: Modifying the Java Virtual Machine's code so that it records profiling informatio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this technique, each and every VM instruction can be monitored</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ost accurate techniqu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monitor memory usage data as well as time data</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easily be extended to allow remote profiling</a:t>
            </a: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strumented VM is platform-specific</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359CB60-E918-4CC2-A6C6-413CA6FA4E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ools</a:t>
            </a:r>
            <a:endParaRPr b="0" lang="en-US" sz="4000" spc="-1" strike="noStrike">
              <a:solidFill>
                <a:srgbClr val="000000"/>
              </a:solidFill>
              <a:latin typeface="Verdana"/>
            </a:endParaRPr>
          </a:p>
        </p:txBody>
      </p:sp>
      <p:sp>
        <p:nvSpPr>
          <p:cNvPr id="15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free Java profiling/optimization tools availabl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PTP profiler extension for Eclip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ble Java Profiler (EJP) - open source, CPU tracing onl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lipse Profiler plugi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va Memory Profiler (JM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ke's Java Profiler (MJ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Probe Profiler - uses an instrumented VM</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prof (</a:t>
            </a:r>
            <a:r>
              <a:rPr b="0" lang="en-US" sz="2400" spc="-1" strike="noStrike">
                <a:solidFill>
                  <a:srgbClr val="000000"/>
                </a:solidFill>
                <a:latin typeface="Courier New"/>
              </a:rPr>
              <a:t>java -Xrunhprof</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es with JDK from Sun, fre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 enough for anything I've ever needed</a:t>
            </a:r>
            <a:endParaRPr b="0" lang="en-US" sz="2000" spc="-1" strike="noStrike">
              <a:solidFill>
                <a:srgbClr val="000000"/>
              </a:solidFill>
              <a:latin typeface="Verdana"/>
            </a:endParaRPr>
          </a:p>
        </p:txBody>
      </p:sp>
      <p:pic>
        <p:nvPicPr>
          <p:cNvPr id="154" name="" descr=""/>
          <p:cNvPicPr/>
          <p:nvPr/>
        </p:nvPicPr>
        <p:blipFill>
          <a:blip r:embed="rId1"/>
          <a:stretch/>
        </p:blipFill>
        <p:spPr>
          <a:xfrm>
            <a:off x="6705720" y="2514600"/>
            <a:ext cx="2209680" cy="2009880"/>
          </a:xfrm>
          <a:prstGeom prst="rect">
            <a:avLst/>
          </a:prstGeom>
          <a:ln w="0">
            <a:noFill/>
          </a:ln>
        </p:spPr>
      </p:pic>
      <p:pic>
        <p:nvPicPr>
          <p:cNvPr id="155" name="" descr=""/>
          <p:cNvPicPr/>
          <p:nvPr/>
        </p:nvPicPr>
        <p:blipFill>
          <a:blip r:embed="rId2"/>
          <a:stretch/>
        </p:blipFill>
        <p:spPr>
          <a:xfrm>
            <a:off x="6858000" y="5067360"/>
            <a:ext cx="1981080" cy="1181160"/>
          </a:xfrm>
          <a:prstGeom prst="rect">
            <a:avLst/>
          </a:prstGeom>
          <a:ln w="0">
            <a:noFill/>
          </a:ln>
        </p:spPr>
      </p:pic>
      <p:sp>
        <p:nvSpPr>
          <p:cNvPr id="4" name="PlaceHolder 3"/>
          <p:cNvSpPr>
            <a:spLocks noGrp="1"/>
          </p:cNvSpPr>
          <p:nvPr>
            <p:ph type="sldNum" idx="1"/>
          </p:nvPr>
        </p:nvSpPr>
        <p:spPr/>
        <p:txBody>
          <a:bodyPr/>
          <a:p>
            <a:fld id="{77BD1FA7-7027-4C74-A29C-DDDEDEB473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ing hprof</a:t>
            </a:r>
            <a:endParaRPr b="0" lang="en-US" sz="4000" spc="-1" strike="noStrike">
              <a:solidFill>
                <a:srgbClr val="000000"/>
              </a:solidFill>
              <a:latin typeface="Verdana"/>
            </a:endParaRPr>
          </a:p>
        </p:txBody>
      </p:sp>
      <p:sp>
        <p:nvSpPr>
          <p:cNvPr id="15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usage: java -Xrunhprof:[help]|[&lt;option&gt;=&lt;value&g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Option Name and Value  Description                    Defaul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  -----------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heap=dump|sites|all    heap profiling                 a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cpu=samples|times|old  CPU usage                      off</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monitor=y|n            monitor contention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ormat=a|b             text(txt) or binary output     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ile=&lt;file&gt;            write data to file             off</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depth=&lt;size&gt;           stack trace depth              4</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interval=&lt;ms&gt;          sample interval in ms          10</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cutoff=&lt;value&gt;         output cutoff point            0.0001</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lineno=y|n             line number in traces?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thread=y|n             thread in traces?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doe=y|n                dump on exit?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msa=y|n                Solaris micro state accounting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force=y|n              force output to &lt;file&gt;         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Courier New"/>
              </a:rPr>
              <a:t>verbose=y|n            print messages about dumps     y</a:t>
            </a: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E5225CAC-5144-42C9-8B59-B102111DF4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BuildBigString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final static int REPS = 8000;</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String makeString()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str =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n = 0; n &lt; REPS; n++)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 += "mor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str;</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uilds a big, important string.</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makeString());</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3B602D31-25EF-4D30-B83D-4A449A5DA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ample hprof usage</a:t>
            </a:r>
            <a:endParaRPr b="0" lang="en-US" sz="4000" spc="-1" strike="noStrike">
              <a:solidFill>
                <a:srgbClr val="000000"/>
              </a:solidFill>
              <a:latin typeface="Verdana"/>
            </a:endParaRPr>
          </a:p>
        </p:txBody>
      </p:sp>
      <p:sp>
        <p:nvSpPr>
          <p:cNvPr id="15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measure CPU usage, try the following:</a:t>
            </a:r>
            <a:endParaRPr b="0" lang="en-US" sz="2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Courier New"/>
              </a:rPr>
              <a:t>java -Xrunhprof:cpu=samples,depth=6,heap=sites</a:t>
            </a:r>
            <a:endParaRPr b="0" lang="en-US" sz="16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ting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kes samples of CPU execu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call traces that include the last 6 levels on the stack</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record the sites used on the heap (to keep the output file small)</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execution, open the text file </a:t>
            </a:r>
            <a:r>
              <a:rPr b="0" lang="en-US" sz="2400" spc="-1" strike="noStrike">
                <a:solidFill>
                  <a:srgbClr val="000000"/>
                </a:solidFill>
                <a:latin typeface="Courier New"/>
              </a:rPr>
              <a:t>java.hprof.txt</a:t>
            </a:r>
            <a:r>
              <a:rPr b="0" lang="en-US" sz="2400" spc="-1" strike="noStrike">
                <a:solidFill>
                  <a:srgbClr val="000000"/>
                </a:solidFill>
                <a:latin typeface="Verdana"/>
              </a:rPr>
              <a:t> in the current directory with a text edito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E2A949D-FC5D-44DF-9FBD-90304988C7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hprof.txt organization</a:t>
            </a:r>
            <a:endParaRPr b="0" lang="en-US" sz="4000" spc="-1" strike="noStrike">
              <a:solidFill>
                <a:srgbClr val="000000"/>
              </a:solidFill>
              <a:latin typeface="Verdana"/>
            </a:endParaRPr>
          </a:p>
        </p:txBody>
      </p:sp>
      <p:sp>
        <p:nvSpPr>
          <p:cNvPr id="16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D START/END: mark the lifetime of Java threads</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CE: represents a Java stack trace.  Each trace consists of a series of stack frames.  Other records refer to TRACEs to identify (1) where object allocations have taken place, (2) the frames in which GC roots were found, and (3) frequently executed methods.</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P DUMP: a complete snapshot of all live objects in the heap. </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TES: a sorted list of allocation sites.  This identifies the most heavily allocated object types, and the TRACE at which those allocations occurred.</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SAMPLES: a statistical profile of program execution.  The VM periodically samples all running threads, and assign a quantum to active TRACEs in those threads.  Entries in this record are TRACEs ranked by percentage.</a:t>
            </a:r>
            <a:endParaRPr b="0" lang="en-US" sz="2000" spc="-1" strike="noStrike">
              <a:solidFill>
                <a:srgbClr val="000000"/>
              </a:solidFill>
              <a:latin typeface="Verdana"/>
            </a:endParaRPr>
          </a:p>
          <a:p>
            <a:pPr marL="343080" indent="-343080">
              <a:lnSpc>
                <a:spcPct val="90000"/>
              </a:lnSpc>
              <a:spcBef>
                <a:spcPts val="499"/>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TIME: a profile of program execution obtained by measuring the time spent in individual methods (excluding the time spent in callees), as well as by counting the number of times each method is called.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89D0C25-B437-454E-8CBE-36B8007CF1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PU samples</a:t>
            </a:r>
            <a:endParaRPr b="0" lang="en-US" sz="4000" spc="-1" strike="noStrike">
              <a:solidFill>
                <a:srgbClr val="000000"/>
              </a:solidFill>
              <a:latin typeface="Verdana"/>
            </a:endParaRPr>
          </a:p>
        </p:txBody>
      </p:sp>
      <p:sp>
        <p:nvSpPr>
          <p:cNvPr id="16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ed at the bottom of the file</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s the same method multiple times if the traces are different</a:t>
            </a: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ace" number references traces that are described in detail in the trace section</a:t>
            </a:r>
            <a:endParaRPr b="0" lang="en-US" sz="24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CPU SAMPLES BEGIN (total = 3170) Mon Nov 22 09:10:30 200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rank   self  accum   count trace method</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1  2.15%  2.15%      68   241 java.io.FileInputStream.readBytes</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2  1.77%  3.91%      56  1772 java.util.AbstractList.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3  1.17%  5.08%      37  3829 edu.stanford.nlp.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lexparser.ExhaustivePCFG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initializeChar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4  1.10%  6.18%      35  1636 java.util.AbstractList.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5  0.91%  7.10%      29  1915 java.lang.String.substring</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   </a:t>
            </a:r>
            <a:r>
              <a:rPr b="1" lang="en-US" sz="1200" spc="-1" strike="noStrike">
                <a:solidFill>
                  <a:srgbClr val="808080"/>
                </a:solidFill>
                <a:latin typeface="Courier New"/>
              </a:rPr>
              <a:t>6  0.82%  7.92%      26  2076 java.lang.String.</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Courier New"/>
              </a:rPr>
              <a:t>CPU SAMPLES END</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96A7DF43-9E8A-4DE5-A2BA-ECDB7D7B06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ack traces</a:t>
            </a:r>
            <a:endParaRPr b="0" lang="en-US" sz="4000" spc="-1" strike="noStrike">
              <a:solidFill>
                <a:srgbClr val="000000"/>
              </a:solidFill>
              <a:latin typeface="Verdana"/>
            </a:endParaRPr>
          </a:p>
        </p:txBody>
      </p:sp>
      <p:sp>
        <p:nvSpPr>
          <p:cNvPr id="16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TRACE 16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iterator(AbstractList.java:3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hashCode(AbstractList.java:62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hash(HashMap.java:261)</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put(HashMap.java:379)</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incrementCount(Counter.java:199)</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incrementCount(Counter.java:220)</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TRACE 1772:</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iterator(AbstractList.java:33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AbstractList.hashCode(AbstractList.java:626)</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hash(HashMap.java:261)</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java.util.HashMap.get(HashMap.java:317)</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getCount(Counter.java:11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edu.stanford.nlp.util.Counter.totalCount(Counter.java:75)</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12234D15-F747-4D1A-AA8D-AC7CF95F5A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eap sites</a:t>
            </a:r>
            <a:endParaRPr b="0" lang="en-US" sz="4000" spc="-1" strike="noStrike">
              <a:solidFill>
                <a:srgbClr val="000000"/>
              </a:solidFill>
              <a:latin typeface="Verdana"/>
            </a:endParaRPr>
          </a:p>
        </p:txBody>
      </p:sp>
      <p:sp>
        <p:nvSpPr>
          <p:cNvPr id="16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y limited information: how much space allocated for objects of each class, at what stack trace</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SITES BEGIN (ordered by live bytes) Mon Nov 22 09:10:30 2004</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percent         live       alloc'ed  stack class</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rank   self  accum    bytes objs   bytes objs trace name</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1 20.70% 20.70%  4105296 1326 4105296 1326  3815 [F</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2  1.63% 22.33%   322560 2016  322560 2016  3829 edu.stanford.nlp.parse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lexparser.IntTaggedWord</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3  1.32% 23.65%   261576 1458 1555336 9200    92 [C</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4  1.22% 24.87%   242080  890  902768 3319  3153 java.lang.Objec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5  1.12% 25.99%   221520 2769  566320 7079  2885 java.util.HashMap$Entry</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6  1.03% 27.02%   205120 6410  667520 2086  3208 java.util.HashMap$KeyIterator</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    </a:t>
            </a:r>
            <a:r>
              <a:rPr b="1" lang="en-US" sz="1200" spc="-1" strike="noStrike">
                <a:solidFill>
                  <a:srgbClr val="666666"/>
                </a:solidFill>
                <a:latin typeface="Courier New"/>
              </a:rPr>
              <a:t>7  0.93% 27.96%   184960 2312  369920 4624  1261 [C</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a:t>
            </a:r>
            <a:endParaRPr b="0" lang="en-US" sz="12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Courier New"/>
              </a:rPr>
              <a:t>SITES END</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7AAC4F84-D87E-4DB9-9C7C-C80C100671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isualization tools</a:t>
            </a:r>
            <a:endParaRPr b="0" lang="en-US" sz="4000" spc="-1" strike="noStrike">
              <a:solidFill>
                <a:srgbClr val="000000"/>
              </a:solidFill>
              <a:latin typeface="Verdana"/>
            </a:endParaRPr>
          </a:p>
        </p:txBody>
      </p:sp>
      <p:sp>
        <p:nvSpPr>
          <p:cNvPr id="16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sampl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to see the traces to modify cod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to read - far from the traces in the fi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P's </a:t>
            </a:r>
            <a:r>
              <a:rPr b="0" i="1" lang="en-US" sz="2000" spc="-1" strike="noStrike">
                <a:solidFill>
                  <a:srgbClr val="000000"/>
                </a:solidFill>
                <a:latin typeface="Verdana"/>
              </a:rPr>
              <a:t>HPjmeter</a:t>
            </a:r>
            <a:r>
              <a:rPr b="0" lang="en-US" sz="2000" spc="-1" strike="noStrike">
                <a:solidFill>
                  <a:srgbClr val="000000"/>
                </a:solidFill>
                <a:latin typeface="Verdana"/>
              </a:rPr>
              <a:t> analyzes java.hprof.txt visually</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http://www.hp.com/products1/unix/java/hpjmeter/</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other good tool called </a:t>
            </a:r>
            <a:r>
              <a:rPr b="0" i="1" lang="en-US" sz="2000" spc="-1" strike="noStrike">
                <a:solidFill>
                  <a:srgbClr val="000000"/>
                </a:solidFill>
                <a:latin typeface="Verdana"/>
              </a:rPr>
              <a:t>PerfAnal</a:t>
            </a:r>
            <a:r>
              <a:rPr b="0" lang="en-US" sz="2000" spc="-1" strike="noStrike">
                <a:solidFill>
                  <a:srgbClr val="000000"/>
                </a:solidFill>
                <a:latin typeface="Verdana"/>
              </a:rPr>
              <a:t> builds and navigates the invocation tre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p dump </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to see what objects are there, and who points to the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hard to navigate in a text fil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HPjmeter or </a:t>
            </a:r>
            <a:r>
              <a:rPr b="0" i="1" lang="en-US" sz="2000" spc="-1" strike="noStrike">
                <a:solidFill>
                  <a:srgbClr val="000000"/>
                </a:solidFill>
                <a:latin typeface="Verdana"/>
              </a:rPr>
              <a:t>HAT</a:t>
            </a:r>
            <a:r>
              <a:rPr b="0" lang="en-US" sz="2000" spc="-1" strike="noStrike">
                <a:solidFill>
                  <a:srgbClr val="000000"/>
                </a:solidFill>
                <a:latin typeface="Verdana"/>
              </a:rPr>
              <a:t> navigate heap object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s://hat.dev.java.ne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427E69D-E4E9-43D0-B586-907B5AF43D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Pjmeter</a:t>
            </a:r>
            <a:endParaRPr b="0" lang="en-US" sz="4000" spc="-1" strike="noStrike">
              <a:solidFill>
                <a:srgbClr val="000000"/>
              </a:solidFill>
              <a:latin typeface="Verdana"/>
            </a:endParaRPr>
          </a:p>
        </p:txBody>
      </p:sp>
      <p:sp>
        <p:nvSpPr>
          <p:cNvPr id="17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ful tool for analyzing java.hprof.txt</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display heap (memory/objects) data, </a:t>
            </a:r>
            <a:br>
              <a:rPr sz="2400"/>
            </a:br>
            <a:r>
              <a:rPr b="0" lang="en-US" sz="2400" spc="-1" strike="noStrike">
                <a:solidFill>
                  <a:srgbClr val="000000"/>
                </a:solidFill>
                <a:latin typeface="Verdana"/>
              </a:rPr>
              <a:t>CPU samples, call trees</a:t>
            </a:r>
            <a:endParaRPr b="0" lang="en-US" sz="2400" spc="-1" strike="noStrike">
              <a:solidFill>
                <a:srgbClr val="000000"/>
              </a:solidFill>
              <a:latin typeface="Verdana"/>
            </a:endParaRPr>
          </a:p>
        </p:txBody>
      </p:sp>
      <p:pic>
        <p:nvPicPr>
          <p:cNvPr id="172" name="" descr=""/>
          <p:cNvPicPr/>
          <p:nvPr/>
        </p:nvPicPr>
        <p:blipFill>
          <a:blip r:embed="rId1"/>
          <a:stretch/>
        </p:blipFill>
        <p:spPr>
          <a:xfrm>
            <a:off x="3352680" y="2971800"/>
            <a:ext cx="5600880" cy="3551400"/>
          </a:xfrm>
          <a:prstGeom prst="rect">
            <a:avLst/>
          </a:prstGeom>
          <a:ln w="0">
            <a:noFill/>
          </a:ln>
        </p:spPr>
      </p:pic>
      <p:sp>
        <p:nvSpPr>
          <p:cNvPr id="4" name="PlaceHolder 3"/>
          <p:cNvSpPr>
            <a:spLocks noGrp="1"/>
          </p:cNvSpPr>
          <p:nvPr>
            <p:ph type="sldNum" idx="1"/>
          </p:nvPr>
        </p:nvSpPr>
        <p:spPr/>
        <p:txBody>
          <a:bodyPr/>
          <a:p>
            <a:fld id="{710A74F8-BFCB-4886-9867-1D592C6DEF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rfAnal</a:t>
            </a:r>
            <a:endParaRPr b="0" lang="en-US" sz="4000" spc="-1" strike="noStrike">
              <a:solidFill>
                <a:srgbClr val="000000"/>
              </a:solidFill>
              <a:latin typeface="Verdana"/>
            </a:endParaRPr>
          </a:p>
        </p:txBody>
      </p:sp>
      <p:sp>
        <p:nvSpPr>
          <p:cNvPr id="17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you navigate the information contained in </a:t>
            </a:r>
            <a:r>
              <a:rPr b="0" lang="en-US" sz="2400" spc="-1" strike="noStrike">
                <a:solidFill>
                  <a:srgbClr val="000000"/>
                </a:solidFill>
                <a:latin typeface="Courier New"/>
              </a:rPr>
              <a:t>java.hprof.txt</a:t>
            </a:r>
            <a:r>
              <a:rPr b="0" lang="en-US" sz="2400" spc="-1" strike="noStrike">
                <a:solidFill>
                  <a:srgbClr val="000000"/>
                </a:solidFill>
                <a:latin typeface="Verdana"/>
              </a:rPr>
              <a:t> fil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4 view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call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calle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inclusive by line numb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exclusiv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s some thread stuff</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use:</a:t>
            </a:r>
            <a:endParaRPr b="0" lang="en-US" sz="2400" spc="-1" strike="noStrike">
              <a:solidFill>
                <a:srgbClr val="000000"/>
              </a:solidFill>
              <a:latin typeface="Verdana"/>
            </a:endParaRPr>
          </a:p>
          <a:p>
            <a:pPr lvl="1" marL="743040" indent="-285840">
              <a:spcBef>
                <a:spcPts val="45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wnload </a:t>
            </a:r>
            <a:r>
              <a:rPr b="0" lang="en-US" sz="1800" spc="-1" strike="noStrike">
                <a:solidFill>
                  <a:srgbClr val="000000"/>
                </a:solidFill>
                <a:latin typeface="Courier New"/>
              </a:rPr>
              <a:t>PerfAnal.jar</a:t>
            </a:r>
            <a:r>
              <a:rPr b="0" lang="en-US" sz="1800" spc="-1" strike="noStrike">
                <a:solidFill>
                  <a:srgbClr val="000000"/>
                </a:solidFill>
                <a:latin typeface="Verdana"/>
              </a:rPr>
              <a:t>, put in same folder as your program</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Courier New"/>
              </a:rPr>
              <a:t>java -jar PerfAnal.jar ./java.hprof.txt</a:t>
            </a:r>
            <a:endParaRPr b="0" lang="en-US" sz="1600" spc="-1" strike="noStrike">
              <a:solidFill>
                <a:srgbClr val="000000"/>
              </a:solidFill>
              <a:latin typeface="Verdana"/>
            </a:endParaRPr>
          </a:p>
        </p:txBody>
      </p:sp>
      <p:pic>
        <p:nvPicPr>
          <p:cNvPr id="175" name="figure1" descr=""/>
          <p:cNvPicPr/>
          <p:nvPr/>
        </p:nvPicPr>
        <p:blipFill>
          <a:blip r:embed="rId1"/>
          <a:srcRect l="0" t="0" r="45764" b="39020"/>
          <a:stretch/>
        </p:blipFill>
        <p:spPr>
          <a:xfrm>
            <a:off x="5486400" y="1828800"/>
            <a:ext cx="3505320" cy="3200400"/>
          </a:xfrm>
          <a:prstGeom prst="rect">
            <a:avLst/>
          </a:prstGeom>
          <a:ln w="0">
            <a:noFill/>
          </a:ln>
        </p:spPr>
      </p:pic>
      <p:sp>
        <p:nvSpPr>
          <p:cNvPr id="4" name="PlaceHolder 3"/>
          <p:cNvSpPr>
            <a:spLocks noGrp="1"/>
          </p:cNvSpPr>
          <p:nvPr>
            <p:ph type="sldNum" idx="1"/>
          </p:nvPr>
        </p:nvSpPr>
        <p:spPr/>
        <p:txBody>
          <a:bodyPr/>
          <a:p>
            <a:fld id="{3C373F4E-EFED-4DBE-AAF6-FF7A23B6A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PTP</a:t>
            </a:r>
            <a:endParaRPr b="0" lang="en-US" sz="4000" spc="-1" strike="noStrike">
              <a:solidFill>
                <a:srgbClr val="000000"/>
              </a:solidFill>
              <a:latin typeface="Verdana"/>
            </a:endParaRPr>
          </a:p>
        </p:txBody>
      </p:sp>
      <p:sp>
        <p:nvSpPr>
          <p:cNvPr id="17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ree extension to Eclipse for profil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icult to install, but very powerful</a:t>
            </a:r>
            <a:endParaRPr b="0" lang="en-US" sz="2000" spc="-1" strike="noStrike">
              <a:solidFill>
                <a:srgbClr val="000000"/>
              </a:solidFill>
              <a:latin typeface="Verdana"/>
            </a:endParaRPr>
          </a:p>
        </p:txBody>
      </p:sp>
      <p:pic>
        <p:nvPicPr>
          <p:cNvPr id="178" name="" descr=""/>
          <p:cNvPicPr/>
          <p:nvPr/>
        </p:nvPicPr>
        <p:blipFill>
          <a:blip r:embed="rId1"/>
          <a:stretch/>
        </p:blipFill>
        <p:spPr>
          <a:xfrm>
            <a:off x="3489480" y="2209680"/>
            <a:ext cx="5654520" cy="4381560"/>
          </a:xfrm>
          <a:prstGeom prst="rect">
            <a:avLst/>
          </a:prstGeom>
          <a:ln w="0">
            <a:noFill/>
          </a:ln>
        </p:spPr>
      </p:pic>
      <p:sp>
        <p:nvSpPr>
          <p:cNvPr id="4" name="PlaceHolder 3"/>
          <p:cNvSpPr>
            <a:spLocks noGrp="1"/>
          </p:cNvSpPr>
          <p:nvPr>
            <p:ph type="sldNum" idx="1"/>
          </p:nvPr>
        </p:nvSpPr>
        <p:spPr/>
        <p:txBody>
          <a:bodyPr/>
          <a:p>
            <a:fld id="{260B2DB4-0440-4C54-9492-CCAE736D03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filing Web languages</a:t>
            </a:r>
            <a:endParaRPr b="0" lang="en-US" sz="4000" spc="-1" strike="noStrike">
              <a:solidFill>
                <a:srgbClr val="000000"/>
              </a:solidFill>
              <a:latin typeface="Verdana"/>
            </a:endParaRPr>
          </a:p>
        </p:txBody>
      </p:sp>
      <p:sp>
        <p:nvSpPr>
          <p:cNvPr id="18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vascrip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nkman:</a:t>
            </a:r>
            <a:r>
              <a:rPr b="0" lang="en-US" sz="2000" spc="-1" strike="noStrike">
                <a:solidFill>
                  <a:srgbClr val="000000"/>
                </a:solidFill>
                <a:latin typeface="Verdana"/>
              </a:rPr>
              <a:t>	</a:t>
            </a:r>
            <a:r>
              <a:rPr b="0" lang="en-US" sz="2000" spc="-1" strike="noStrike">
                <a:solidFill>
                  <a:srgbClr val="000000"/>
                </a:solidFill>
                <a:latin typeface="Verdana"/>
              </a:rPr>
              <a:t>http://www.mozilla.org/projects/venkma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www.pecl.php.net/package/ap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chmark:</a:t>
            </a:r>
            <a:r>
              <a:rPr b="0" lang="en-US" sz="2000" spc="-1" strike="noStrike">
                <a:solidFill>
                  <a:srgbClr val="000000"/>
                </a:solidFill>
                <a:latin typeface="Verdana"/>
              </a:rPr>
              <a:t>	</a:t>
            </a:r>
            <a:r>
              <a:rPr b="0" lang="en-US" sz="2000" spc="-1" strike="noStrike">
                <a:solidFill>
                  <a:srgbClr val="000000"/>
                </a:solidFill>
                <a:latin typeface="Verdana"/>
              </a:rPr>
              <a:t>http://pear.php.net/benchmar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B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dd.cron.ru/db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debu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xdebug.derickrethans.n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by on Rail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by-prof:</a:t>
            </a:r>
            <a:r>
              <a:rPr b="0" lang="en-US" sz="2000" spc="-1" strike="noStrike">
                <a:solidFill>
                  <a:srgbClr val="000000"/>
                </a:solidFill>
                <a:latin typeface="Verdana"/>
              </a:rPr>
              <a:t>	</a:t>
            </a:r>
            <a:r>
              <a:rPr b="0" lang="en-US" sz="2000" spc="-1" strike="noStrike">
                <a:solidFill>
                  <a:srgbClr val="000000"/>
                </a:solidFill>
                <a:latin typeface="Verdana"/>
              </a:rPr>
              <a:t>http://ruby-prof.rubyforge.org/</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S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Link:</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ttp://sourceforge.net/projects/xlink/</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3376A76-7836-493E-AEC7-E4BB0357FA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Fibonacci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rint the first 10000 Fibonacci numbe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10000; i++)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b(" + i + ") is " + fib(i));</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re: n &gt;=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long fib(int n)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 &lt;= 2)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ib(n - 2) + fib(n - 1);</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F4A01FE-E120-41FE-81A4-EBA3125A90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rnings</a:t>
            </a:r>
            <a:endParaRPr b="0" lang="en-US" sz="4000" spc="-1" strike="noStrike">
              <a:solidFill>
                <a:srgbClr val="000000"/>
              </a:solidFill>
              <a:latin typeface="Verdana"/>
            </a:endParaRPr>
          </a:p>
        </p:txBody>
      </p:sp>
      <p:sp>
        <p:nvSpPr>
          <p:cNvPr id="18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profiling really slows down your code!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 your profiling tests to be very shor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 Samples is better than CPU Tim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U samples don't measure everything</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n't record object creation and garbage collection time, which can be significa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put files are very large, especially if there is a heap dump</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727DB3A-8C2D-4574-ADFC-F16A37471F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to do with profiler results</a:t>
            </a:r>
            <a:endParaRPr b="0" lang="en-US" sz="3600" spc="-1" strike="noStrike">
              <a:solidFill>
                <a:srgbClr val="000000"/>
              </a:solidFill>
              <a:latin typeface="Verdana"/>
            </a:endParaRPr>
          </a:p>
        </p:txBody>
      </p:sp>
      <p:sp>
        <p:nvSpPr>
          <p:cNvPr id="18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e which methods are being called the mos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may not necessarily be the "slowest" methods!</a:t>
            </a: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e which methods are taking the most time relative to the other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inefficient unbuffered I/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poor choice of data structur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recursion call overhead</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problem: unnecessary re-computation of expensive information, or unnecessary multiple I/O of same dat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7E3C58A-31FB-41EA-A770-307928A808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to do after optimization</a:t>
            </a:r>
            <a:endParaRPr b="0" lang="en-US" sz="4000" spc="-1" strike="noStrike">
              <a:solidFill>
                <a:srgbClr val="000000"/>
              </a:solidFill>
              <a:latin typeface="Verdana"/>
            </a:endParaRPr>
          </a:p>
        </p:txBody>
      </p:sp>
      <p:sp>
        <p:nvSpPr>
          <p:cNvPr id="18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times performance bottlenecks exist in Sun's Java APIs, not in your code.  What to do?</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all about the user experience.</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r slow code is GUI-related, add some display that informs the user that work is actually happening (progress bars, hourglass).</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you use a different call, another algorithm or component?</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be reduce the frequency of calls to a method</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you using the framework / API effectivel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D3115DA-04B2-49FB-8421-E4CF5E5CC6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s wrong with this code?</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 set of words in our gam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WordDictionary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List&lt;String&gt; words = new ArrayList&lt;String&g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void add(String word)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ords.add(word.toLowerCas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boolean contains(String word)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words.contains(word.toLowerCas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C880E1E2-FBCD-4584-927F-4CAADC4BE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e performance questions</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 you choose the right data structur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using the right sorting algorithm?</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your recursive method TOO recursive?</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throwing away a computation that could prove useful later?</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you creating too many objects unnecessarily or otherwise wasting memor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E41D9B9-7A1D-4D83-ABB7-744D7A900C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ptimization metrics</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time / CPU usag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lines of code the program is spending the most time i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call/invocation paths were used to get to these lines</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urally represented as tree structures</a:t>
            </a:r>
            <a:endParaRPr b="0" lang="en-US" sz="1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mory usag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kinds of objects are sitting on the heap</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ere they allocat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is pointing to them now</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mory leaks" (does Java have the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D357597-7E5A-4A2E-BC44-C0A23F1B1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s memory model</a:t>
            </a:r>
            <a:endParaRPr b="0" lang="en-US" sz="4000" spc="-1" strike="noStrike">
              <a:solidFill>
                <a:srgbClr val="000000"/>
              </a:solidFill>
              <a:latin typeface="Verdana"/>
            </a:endParaRPr>
          </a:p>
        </p:txBody>
      </p:sp>
      <p:graphicFrame>
        <p:nvGraphicFramePr>
          <p:cNvPr id="113" name=""/>
          <p:cNvGraphicFramePr/>
          <p:nvPr/>
        </p:nvGraphicFramePr>
        <p:xfrm>
          <a:off x="228600" y="1447920"/>
          <a:ext cx="8610480" cy="5176800"/>
        </p:xfrm>
        <a:graphic>
          <a:graphicData uri="http://schemas.openxmlformats.org/presentationml/2006/ole">
            <p:oleObj r:id="rId1" spid="">
              <p:embed/>
              <p:pic>
                <p:nvPicPr>
                  <p:cNvPr id="114" name="" descr=""/>
                  <p:cNvPicPr/>
                  <p:nvPr/>
                </p:nvPicPr>
                <p:blipFill>
                  <a:blip r:embed="rId2"/>
                  <a:stretch/>
                </p:blipFill>
                <p:spPr>
                  <a:xfrm>
                    <a:off x="228600" y="1447920"/>
                    <a:ext cx="8610480" cy="5176800"/>
                  </a:xfrm>
                  <a:prstGeom prst="rect">
                    <a:avLst/>
                  </a:prstGeom>
                  <a:ln w="0">
                    <a:noFill/>
                  </a:ln>
                </p:spPr>
              </p:pic>
            </p:oleObj>
          </a:graphicData>
        </a:graphic>
      </p:graphicFrame>
      <p:sp>
        <p:nvSpPr>
          <p:cNvPr id="3" name="PlaceHolder 2"/>
          <p:cNvSpPr>
            <a:spLocks noGrp="1"/>
          </p:cNvSpPr>
          <p:nvPr>
            <p:ph type="sldNum" idx="1"/>
          </p:nvPr>
        </p:nvSpPr>
        <p:spPr/>
        <p:txBody>
          <a:bodyPr/>
          <a:p>
            <a:fld id="{CBFE924D-10E9-485B-956C-001432D83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ava's memory model 2</a:t>
            </a:r>
            <a:endParaRPr b="0" lang="en-US" sz="4000" spc="-1" strike="noStrike">
              <a:solidFill>
                <a:srgbClr val="000000"/>
              </a:solidFill>
              <a:latin typeface="Verdana"/>
            </a:endParaRPr>
          </a:p>
        </p:txBody>
      </p:sp>
      <p:graphicFrame>
        <p:nvGraphicFramePr>
          <p:cNvPr id="116" name=""/>
          <p:cNvGraphicFramePr/>
          <p:nvPr/>
        </p:nvGraphicFramePr>
        <p:xfrm>
          <a:off x="304920" y="1447920"/>
          <a:ext cx="8458200" cy="5359320"/>
        </p:xfrm>
        <a:graphic>
          <a:graphicData uri="http://schemas.openxmlformats.org/presentationml/2006/ole">
            <p:oleObj r:id="rId1" spid="">
              <p:embed/>
              <p:pic>
                <p:nvPicPr>
                  <p:cNvPr id="117" name="" descr=""/>
                  <p:cNvPicPr/>
                  <p:nvPr/>
                </p:nvPicPr>
                <p:blipFill>
                  <a:blip r:embed="rId2"/>
                  <a:stretch/>
                </p:blipFill>
                <p:spPr>
                  <a:xfrm>
                    <a:off x="304920" y="1447920"/>
                    <a:ext cx="8458200" cy="5359320"/>
                  </a:xfrm>
                  <a:prstGeom prst="rect">
                    <a:avLst/>
                  </a:prstGeom>
                  <a:ln w="0">
                    <a:noFill/>
                  </a:ln>
                </p:spPr>
              </p:pic>
            </p:oleObj>
          </a:graphicData>
        </a:graphic>
      </p:graphicFrame>
      <p:sp>
        <p:nvSpPr>
          <p:cNvPr id="3" name="PlaceHolder 2"/>
          <p:cNvSpPr>
            <a:spLocks noGrp="1"/>
          </p:cNvSpPr>
          <p:nvPr>
            <p:ph type="sldNum" idx="1"/>
          </p:nvPr>
        </p:nvSpPr>
        <p:spPr/>
        <p:txBody>
          <a:bodyPr/>
          <a:p>
            <a:fld id="{78519118-B372-4B5D-9104-98330ACED0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rbage collection</a:t>
            </a:r>
            <a:endParaRPr b="0" lang="en-US" sz="4000" spc="-1" strike="noStrike">
              <a:solidFill>
                <a:srgbClr val="000000"/>
              </a:solidFill>
              <a:latin typeface="Verdana"/>
            </a:endParaRPr>
          </a:p>
        </p:txBody>
      </p:sp>
      <p:sp>
        <p:nvSpPr>
          <p:cNvPr id="11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mory manager that reclaims objects that are not reachable from a root-se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ot set</a:t>
            </a:r>
            <a:r>
              <a:rPr b="0" lang="en-US" sz="2400" spc="-1" strike="noStrike">
                <a:solidFill>
                  <a:srgbClr val="000000"/>
                </a:solidFill>
                <a:latin typeface="Verdana"/>
              </a:rPr>
              <a:t>: all objects with an immediate referenc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eference variables in each frame of every thread's stac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tatic reference fields in all loaded class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NI references to Java objects stored in the C heap</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5D03294-1D41-4B2C-AB77-067E1F7F0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3-01T19:09:18Z</dcterms:modified>
  <cp:revision>1325</cp:revision>
  <dc:subject/>
  <dc:title>CSE 403 Slides</dc:title>
</cp:coreProperties>
</file>