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DE50-B7A6-479A-8365-DE512E229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03C3-C9BB-4155-969B-E2BF16985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D0FB-7F62-4F85-AC4D-BE8CC1185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B2E6-9CD4-4FF8-9860-0200C9C86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98816-EA4E-4956-B866-8BE78A32F7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6097-489F-4AB9-BFCC-C366F47332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A3B4-4EB0-41A8-B8C3-19EEEFE2BB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0BCB-C79B-4A4C-B160-F8F1DB1FE5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56E4D-CBCE-4B8E-BCF5-8BCB1D7CC0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D04A6-F908-4D02-A772-2A420671A7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FB47-EC54-4B93-8E4A-0B893CDC4F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E0C4-73E5-4B86-A53F-9E3C8A6B2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F3A09-2C5C-4098-ABBE-77C6A050E7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8D377-BAA6-4B7B-9D2C-2AE6E73F92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B2D65-625E-48A1-9E35-BF2740D767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DB8A9-E0FF-485D-BB4A-539DCB1527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2010B-61C9-4CF7-B8EC-6B6E4107A7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A114-8B19-45BA-A25E-B64AFB009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5C77-96BC-4B35-BCD3-546403CCC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7590-3693-4535-9F4E-94589919A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F5E9-058A-4D24-8888-D9E2C4CD7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4A3D-CAE3-41E5-B04A-A789E98AE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4801-D842-41C9-95B9-6357F8F01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2846-D67A-4C7E-8A03-DA03FAB1E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57200" y="3808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3808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1040" y="803160"/>
            <a:ext cx="42228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50760" y="803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680" y="7300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1720" y="2728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1063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0277-12C6-484F-893F-D1A64BE766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0520" y="25462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00" y="25462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391520" y="647712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BB5A-7E9E-417A-ADD1-FE4161401C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43200" y="0"/>
            <a:ext cx="6400800" cy="5032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59800"/>
            <a:ext cx="815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CSE 40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ystem Testing and Test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lecture slides are copyright (C) Marty Stepp, 2007.  They may not be rehosted, sold, or modified without expressed permission from the author. 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4A0B-E890-486F-AF97-EF5E6B34183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sting web applications 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stions to ask when testing web app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expected loads on the server (e.g., hits/time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kind of performance is required under such loads (server response time, database query time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kinds of tools will be needed for performance testing (such as web load testing tools, other tools already in house that can be adapted, web robot downloading tools, etc.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o is the target audience? What kind of browsers will they be using? What kind of connection speeds will they by using? Are they intra- organization (high connection speeds and similar browsers) or Internet-wide (thus with a wide variety of connection speeds and browser types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kind of performance is expected on the client side (e.g., how fast should pages appear, how fast should animations, applets, etc. load and run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down time for server and content maintenance/upgrades be allowed? how muc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kinds of security (firewalls, encryptions, passwords, etc.) will be required and what is it expected to do? How can it be test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16BA-7CB8-4033-921B-AC4161C0BC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sting web applications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reliable are the site's Internet connections required to be? And how does that affect backup system or redundant connection requirements and test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processes will be required to manage updates to the web site's content, and what are the requirements for maintaining, tracking, and controlling page content, graphics, links, etc.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HTML specification will be adhered to? How strictly? What browsers will be allow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there be any standards or requirements for page appearance and/or graphics throughout a site or parts of a si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ill internal and external links be validated and updated? how oft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testing be done on the production system, or will a separate test system be required? How are browser caching, variations in browser option settings, dial-up connection variabilities, and real-world internet 'traffic congestion' problems to be accounted for in test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extensive or customized are the server logging and reporting requirements; are they considered an integral part of the system and do they require test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48C5-5F82-4E0C-8A77-3216FF29AFF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st pla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line how your app will be tested in deta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inform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n.wikipedia.org/wiki/Test_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test plan templa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members.tripod.com/~bazman/testplancontents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sqatester.com/documentation/testplansmpl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coleyconsulting.co.uk/testplan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test plan for linux kerne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ltp.sourceforge.net/25_testplan.ph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ing plans and checklis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members.tripod.com/~bazman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6FFD-68E6-4E11-8489-89FF8E23ED7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ments of a test plan 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cation of software (incl. version/release #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sion history of document (incl. authors, dat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rpose of document, intended aud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ive of testing ef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product over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vant related document list, such as requirements, design documents, other test plan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vant standards or legal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8E7D-2F71-497D-8E43-6E830BC11D7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ments of a test plan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vant naming conventions and identifier conven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all software project organization and personnel/contact-info/responsibil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ganization and personnel/contact-info/responsi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ptions and depend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risk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ing priorities and foc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ope and limitations of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utline - a decomposition of the test approach by test type, feature, functionality, process, system, module, etc. as applic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line of data input equivalence classes, boundary value analysis, error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28C3-F985-445D-91AB-648FC6FFA8E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ments of a test plan 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environment - hardware, operating systems, other required software, data configurations, interfaces to other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environment validity analysis - differences between the test and production systems and their impact on test valid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environment setup and configuration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migration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CM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data setup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base setup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line of system-logging/error-logging/other capabilities, and tools such as screen capture software, that will be used to help describe and report bu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0F04-FCB0-44DA-BFC1-565F79F3C11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ments of a test plan 4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ion of any specialized software or hardware tools that will be used by testers to help track the cause or source of bu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automation - justification and over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tools to be used, including versions, patche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script/test code maintenance processes and vers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tracking and resolution - tools and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test metrics to be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requirements and testing 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entrance and exit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anity testing period and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suspension and restart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3ABF-8B54-4C30-A809-7C1762D81F3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ments of a test plan 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sonnel al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sonnel pre-training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site/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side test organizations to be utilized and their purpose, responsibilties, deliverables, contact persons, and coordination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vant proprietary, classified, security, and licensing issu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ndix - glossary, acronyms, etc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1806-0CB1-4F28-B67A-E2C70FFE2F54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 program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kinds of system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I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/check-in te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ad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ability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ity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profi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nents of a test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3579-1A24-4F67-8DC4-5601CBBEAB2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treme Programm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reme Programming (XP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software development approach for small teams on risk-prone projects with unstable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d by Kent Bec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xtreme Programming Explai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ing is a core aspect of Extreme Programm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rite unit test code first - before writing the application c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eptance tests are preferrably automated, and are modified and rerun for each of the frequent development it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A and test personnel are an integral part of the project tea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ailed requirements documentation is not used; frequent re-scheduling, re-estimating, and re-prioritizing is expec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D62B-C289-4CDC-A022-3CFC8AE3A5A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uild tes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d tests (AKA check-in tes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code is checked in, these tests (often unit tests) are r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s find bug regre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Bo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buildbot.sourceforge.ne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VNAn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subclipse.tigris.org/svnant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ache Harmony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harmony.apache.org/subcomponents/buildtest/index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ome companies roll their own check-in testing system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35EC-F213-4D89-863E-88F1D4BB83E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I testing ("acceptance"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ed UI testing ("automation"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ripts and such that use your app and look for fail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black-box system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niu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openqa.org/selenium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ual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 beings click through predetermined path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 to write down the specific tests each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-hoc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 beings are "turned loose" on the app to see if they can break 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BD85-B872-422A-AE38-112183CF5FA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oad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ad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hits/requests should the system be able to hand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hould be its performance under these circumstanc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Mete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jakarta.apache.org/jmeter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l-loader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sourceforge.net/projects/curl-lo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base Open-source Test Suite (DOTS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ltp.sourceforge.ne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opensourcetesting.org/performance.ph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AF20-847E-43E9-8488-2E18B1998DA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ability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bility testing: making sure the user can successfully utilize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ability stud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 te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web usability guidelines to consid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ges should be 3-5 screens max unless content is tightly focused on a single topic. If larger, provide internal link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age layouts and design elements should be consistent throughout a si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ges should be as browser-independent as possible, or pages should be provided or generated based on the browser-ty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pages should have links external to the page; there should be no dead-end pa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age owner, revision date, and a link to a contact person or organization should be included on each pag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39CC-8A4C-49C9-B9E9-F8D6CEF14A0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sure the site is still up, resources are reachable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Tes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externaltest.com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U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stillup.co.uk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tCom-Monitor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dotcom-monitor.com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et Vist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internetvista.com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softwareqatest.com/qatweb1.html#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27C8-247D-4741-B1DF-8DAD0B1E7AC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eb app compatibility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e that your web app is compatible with various browsers, platform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e that your app's HTML code complies with web stand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e that you have no broken links or other HTML err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3C HTML validator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validator.w3.org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3C link checker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validator.w3.org/checkli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01EB-E530-4CC4-8410-B9CC05FABF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7-02-28T21:23:08Z</dcterms:modified>
  <cp:revision>1315</cp:revision>
  <dc:subject/>
  <dc:title>CSE 403 Slides</dc:title>
</cp:coreProperties>
</file>