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BB60-356C-49F2-8590-7209B9CB0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97E5-E8B9-4B76-BCD0-09E037D35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F46F-7979-4B57-AF0E-9965D1F66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06B6-21E3-4153-8E0C-BA7E377DC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4EDA-D010-4921-BCBF-9B1D008CFC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DA38-EA60-4726-AAFA-B9413FDCF3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DA4A-E6E8-4AFE-AA18-089380C7D0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BC63-F805-4E75-8219-7BB4FC7B53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BA56-4114-4820-92A1-6FA5037E2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253F-DA20-477A-965C-F85A1F56A4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1A53-D6D8-49F7-A77C-9C0811E3F0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61C7-2629-49ED-85D7-C81125296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7834-0C8C-4C89-A1D5-3349DEDCAB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9C05-4A8B-4B21-B318-2F5CC9A0B7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A904-4496-4BE2-9A2A-7D7B15035C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2D6C-8628-4EC0-BD0E-9FC94681FB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E02B-DBD7-4BFF-9EE4-A497A8ADE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7E8E-EC88-4DF5-9634-DE64EC3C7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5999-32CC-4114-8E6D-DC337F150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F408-4BF0-4C71-97A9-95115D6AF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FE1B-D8E6-4B14-A183-172A5E26A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DAEE-D16B-457F-ACD3-AF72258E9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DA95-3A7D-4535-9271-C85ABE017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41E6-7AE3-4A91-9E36-E58ABB016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3E72-F22D-4992-9151-1EB0CF33C5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B65B-B600-47A4-8032-B485D0585A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ystem Testing and Test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CDAC-0B81-4BCD-A4A7-AAF2A07ECB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ing web applications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s to ask when testing web app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expected loads on the server (e.g., hits/time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 of performance is required under such loads (server response time, database query time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s of tools will be needed for performance testing (such as web load testing tools, other tools already in house that can be adapted, web robot downloading tools, etc.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o is the target audience? What kind of browsers will they be using? What kind of connection speeds will they by using? Are they intra- organization (high connection speeds and similar browsers) or Internet-wide (thus with a wide variety of connection speeds and browser type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 of performance is expected on the client side (e.g., how fast should pages appear, how fast should animations, applets, etc. load and run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down time for server and content maintenance/upgrades be allowed? how muc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s of security (firewalls, encryptions, passwords, etc.) will be required and what is it expected to do? How can it be test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6A73-3EDD-4106-9443-8D9712DD09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ing web application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reliable are the site's Internet connections required to be? And how does that affect backup system or redundant connection requirements and tes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processes will be required to manage updates to the web site's content, and what are the requirements for maintaining, tracking, and controlling page content, graphics, links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HTML specification will be adhered to? How strictly? What browsers will be allow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there be any standards or requirements for page appearance and/or graphics throughout a site or parts of a si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ill internal and external links be validated and updated? how oft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testing be done on the production system, or will a separate test system be required? How are browser caching, variations in browser option settings, dial-up connection variabilities, and real-world internet 'traffic congestion' problems to be accounted for in tes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extensive or customized are the server logging and reporting requirements; are they considered an integral part of the system and do they require tes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0B6F-7F8E-46FF-9B11-7A23C5D6A2E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 pla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 how your app will be tested in det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n.wikipedia.org/wiki/Test_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test plan templa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members.tripod.com/~bazman/testplancontents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sqatester.com/documentation/testplansmpl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coleyconsulting.co.uk/testplan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test plan for linux kern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ltp.sourceforge.net/25_testplan.ph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ing plans and checklis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members.tripod.com/~bazman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4DFA-1185-41BA-8C05-8E66CC4F56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of software (incl. version/release #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sion history of document (incl. authors, dat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pose of document, intended aud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ve of testing ef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product 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ant related document list, such as requirements, design documents, other test plan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ant standards or legal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E52F-6803-4EA8-9B68-C0A5B4CBEBF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ant naming conventions and identifier conven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all software project organization and personnel/contact-info/responsibil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ganization and personnel/contact-info/respons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ptions and depend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risk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ing priorities and foc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ope and limitations of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utline - a decomposition of the test approach by test type, feature, functionality, process, system, module, etc. as applic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 of data input equivalence classes, boundary value analysis, error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FABA-0488-4CA6-A186-A7814845EBC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environment - hardware, operating systems, other required software, data configurations, interfaces to other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environment validity analysis - differences between the test and production systems and their impact on test valid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environment setup and configuration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migration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CM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data setup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base setup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 of system-logging/error-logging/other capabilities, and tools such as screen capture software, that will be used to help describe and report b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8B03-9E18-46E3-B032-4B71F7EBCD7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ion of any specialized software or hardware tools that will be used by testers to help track the cause or source of b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automation - justification and 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tools to be used, including versions, patche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script/test code maintenance processes and vers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tracking and resolution - tools and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test metrics to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requirements and testing 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entrance and exit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anity testing period and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suspension and restart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6D37-5B80-4277-BE31-FBC7B0B8F99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nel al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nel pre-training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site/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side test organizations to be utilized and their purpose, responsibilties, deliverables, contact persons, and coordination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ant proprietary, classified, security, and licensing iss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ix - glossary, acronyms, et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F5EC-7F81-4A30-B7B7-1EA38C47B915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 progr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kinds of system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I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/check-in t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ad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ability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profi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nents of a tes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3300-6F08-4EE0-80D4-4E1884CE9B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treme Programm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reme Programming (XP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oftware development approach for small teams on risk-prone projects with unstable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d by Kent Bec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xtreme Programming Expla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ing is a core aspect of Extreme Program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 unit test code first - before writing the application 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ptance tests are preferrably automated, and are modified and rerun for each of the frequent development it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A and test personnel are an integral part of the project tea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ed requirements documentation is not used; frequent re-scheduling, re-estimating, and re-prioritizing is expe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4A2F-5EC6-4775-BD5B-ED9BDA04B0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tes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 tests (AKA check-in tes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code is checked in, these tests (often unit tests) are r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find bug regre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Bo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buildbot.sourceforge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VNAn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subclipse.tigris.org/svnant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ache Harmony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harmony.apache.org/subcomponents/buildtest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ome companies roll their own check-in testing syst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4B30-BB99-4FD8-91AD-A71388D5BC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testing ("acceptance"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ed UI testing ("automation"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ipts and such that use your app and look for fail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black-box system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openqa.org/seleniu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ual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beings click through predetermined pa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to write down the specific tests each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-hoc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beings are "turned loose" on the app to see if they can break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EE5D-4A9B-43AB-9098-17BFE128C6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ad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ad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hits/requests should the system be able to hand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be its performance under these circumstanc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Mete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jakarta.apache.org/jmeter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l-loader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sourceforge.net/projects/curl-lo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base Open-source Test Suite (DOT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ltp.sourceforge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opensourcetesting.org/performance.ph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217E-B39F-4116-A9BA-32E7176056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ability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 testing: making sure the user can successfully utilize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ability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t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web usability guidelines to consid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ges should be 3-5 screens max unless content is tightly focused on a single topic. If larger, provide internal lin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ge layouts and design elements should be consistent throughout a s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ges should be as browser-independent as possible, or pages should be provided or generated based on the browser-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pages should have links external to the page; there should be no dead-end pa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ge owner, revision date, and a link to a contact person or organization should be included on each pag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1F92-1FF9-4938-AAD4-1586BEADC9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sure the site is still up, resources are reachable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Tes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externaltest.co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U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stillup.co.uk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tCom-Monitor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dotcom-monitor.co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et Vist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internetvista.co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softwareqatest.com/qatweb1.html#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C69D-0B77-40E4-9B98-6DD781294B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eb app compatibility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your web app is compatible with various browsers, platform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your app's HTML code complies with web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you have no broken links or other HTML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3C HTML validator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validator.w3.org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3C link checker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validator.w3.org/checkl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6ECA-A2C5-4E05-9527-68B5138B3F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2-28T21:23:08Z</dcterms:modified>
  <cp:revision>1315</cp:revision>
  <dc:subject/>
  <dc:title>CSE 403 Slides</dc:title>
</cp:coreProperties>
</file>