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5DAB-8B96-4B2D-A8F9-B5E18E13A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test case example: Microsoft Web Exc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C5712-91CE-4618-951E-C52B34DA39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446C3-F2B3-4353-BD10-DB0FDDB406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4D0E8-AEDF-4ACB-A4A9-EF8093E166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52D82-8E9A-4AB0-8C85-BF84EFFC31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5F35D-752E-4ABA-AFCE-144AA4F435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6868E-1AEE-4D84-8FE7-CE7C53A4E7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53B58-6D9D-4063-A7D5-54266FABB1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68601-9C66-4E2D-9A7E-25C7B34471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CFB89-FB57-4CEC-AE5F-D4ADBF32EF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42640" y="151920"/>
            <a:ext cx="78008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3C304-8082-47FD-A44D-8F85787D40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99FF9-616D-4BE4-BB34-906A05C2A2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DBE53-9AE7-468B-B31D-7D4EC23865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3C5CC-C520-4D99-961C-FBA764222F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36C08-6F64-45BF-B3BD-42077FBA84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23ABE-79A7-4F30-9D8E-B85690527D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0D938-CF20-4457-82FC-125547274F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70E90-58AA-4CA9-9C44-686985A2F6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3F633-17E1-47A4-A5C7-7D74897A4E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4CCB8-5051-42E8-B94C-12ED63F2E1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6CD49-7653-4D3C-9D02-832A130E15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151920"/>
            <a:ext cx="78008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F5EAE-F68A-49FE-B7E8-577D21949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36874-F719-41D5-86F9-6DA7B12393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F97ED-224F-49DB-8D3B-AFF77A1388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FFFC9-D15A-4711-8D2C-F80FEE7A13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154320" y="0"/>
            <a:ext cx="598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57200" y="38088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9880" y="38088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81040" y="803160"/>
            <a:ext cx="42228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50760" y="80316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6680" y="730080"/>
            <a:ext cx="560520" cy="422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1720" y="2728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2760" y="10638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777240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3576-564F-416E-B728-79B30422E9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3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54320" y="0"/>
            <a:ext cx="59896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90520" y="254628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3200" y="254628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Num" idx="2"/>
          </p:nvPr>
        </p:nvSpPr>
        <p:spPr>
          <a:xfrm>
            <a:off x="7391520" y="6477120"/>
            <a:ext cx="1752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7432-D92A-414F-860A-06C80062BA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743200" cy="503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743200" y="0"/>
            <a:ext cx="6400800" cy="50328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0" y="533520"/>
            <a:ext cx="990720" cy="990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c0c0c0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2359800"/>
            <a:ext cx="8153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CSE 403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0" y="3504960"/>
            <a:ext cx="9144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ading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bject-Oriented Software Engineering, Ch. 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. Bruegge, A. Duto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0199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lecture slides are copyright (C) Marty Stepp, 2007.  They may not be rehosted, sold, or modified without expressed permission from the author. 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32BC7-B795-4C7A-B06B-5E96451BB31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sting exercise 1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all the list of tests we discussed to determine whether a Scrabble move is lega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e all tiles in a straight lin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e the tiles contiguous or separated only by existing old til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e the tiles touching an existing old til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each of the words mad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at is the score of this word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s this word in the dictionary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estion: What is/are some suitable Scrabble test board configuration(s) and moves that check each of these condition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both passing and failing tes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85802-D065-40F4-B76D-4503A61A39B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sting exercise 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agine that we have a Date class with working methods called isLeapYear(year) and daysInMonth(month, year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stion: What is the pseudo-code for the algorithm for an addDays(days) method that moves the current Date object forward in time by the given number of days.  A negative value moves the Date backward in ti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stion: Come up with a set of test values for your addDays method to test its correct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F0C80-685C-45B2-AC9D-98A55F672FC0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lack and white box test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difference between "black-box" and "white-box" testing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743200"/>
            <a:ext cx="9144000" cy="42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lack-box te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ocuses on input/output of each com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te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ocuses on internal states of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116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s internal knowledge of the component to craft inpu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116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: knowing that the internal data structure for a spreadsheet program uses 256 rows and columns, choose a test case that tests 255 or 257 to test near that bound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3F657-7BE5-468B-B58D-A1F941A10FE7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nit test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it test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ooks for errors in individual objects or subsystems in iso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nefits of isolating one object/componen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. reduces number of things to t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. easier to find faults when error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. can test all components in parall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principle, test all objects; because of time, test important ones involved in use c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559C7-B28F-4226-BD35-D3BD0D2AA85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quivalence test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equivalence testing?  Is it black or white box?  How do we choose good input for equivalence test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286000"/>
            <a:ext cx="9144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quivalence test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116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lack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ox test that minimizes # of test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11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1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s in equivalence tes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116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classes of inputs with same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116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est on one member of each equivalenc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116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 behavior will be same for all members of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11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1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iteria for selecting equivalence clas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116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verage: every input is in on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116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jointedness: no input in more than on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116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ation: if error occurs with one member of class, it will occur with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2BB16-2AAA-4178-8FA5-194BF45BF5CF}" type="slidenum">
              <a:t>4</a:t>
            </a:fld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oundary test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oundary test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testing conditions on bounds between equivalence cla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this black or white box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agine we are testing a Date class with a getDaysInMonth(month, year) method.  What are some important conditions and good boundary tests for this metho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572000"/>
            <a:ext cx="9144000" cy="24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oundary testing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lack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ide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 for leap years (every 4th yr, no 100s, yes 400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y years such as: even 100s, 101s, 4s, 5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y months such as: june, july, feb, invalid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AF983-1A2C-4BEC-861D-CA136093F1E3}" type="slidenum">
              <a:t>5</a:t>
            </a:fld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ath test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th test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n attempt to use test input that will pass once over each path in the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this black or white box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would constitute path testing for getDaysInMonth(month, year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962520"/>
            <a:ext cx="9144000" cy="25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th testing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ide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 input: year &lt; 1, month &lt; 1, month &gt;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e month from [1, 3, 5, 7, 10, 1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e month from [4, 6, 9, 1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nth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116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leap year, not in a leap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B5022-CBD8-44D3-8D29-307532867933}" type="slidenum">
              <a:t>6</a:t>
            </a:fld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ypes of integration test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ig ba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no stubs; do unit testing, then throw all parts toge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ottom-u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integrate upward into double, triple, quadruple t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test top layer (UI) first, then add layers to replace underlying stub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re some pros and cons of each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876920"/>
            <a:ext cx="914400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1774800"/>
                <a:tab algn="l" pos="548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ig bang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+ fa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- can be costly, error-pr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1774800"/>
                <a:tab algn="l" pos="548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-up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+ fewer stubs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- tests UI last; UI is importan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1774800"/>
                <a:tab algn="l" pos="548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-down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+ focuses on user experie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- needs many st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1A526-B43B-4860-871C-5D860EF12791}" type="slidenum">
              <a:t>7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sandwich!!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andwic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tegration testing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U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a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major subsystem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ground lay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 top-down and bottom-up testing at same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ght miss bugs in middle "target" lay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ified sandwic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test each layer individually, then do the sandwi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0" t="0" r="1950" b="0"/>
          <a:stretch/>
        </p:blipFill>
        <p:spPr>
          <a:xfrm>
            <a:off x="6477120" y="1295280"/>
            <a:ext cx="2516040" cy="170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20FEB-E0AF-423A-A9C1-A461B6D3CC1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ypes of system test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al [/requirements] testing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lack-box run through each use case (hit ones most likely to fai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ance testing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ify non-functional performance require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ress testing: tests response to many simultaneous reques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olume testing: tests response to lots of input d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urity tes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lot testing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stall and use system by set of us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ability testing: observe user behavior to learn about product desig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pha: features are still in develop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a: feature-complete, trying to find bu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eptance / installation testing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etitor testing: test against another product/sy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hadow testing: test against older legacy syste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3851C-37F3-4548-93C9-F18C6359E82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Registered User</cp:lastModifiedBy>
  <cp:lastPrinted>2009-04-22T19:24:48Z</cp:lastPrinted>
  <dcterms:modified xsi:type="dcterms:W3CDTF">2007-02-21T21:15:35Z</dcterms:modified>
  <cp:revision>1289</cp:revision>
  <dc:subject/>
  <dc:title>CSE 403 Slides</dc:title>
</cp:coreProperties>
</file>