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CBAC-EBD9-46AE-B71C-DD457D07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test case example: Microsoft Web Exc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CD14-6CEC-4DC1-AEA0-BA099C0EE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409C-5684-4EAC-9F88-2DDB7A39D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9EDD-2561-4E98-81C7-4DC3EAB23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08D3-C6C0-4203-9CC1-5C349980C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B613-42BC-4878-A6A3-F648CC61D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E99D-1A38-405C-B958-E7DD872835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1A5B-37E0-4741-8EA5-D06F37DD69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C1DF-37C5-4C64-A699-09F9074FFB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EC39-80FE-4D93-9F50-60161CBA56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3BEB-8F4D-44A4-8629-879558D7E4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873F-946F-4628-83F3-770B5E250D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2770-CE34-457B-AD21-C7867505E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B70B-8A4F-426F-A84D-96530D4A20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C708-1144-4079-AE81-DFEAF1E8E2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9B66-BF65-42EC-BA6F-BF3A5C011A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8525A-B179-40C1-AC38-B1306883A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A25E-73BF-444D-BB7E-BA73AEEAE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20E9-AE26-4E0E-B383-379C43559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99F9-C143-451E-BE54-DBB7DA02F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956C-4928-46D5-926D-11930684C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83EC-4B5E-4937-9F31-38600E233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6769-D12B-42C3-9B9E-AF9626D2D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A6D6-4915-4768-BD53-D52056B18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783A-71CA-4F9C-9434-E552A89A9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4E02-E6DF-40AC-A4D3-E6B95DE0C7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3C87-0373-44B1-AC4E-5F6E617A1A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-Oriented Software Engineering, Ch.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. Bruegge, A. Duto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570C-A9DD-4B91-8109-6817EEBF66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ing exercise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all the list of tests we discussed to determine whether a Scrabble move is leg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all tiles in a straight lin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 tiles contiguous or separated only by existing old til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 tiles touching an existing old ti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each of the words ma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is the score of this wor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this word in the dictionar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: What is/are some suitable Scrabble test board configuration(s) and moves that check each of these condi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both passing and failing te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15CA-F9DE-432D-88BC-2A8B4F2C27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ting exercise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agine that we have a Date class with working methods called isLeapYear(year) and daysInMonth(month, yea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: What is the pseudo-code for the algorithm for an addDays(days) method that moves the current Date object forward in time by the given number of days.  A negative value moves the Date backward in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: Come up with a set of test values for your addDays method to test its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E771-7626-4146-BEC8-B3F506CBEF7A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lack and white box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difference between "black-box" and "white-box" test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743200"/>
            <a:ext cx="9144000" cy="42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lack-box t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ocuses on input/output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t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ocuses on internal state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s internal knowledge of the component to craft inpu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: knowing that the internal data structure for a spreadsheet program uses 256 rows and columns, choose a test case that tests 255 or 257 to test near that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48F6-C7B8-4870-84FD-3C90937E72BA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t tes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oks for errors in individual objects or subsystems in iso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s of isolating one object/compone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reduces number of things to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easier to find faults when error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can test all components in parall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rinciple, test all objects; because of time, test important ones involved in use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F526-9629-4028-85CF-97B59AE847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quivalence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equivalence testing?  Is it black or white box?  How do we choose good input for equivalence tes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quivalence tes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lack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x test that minimizes # of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s in equivalence tes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classes of inputs with sam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st on one member of each equivalenc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 behavior will be same for all members of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iteria for selecting equivalence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verage: every input is in on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jointedness: no input in more than on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ation: if error occurs with one member of class, it will occur with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513E-4AA1-44AE-9D81-E91377FFFA0E}" type="slidenum">
              <a:t>4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oundary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undary tes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esting conditions on bounds between equivalence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black or white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agine we are testing a Date class with a getDaysInMonth(month, year) method.  What are some important conditions and good boundary tests for this metho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72000"/>
            <a:ext cx="914400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oundary testing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lack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id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for leap years (every 4th yr, no 100s, yes 40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y years such as: even 100s, 101s, 4s, 5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y months such as: june, july, feb, invali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C3A3-9F2F-4BD1-94AF-4DBCFC613035}" type="slidenum">
              <a:t>5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h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th tes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attempt to use test input that will pass once over each path in th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black or white bo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ould constitute path testing for getDaysInMonth(month, year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962520"/>
            <a:ext cx="914400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th testing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id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 input: year &lt; 1, month &lt; 1, month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month from [1, 3, 5, 7, 10, 1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month from [4, 6, 9, 1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nt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11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leap year, not in a leap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CA19-E253-449E-BF33-9AE3BA499DFD}" type="slidenum">
              <a:t>6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integration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g ba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no stubs; do unit testing, then throw all parts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ttom-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tegrate upward into double, triple, quadruple t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est top layer (UI) first, then add layers to replace underlying st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some pros and cons of eac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876920"/>
            <a:ext cx="9144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177480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ig ba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+ fa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can be costly, error-p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177480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-up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+ fewer stubs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tests UI last; UI is importa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1774800"/>
                <a:tab algn="l" pos="548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-down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+ focuses on user experi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needs many 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CBB9-DB40-4EBF-9518-D1C3E5A71D52}" type="slidenum">
              <a:t>7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sandwich!!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ndwi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egration testing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ajor subsyst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ground lay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top-down and bottom-up testing at same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ght miss bugs in middle "target" 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ified sandwi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est each layer individually, then do the sandw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1950" b="0"/>
          <a:stretch/>
        </p:blipFill>
        <p:spPr>
          <a:xfrm>
            <a:off x="6477120" y="1295280"/>
            <a:ext cx="2516040" cy="17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2030-DE57-4F0C-A0F2-FC37785CED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s of system tes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[/requirements] testing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ack-box run through each use case (hit ones most likely to fa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tes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y non-functional performance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ss testing: tests response to many simultaneous requ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lume testing: tests response to lots of input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urity tes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 tes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all and use system by set of us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ability testing: observe user behavior to learn about product de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pha: features are still in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a: feature-complete, trying to find bu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nce / installation test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etitor testing: test against another product/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adow testing: test against older legacy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9E27-159C-45B2-A0D1-327B78CDAF1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2-21T21:15:35Z</dcterms:modified>
  <cp:revision>1289</cp:revision>
  <dc:subject/>
  <dc:title>CSE 403 Slides</dc:title>
</cp:coreProperties>
</file>