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7FD4-8E67-44AD-861E-905BE09A6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ingletons: consider SoundPlayer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EA221-83BA-4154-8847-AD09C00FC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F159-8146-4688-BEBA-D6B1E4960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655C-2B68-42BB-A475-F258D3647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C99A1-14CC-4300-BC8C-A5FA20BCA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F93F9-1917-4CA1-A560-60F4DB1210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BF1CC-8765-4370-9B91-EEB29EEDB2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55FC5-463B-44F6-844C-2BAF3664FC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043C6-9E49-4643-9254-471F1D1166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D6D18-9E90-4289-8ABE-B5F51D779C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800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9E4AD-8EF6-49E8-96B2-2EB39273CE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D8B7D-5C74-4896-951A-392A863450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AE78B-572F-487A-B84F-1BC4859E8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646AC-BBBB-4C75-A647-4D1A142A59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A3F37-5C50-4A98-A502-0B60EE19D9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05091-785F-4FA9-983A-BF21E116E5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6D06F-892B-4533-BB75-1AAD456F47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2D64D-1642-4577-BBE2-3D7DAE97ED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1C8EE-2AD4-4C2E-9031-628271ED3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FCBF3-A81A-4AB0-BB9E-82DB34A9A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3B62-7BB9-4EA2-AA0E-2F1B9ACF1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800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27A62-1C5C-45FA-9924-6F0D457F1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3667-DD5C-4683-A726-314B2A3F8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37D5-6D45-4FDA-BFEF-DD1DCE7B4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C090-2A63-4BCC-9258-1661AFE1C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154320" y="0"/>
            <a:ext cx="598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57200" y="38088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9880" y="3808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1040" y="803160"/>
            <a:ext cx="42228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50760" y="8031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6680" y="730080"/>
            <a:ext cx="560520" cy="422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1720" y="2728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10638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168A-8316-431F-99B6-51BCF0F5A1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54320" y="0"/>
            <a:ext cx="5989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0520" y="254628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3200" y="25462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7391520" y="6477120"/>
            <a:ext cx="1752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CB9C-F35D-409C-AE76-59AC9BEEF9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43200" cy="503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43200" y="0"/>
            <a:ext cx="6400800" cy="50328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2359800"/>
            <a:ext cx="8153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CSE 40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19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ign Patterns: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ngleton, Memento, Flyweight, Factory, Comm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ad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Simply Singleton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Make Your Apps Fly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R. Gear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019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lecture slides are copyright (C) Marty Stepp, 2007.  They may not be rehosted, sold, or modified without expressed permission from the author. 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10E02-1774-4D2F-B3DD-FB3B0E42654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ation: solve concurrency issue by loc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Generates random numb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andomGenerator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RandomGenerator gen = null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nchronize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Generator getInstanc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gen == null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 = new RandomGenerator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gen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nything wrong with this vers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ingleton example 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AC16A-25B6-4B45-82DE-FD36D09E0E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ation: solve concurrency issue without unnecessary loc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Generates random numb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andomGenerator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RandomGenerator gen = null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RandomGenerator getInstanc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gen == null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nchronized (RandomGenerator.clas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must test again -- can you see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sometimes called test-and-test-and-set (T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gen == null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 = new RandomGenerator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gen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ingleton example 4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CB64-D255-4193-9450-8670470F571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ingleton exerci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's make our game model a singleton.  What other classes can be singletons in this syste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issue: What happens if we want a saveable game, where the game state can be stored onto the disk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there be any issues with this that are unique to a singleton clas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7E8D-9974-4789-A95F-D85F62F4682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ttern: Mement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14400" y="34290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 memory snapshot of an object's st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4800600"/>
            <a:ext cx="7543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88799-6429-4617-B589-BD1B1F0E3D8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: sometimes we want to hold onto a version of an important object's state at a particular mo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ment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saved "snapshot" of the state of an object or objects for possible later use; useful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ing an Undo / Redo 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uring consistent state in a net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istency; save / load state between executions of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'll examine Memento in the context of saving an object to disk using str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emento patter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C9E21-E141-4DA3-8EC3-FF36CBD94CE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/O streams, briefl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6671" b="0"/>
          <a:stretch/>
        </p:blipFill>
        <p:spPr>
          <a:xfrm>
            <a:off x="5181480" y="3352680"/>
            <a:ext cx="3962520" cy="3184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bstraction of a source or target of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tes "flow" to (output) and from (input)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represent many data sour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n hard di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other computer on networ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b p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 devi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keyboard, mouse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8091-5557-4F1D-ACB5-49A7A615B93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tream hierarch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85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java.io.InputStr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udioInputStr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InputStr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InputStr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11400" y="3505320"/>
            <a:ext cx="7932600" cy="2948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952880" y="1371600"/>
            <a:ext cx="3886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java.io.OutputStrea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yteArrayOutputStrea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OutputStrea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Output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9625-847C-4A57-8419-3F6DE92064A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rializ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334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rializ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reading / writing objects and their exact state using I/O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objects themselves to be written to files, across network, to internet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ts you save your objects to disk and restore l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oids converting object's state into arbitrary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606" t="5498" r="2727" b="12521"/>
          <a:stretch/>
        </p:blipFill>
        <p:spPr>
          <a:xfrm>
            <a:off x="5432400" y="2327400"/>
            <a:ext cx="3711600" cy="241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8FF4-0E05-4898-91BE-F92969086A2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asses used for serializ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ckag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OutputStrea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lass represents a connection to which an object can be written / sent (saved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OutputStr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ObjectOutputStream(OutputStream ou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Obje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Object o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throws IOExcep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InputStrea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lass represents a connection from which an object can be read / received (loaded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InputStr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ObjectInputStream(InputStream i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Obje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throws Excep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InputStrea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OutputStrea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an be constructed from a file name st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7DC8B-CEFB-4205-9818-07DE622BE3E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rialization examp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mmendation: use a memento class that has save/load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write the object named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someObjec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o file "file.dat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putStream os = new FileOutputStream("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file.da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bjectOutputStream oos = 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bjectOutputStrea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o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os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Objec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someObjec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s.clos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IOException e) { ...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load the object named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someObjec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rom file "file.dat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Stream is = new FileInputStream("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file.da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bjectInputStream ois = 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bjectInputStrea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ateverType someObjec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ateverTyp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is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Objec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.clos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Exception e) { ...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1166-86AE-4119-8612-92155A6F918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ttern: Single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240" y="3429000"/>
            <a:ext cx="6553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 class that has only one inst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17800" y="3898800"/>
            <a:ext cx="3505320" cy="285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3369D-13FA-4C0F-8A14-20E597A8064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emento sequence diagra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35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CD37-1495-4DE6-B3D8-70442C34540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must implement the (methodless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io.Serializa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terface for your class to be compatible with object input/output strea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nkAccou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lements Serializ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ure that all instance variables inside your class are either serializable or declar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ans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nsient fields won't be saved when object is serializ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king your classes serializab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C18D-DE51-4AFC-89A1-028ACD98FC6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rialVersionUI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a versioning issue with serializing and deserializing ob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might sav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bject, then edit and recompile the class, and later try to load the (now obsolete)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rializ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bjects should have a field inside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rialVersionU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at marks the "version" of the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you can set it to 0 and never change it, if you don't need to support multiple versions of the same produc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nkAccount implements Serializ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atic final long serialVersionUID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321B1-D39D-45B9-80B8-0536F68706A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's make our (singleton) game model serializ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happen if a singleton is saved and load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it possible to have more than one instance of the singleton's type in our system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 this violate the Singleton pattern?  Will it break our code?  If so, how can we fix i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ack to singleton..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1C66-3099-4B3E-8021-3C0957155DA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ingleton example 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ation: has strict checks to make sure that we have not saved a stale reference to the singleton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Generates random numb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andomGenerator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RandomGenerator gen = null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nextNumber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put code like this in methods that use/modify 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this != gen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row new IllegalStateException("not singleton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Math.random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is a good solu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do we do if we want to save/load a singleton objec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F106-DCBB-47D1-9E0F-CB70F3A2950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ttern: Flyweigh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 class that has only one instance for each unique st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81080" y="3801960"/>
            <a:ext cx="4953240" cy="305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EEA20-8318-4A44-A547-5E9471B323D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blem of redundant objec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: redundant objects can bog down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objects have same st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insic vs. extrinsic st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File objects that represent the same file on di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 File("mobydick.txt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 File("mobydick.txt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 File("mobydick.txt"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 File("notes.txt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 File("notes.txt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3127-31E6-4F00-9AE9-31E22995ABD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lyweight patter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lyweigh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n assurance that no more than one instance of a class will have identical st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hieved by caching identical instances of objects to reduce object constr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ilar to singleton, but has many instances, one for each unique-state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for cases when there are many instances of a type but many ar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used in conjunction with Factory pattern to create a very efficient object-buil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 in Java: String, Image / Toolkit, Format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4E55-42CE-4B76-AC38-977A69959FD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lyweight and String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yweighted str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va Strings are flyweighted by the compiler in many c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flyweighted at runtime with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fly  = "fly",  weight  = "weight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fly2 = "fly",  weight2 = "weight"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 the following expressions are tru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y == fly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ight == weight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fly" + "weight" == "flyweight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y + weight == "flyweight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tring flyweight = new String("fly" + "weigh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yweight == "flyweight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tring interned = (fly + weight).inter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ed == "flyweight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9F548-EF0A-4A87-B056-213A4C8CFDE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mplementing a Flyweigh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yweighting works best o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mmutabl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c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mmut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cannot be changed once construc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 pseudo-code sketc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clas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lyweight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tic collection of insta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ivate constru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tic method to get an instanc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(we have created this kind of instance before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t it from the collection and return 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s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ate a new instance, store it in the collection and return 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03B5D-FD4A-4283-A1F5-52CFDAE2BAD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stricting object cre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: Sometimes we will really only ever need one instance of a particular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keyboard reader, bank data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'd like to make it illegal to have more than o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we ca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ing lots of objects can take a lot of ti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ra objects take up memo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a pain to deal with different objects floating around if they are essentially the sa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EE847-D33A-49C4-8DE0-E826F737DA3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lyweight sequence diagra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23880" y="1170000"/>
            <a:ext cx="7197840" cy="568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CB76-C8BA-4C41-9EAB-0B46120773F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mplementing a Flyweigh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lyweigh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tatic Map instanc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lyweigh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 {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static synchronized </a:t>
            </a: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Flyweighted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getInstance(Object key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!myInstances.contains(key)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lyweigh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fw = new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lyweigh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ke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tances.put(key, fw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w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nstances.get(ke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F9D2-914A-44C1-9333-AA2738BBFCE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ass before flyweigh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lass to be flyweigh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x, 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Point(int x, int 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.y = 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X() { return x;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Y() { return y;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(" + x + ", " + y + ")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DAE5E-C823-48BB-B416-99C9BE7855D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ass after flyweigh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lass that has been flyweighte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 static Map&lt;String, Point&gt; instances =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 HashMap&lt;String, Point&gt;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Point getInstance(int x, int 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key = x + ", " + 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instances.containsKey(key)) {   // re-use existing p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instances.get(ke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 p = new Point(x, 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stances.put(key, p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final int x, y;  // immuta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Point(int x, int 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56F74-2B2F-4AE6-BA77-B98EDE15CA4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Java Tutorial: I/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java.sun.com/docs/books/tutorial/essential/io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va API p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ttp://java.sun.com/j2se/1.4.2/docs/api/java/io/ObjectInputStream.ht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ttp://java.sun.com/j2se/1.4.2/docs/api/java/io/ObjectOutputStream.ht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ttp://java.sun.com/j2se/1.4.2/docs/api/java/awt/FileInputStream.ht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ttp://java.sun.com/j2se/1.4.2/docs/api/java/awt/FileOutputStream.ht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nningham &amp; Cunningham OO Consultancy, In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c2.com/cgi/wiki?SingletonPatter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c2.com/cgi/wiki?MementoPatter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c2.com/cgi/wiki?FlyweightPatter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 Patterns Java Compan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patterndepot.com/put/8/JavaPatterns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4948E-1A86-40EE-BC46-4AEB4792161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ttern: Factory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 variation of Factory Method, Abstract Facto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 class or method used to create objects easi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5867280" cy="22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DA18D-CC81-482B-BD8D-488C607E0A6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blem: Bulky GUI co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I code to construct many components quickly becomes redundant (here, with menus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mestarItem = new JMenuItem("Homestar Runner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mestarItem.addActionListener(thi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ewMenu.add(homestarItem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rapItem = new JMenuItem("Crappy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rapItem.addActionListener(thi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ewMenu.add(crapItem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other example (with buttons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utton1 = new JButto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utton1.addActionListener(thi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utton1.setBorderPainted(fals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utton2 = new JButto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utton2.addActionListener(thi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utton2.setBorderPainted(fals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6AC2E-AD29-4FEF-B2F2-664FA1714C9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actory patter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class whose job is to easily create and return instances of other clas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reationa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tern; makes it easier to construct complex obj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ead of calling a constructor, use a static method in a "factory" class to set up the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es lines, complexity to quickly construct / initialize obj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 in Java: borders (BorderFactory), key strokes (KeyStroke), network connections (SocketFacto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9CAEF-ACCF-45F1-AD33-8A9D9D5EF75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factories in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ting borders on buttons and panel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BorderFactory cla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Button.setBorder(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rderFactory.createRaisedBevelBorder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ting hot-key "accelerators" on menu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KeyStroke cla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nuItem.setAccelerator(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Stroke.getKeyStroke('T', KeyEvent.ALT_MASK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EB84-F69B-46A0-9A15-5D7B7A91A99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actory implement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implementing a factory of your ow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actory itself should not be instantiat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constructor priv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actory uses static methods to construct compon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actory should offer as simple an interface to client code as possi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't demand lots of arguments; possibly overload factory methods to handle special cases that need more argu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tories are often designed for reuse on a later project or for general use throughout your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C90E-D9E4-40FB-847A-1535591B38B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ingleton patter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ngle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n object that is the only object of its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ures that a class has at most one ins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s a global access point to that ins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es responsibility of managing that instance away from the programmer (illegal to construct more instanc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accessor method that allows users to see the (one and only) ins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sibly the most known / popular design pattern!  (this should tell you someth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76E6-D747-4F72-9C56-084DEC36842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actory sequence diagra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52280" y="1347840"/>
            <a:ext cx="8763120" cy="55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878F-2879-4A87-8BA9-50AF9DCCA3D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actory examp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uttonFactory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ButtonFactory() {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JButton createButton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ext, ActionListener listener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ainer panel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setMnemonic(text.charAt(0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addActionListener(listen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nel.add(butto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utt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B979C-A832-404E-9E79-517FD38BD94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F's variations on Factor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y Method patter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factory object that can be constructed and has an overridable method to create its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subclassed to make new kinds of facto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bstract Factory patter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When the topmost factory class and its creational method are abstract (can be overridd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6867360" cy="265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56DA-8943-4751-A3A8-87166A42E87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ttern: Comman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bjects that represent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828800" y="4648320"/>
            <a:ext cx="5294160" cy="193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ECAF8-B036-4A31-A104-86935D4F15E8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pen-closed princip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pen-Closed Princip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Software entities like classes, modules and functions should b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extension bu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lose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modific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pen-Closed Principle encourages software developers to design and write code in a fashion that adding new functionality would involve minimal changes to existing cod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changes will be handled as new methods and new clas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s following this principle would result in resilient code which does not break on addition of new functional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88D4-DE98-4BEC-AFD8-FD528FC6418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mand patter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a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n object that represents an 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times called a "functor" to represent an object whose sole goal is to encapsulate one fun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va API 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Listener, Comparator, Runnable / Thre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143000" y="2603520"/>
            <a:ext cx="6629400" cy="242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C4D1-0C64-4262-A345-CFAA7E377048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mand applica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and objects serve as a "model" of command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parates the user interface from th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model can support multiple view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action can support multiple widg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the Command pattern when you want 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 a callback function capabi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ve several UI widgets that cause the same action to occ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cify, queue, and execute requests at different tim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port undo and change log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78E17-35F8-4737-BFD8-682AE261167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ample: Bad event handl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TTTGui implements ActionListener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ctionPerformed(ActionEvent even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event.getSource() == view1Item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switch to view #1 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{  // event source must be view2I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switch to view #2 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is code, the "master" TTT GUI object is in charge of all action events in the U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is ba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could happen if we add another action event sourc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4E31-D8FE-47AD-B8AD-93579BBA8F2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mon UI command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common for a GUI to have several ways to activate the same behavi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toolbar "Cut" button and "Edit / Cut" men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goo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; it makes the program flexible for the us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'd like to make sure the code implementing these common commands is not duplica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90720" y="4052880"/>
            <a:ext cx="7224480" cy="28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3972-0ABF-4D90-A5C9-AA6C678E873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olution: Action objec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va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terface represents a UI comm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UI command has a text name, an icon, an action to ru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define multiple UI widgets that share a common underlying command by attaching the sam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h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Swing components suppor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(Action a)         JToggleButton(Action 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CheckBox(Action a)       JMenuItem(Action 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RadioButton(Action 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stract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lass implemen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maintains an internal map of keys to val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key represents a name of a property of the action (e.g. "Name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value represents the value for that property (e.g. "Save Game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n be used to ensure that all UI components that share a common UI action will have the same text, icon, hotke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3EE4-561D-47A1-887C-DB871146FEF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stricting objects, continue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way to avoid creating object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c methods inste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is a good alternative choice?  Why or why no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932280"/>
            <a:ext cx="9144000" cy="23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roblem: lacks 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7468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xample: static methods can't be passed as an argument to a method, nor return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roblem: cannot be ext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7468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xample: static methods can't be subclassed and overridden like a singleton's could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6159-4CDC-403E-AFAD-D7058789339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ctionListener/Action co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inder: interfa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ctionPerformed(ActionEvent 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fa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xten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s propert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nabl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Enabled(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Enabled(boolea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stract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stract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mplemen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must still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467480" y="1143000"/>
            <a:ext cx="1414440" cy="26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DDB7-F93C-45DF-A4EF-C490D185B2F1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bstractAction member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AbstractAction implements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AbstractAction(String na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AbstractAction(String name, Icon ic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getValue(String ke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Enabled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utValue(String key, Object val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Enabled(boolean enabl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stract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bject maintains an internal map of keys to val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key represents a name of a property of the action (e.g. "Name"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value represents the value for that property (e.g. "Save Game"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02A9-4E3F-4AA6-A492-2101C0F8105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Action, examp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 a class that exten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stract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utAction extends AbstractAction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utAction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per("Cut", new ImageIcon("cut.gif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ctionPerformed(ActionEvent e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do the action here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an object of this class, attach it to UI objec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tAction cut = new CutActio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cutButton = new JButton(cu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MenuItem cutMenuItem = new JMenuItem(cu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the same action will occur in both places; also, changes to the action will be seen on both widge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t.setEnabled(fals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F5A82-D920-432D-A36F-FDCDAC06FC41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ction and Sw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uses: properties of the action can be s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ut.putValue(Action.SHORT_DESCRIPTI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"Cuts the selected tex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ll use this label for the tooltip 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ut.putValue(Action.NAME, "Cu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ll use the text label "Cut" for the name of the com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ut.putValue(Action.MNEMONIC_KEY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new Integer('T'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ll underline 't' in "Cut" as a mnemonic hotkey for the com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ut.putValue(Action. ACCELERATOR_KEY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Stroke.getKeyStroke('X', KeyEvent.CTRL_MASK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ll use Ctrl-X as an accelerator hotkey for the com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470F-16A7-4A3E-8404-187173E169BC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ava API pa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java.sun.com/j2se/1.5.0/docs/api/javax/swing/Action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java.sun.com/j2se/1.5.0/docs/api/javax/swing/AbstractAction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nningham &amp; Cunningham OO Consultancy, In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c2.com/cgi/wiki?AbstractFactoryPatter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c2.com/cgi/wiki?FactoryMethodPatter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c2.com/cgi/wiki?CommandPatter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 Patterns Java Compan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www.patterndepot.com/put/8/JavaPatterns.ht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 Pattern Synop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www.mindspring.com/~mgrand/pattern_synopses.ht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DD20-A3F2-4216-9D67-291DC5CD51F8}" type="slidenum">
              <a:t>54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constructor(s)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o that they can not be called from outs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lare a single static private instance of the 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public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Instance(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similar method that allows access to the single inst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sibly protect / synchronize this method to ensure that it will work in a multi-threaded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mplementing Single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5FAA-6D59-4976-A445-43B90A8FD32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ingleton sequence diagra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305000"/>
            <a:ext cx="8393040" cy="555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C61D-36D0-4E8C-A048-F2CF5ABF17B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a singleton class RandomGenerator that generates random nu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RandomGenerator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atic RandomGenerator gen = new RandomGenerator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RandomGenerator getInstance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gen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RandomGenerator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sible problem: always creates the instance, even if it isn't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ingleton examp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5CE4E-A019-4747-8B15-8653E21E756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ation: don't create the instance until nee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Generates random numb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andomGenerator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RandomGenerator gen = null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RandomGenerator getInstanc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gen == null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 = new RandomGenerator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gen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ould go wrong with this vers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ingleton example 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D1FC-65E6-4DD5-8CF6-1C7E22EDF5C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7-02-07T21:11:54Z</dcterms:modified>
  <cp:revision>1286</cp:revision>
  <dc:subject/>
  <dc:title>CSE 403 Slides</dc:title>
</cp:coreProperties>
</file>