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C624-113B-46D0-89CE-815070A6B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from Command patte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objects each solve different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objects all solve the same problem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08D6-5666-4770-87A7-B990E7303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AC7F-9E90-4D98-8B11-2167C3C69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7F4A-A67E-4753-902D-DB3D43A8D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5D57-0A38-465F-B306-A9A849319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59E8-D52F-4AB0-8615-B9DDBB945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894F-1DF9-4623-834B-46E0F3C12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9236-1C6B-4A73-B520-6EC307A4D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D4E0-7D6E-4DCC-833C-938642E4AA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956D-67F5-4EC5-A422-31D31C1DE9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0888-DC05-472D-830C-55F77DAF2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1F82-656A-4771-8DC2-8AE437F56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DA9A-0F9A-4D4B-B11A-8DA2F4880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D18C-61BD-4062-AB71-22EDBBE85B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478C-74F5-4E5A-B857-F9705B26ED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82D2-CD49-4950-9703-EC742B702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6F74-62AF-4A46-BFB5-4C42C1C144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680-3DD2-4DAF-935C-9044B0D8E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31E6-1111-4EF2-A05E-21357BE92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5CFB-6BCE-49D4-BE64-11BECB10D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ADF3-B9C5-44D2-9127-F1F9B89C6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4C0B-86A2-4FFF-9229-49AAECDFA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09E1-E576-4F81-A763-FFBA6823F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7A91-7A57-49CE-8610-2012416E6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C3C5-9DE8-4597-8897-51AFDA769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5C7-2E05-4ABB-93FF-3DAC13412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003-3F30-42E0-959C-3AB73ECCF8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16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Patterns and GUI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bject-Oriented Design and Pattern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Ch. 5 (Horstman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D163-A266-4423-89D6-4E5419D472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 interface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ckage java.uti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Iterator&lt;E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boolean has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E 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remov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Collection&lt;E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  // List, Set extend Coll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Map&lt;K, V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et&lt;K&gt; keySet();          // keys,values are Colle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ollection&lt;E&gt; values();   // (can call iterator() on the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9157-5C9F-4E52-9EF6-A09DE839F6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Java collections hav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returns an iterator for the elements of the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look through the elements of any kind of collection (an alternative to for loo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&lt;Account&gt; list = new ArrayList&lt;Account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... add some elements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terator&lt;Account&gt; itr = list.iterator(); itr.hasNext(); 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ount a = itr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r, using Java 1.5's foreach loop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Account a : lis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360" y="4419360"/>
            <a:ext cx="4572360" cy="1529640"/>
            <a:chOff x="4419360" y="4419360"/>
            <a:chExt cx="4572360" cy="1529640"/>
          </a:xfrm>
        </p:grpSpPr>
        <p:sp>
          <p:nvSpPr>
            <p:cNvPr id="132" name=""/>
            <p:cNvSpPr/>
            <p:nvPr/>
          </p:nvSpPr>
          <p:spPr>
            <a:xfrm>
              <a:off x="5105520" y="4622760"/>
              <a:ext cx="3886200" cy="13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.keySet()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.values()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419360" y="44193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D3EE-3F1B-4220-9A8A-624E31BD6315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ing your own Itera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mplementing your own collections, it can be convenient to use iterat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uraged (has nonstandard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layerLis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int getNumPlayers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boolean empty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Player getPlayer(int n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fer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layerLis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terator&lt;Player&gt; iterator()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public int size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public boolean isEmpty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220968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77D0-BA72-4EF4-B67B-362D23CAC6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whose state can be wat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15000" y="4562640"/>
            <a:ext cx="29052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198" t="0" r="3999" b="6664"/>
          <a:stretch/>
        </p:blipFill>
        <p:spPr>
          <a:xfrm>
            <a:off x="152280" y="411480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D248-50D4-4A70-93A9-18F3DD74BD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call: model and 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are related to the internal representation of the stat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part of the model is connected to file(s) or datab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card game): Card, Deck, 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bank system): Account, User, User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display the state of the model to the u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ly, this is your GUI (could also be a text U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uld not contain crucial application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views can represent the same data in different 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Bar chart vs. pie ch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PokerPanel, BankApp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A010-92C3-4798-9696-F794D2CE7B0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mmon design paradigm for graphic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that connect model and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how user interface reacts to user input (ev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messages from view (where events come fr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s messages to model (tells what data to disp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part of view (see le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95680" y="4343400"/>
            <a:ext cx="4647960" cy="2370240"/>
            <a:chOff x="4495680" y="4343400"/>
            <a:chExt cx="4647960" cy="2370240"/>
          </a:xfrm>
        </p:grpSpPr>
        <p:sp>
          <p:nvSpPr>
            <p:cNvPr id="146" name=""/>
            <p:cNvSpPr/>
            <p:nvPr/>
          </p:nvSpPr>
          <p:spPr>
            <a:xfrm>
              <a:off x="449568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3040" y="6376320"/>
              <a:ext cx="1218960" cy="337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360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720" y="4999680"/>
              <a:ext cx="2149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051680" y="5218560"/>
              <a:ext cx="15109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192280" y="5218200"/>
              <a:ext cx="15685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38800" y="4343400"/>
              <a:ext cx="127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data for ren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33080" y="5665320"/>
              <a:ext cx="12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60080" y="5719680"/>
              <a:ext cx="133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upd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2280" y="5181480"/>
            <a:ext cx="3810240" cy="1524240"/>
            <a:chOff x="152280" y="5181480"/>
            <a:chExt cx="3810240" cy="1524240"/>
          </a:xfrm>
        </p:grpSpPr>
        <p:sp>
          <p:nvSpPr>
            <p:cNvPr id="156" name=""/>
            <p:cNvSpPr/>
            <p:nvPr/>
          </p:nvSpPr>
          <p:spPr>
            <a:xfrm>
              <a:off x="152280" y="576108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1440" y="5181480"/>
              <a:ext cx="1621080" cy="152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5440" y="603576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6" idx="6"/>
              <a:endCxn id="157" idx="1"/>
            </p:cNvCxnSpPr>
            <p:nvPr/>
          </p:nvCxnSpPr>
          <p:spPr>
            <a:xfrm>
              <a:off x="1125360" y="5943240"/>
              <a:ext cx="121680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967A-A171-4B9B-BD5C-F9880A3F0BE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"watches" the state of another object and takes action when the state changes in some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event listeners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O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: an object that allows observers to examine it (often the observable object notifies the observers when it chang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s customizable, extensible event-based behavior for data modeling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BC01-A3A9-4E89-B814-CB7DFB0314F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nefits of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 coupling between subject and observer; each can be extended and reused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relationship between subject and observer; can be established at run time (can "hot-swap" views, etc) gives a lot more programming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communication: notification is broadcast automatically to all interested objects that subscribed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er can be used to implement model-view separation in Java more eas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2CE-5D66-4407-9038-DEF9FA3B9B0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1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35CA-2345-4110-975E-3DC2D8154E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interfac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uti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Observ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servable o, Object ar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thod will be called when the observable model changes, so put the appropriate code to handle the change 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AB1D-C3C0-49BF-8F44-B306574840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sign challen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 software for reuse is hard; one must fin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od problem decomposition, and the right software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sign with flexibility, modularity and eleg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s often emerge from an iterative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rials and err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designs do ex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designs they are almost never iden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exhibit some recurring characte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gineering perspective: can designs be described, codified or standardiz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short circuit the trial and error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"better" software f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4CB3-B778-448C-BD6F-E8BCA1EEA5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able cla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Observer(Observer 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leteObserver(Observer 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s/remov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/from the list of objects that will be notified (via their update method) when notifyObservers is call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notifyObserver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notifyObservers(Object ar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all observers listening to this Observable object of an event that has occurred.  An optional object argument may be passed to provide more information about the ev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Chang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gs the observable object as having changed since the last event; must be called each time before calling notifyObserv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D18B-E9B5-43DA-92F6-A5D89D4EE76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on usage of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write a model class that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model notify its observers when anything significant happ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make all views of that model (e.g. GUI panels that draw the model on screen) into obser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panels take action when the model notifies them of event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play sound, show option dialog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6DC4-C1C8-45A1-BCF0-9FF9BD765F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Observabl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View interface or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View an o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/implement View for all actual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 each its own unique inner components and code to draw the model's state in its own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echanism in GUI to set view (perhaps through men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t view, attach it to observe th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multiple view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4095-D905-4B4E-817C-7DCD1EC926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the frame's action listen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hide old view; show new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.deleteObserver(view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.addObserver(view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ew1.setVisible(fals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ew2.setVisible(tru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changing view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B0C8-874C-4AC8-85DC-B54B9DC334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Strate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hold alternate algorithms to solve a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22772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4E2B-1239-486C-800D-5DAAF6762E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lgorithm separated from the object that uses it, and encapsulated as its own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rategy implements one behavior, one implementation of how to solve the same probl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arates algorithm for behavior from object that wants to 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changing an object's behavior dynamically without extending / changing the object itse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saving/com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out managers on GUI contain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 algorithms for computer game play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ategy 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02AB-273C-4102-BE8B-BBD89C919D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example: Card play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trategy hierarchy pa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an interface or abstract cla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Strateg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ard getMov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etting a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1.setStrategy(new SmartStrategy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sing a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 p1move = player1.move();  // uses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4C3F-918B-4B8D-8F06-39E479FC0D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ategies and GUI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ow does the programmer specify where each component sits in a GUI window, how big each component should be, and what the component should do if the window is resized / moved / maximized /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olute positi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++, C#, others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exact pixel coordinates for every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yout manag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Java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special objects that decide where to position each component based on some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60199" b="66779"/>
          <a:stretch/>
        </p:blipFill>
        <p:spPr>
          <a:xfrm>
            <a:off x="3200400" y="5105520"/>
            <a:ext cx="312408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9DE0-8D83-4634-9996-224C517192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951200"/>
            <a:ext cx="7848720" cy="490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dea: Place many components into a special component called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add the container to the window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ainers with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4F08-8A7C-48BA-AE13-72430725E76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n object that holds components; it also governs their positions, sizes, and resize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s a component to the container, possibly giving extra information about where to place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es the given component from the contai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the given layout manager to position the components in the contai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should call this if you change the contents of a container that is already on the screen, to make it re-do its lay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8107-F56A-44CE-A59D-97FCDF2C0EF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sign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olution to a common software problem in a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ter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terator pattern defines an interface that declares methods for sequentially accessing the objects in a col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BC02-537E-4101-B8B4-4CB594DC69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anel is our container of choice; it is a subclass of Container, so it inherit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s a panel with a default flow lay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s a panel that uses the gi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out man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DFE0-7AAC-44E8-9A3C-D6185B4391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ferred size of compon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ng component objects each have a certain size they would "like" to be--just large enough to fit their contents (text, icons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ttons at preferred size:            Not preferred siz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800600" y="5410080"/>
            <a:ext cx="3352680" cy="1300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609480" y="5486400"/>
            <a:ext cx="2362320" cy="9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D0FF-38D3-43D6-BAA5-7A666D188DD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38280" y="5159520"/>
            <a:ext cx="4953240" cy="162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s container into five region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gions expand to fill region horizontally, and use preferred size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gions expand to fill region vertically, and use preferred size horizo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es all space not occupied by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DE63-2465-47D7-A0E6-917E7B3B102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562284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positioned in order ad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oo long, components wrap around to next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82A7-BE34-4FCD-B558-24A5718442D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s container as a grid of equally-sized rows and colum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given equal horizontal / vertical size, disregarding preferred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specify 0 rows or columns to indicate expansion in that direction a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2F12-4C68-4084-B9F2-96A53C9AA9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ox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6720" y="4788000"/>
            <a:ext cx="2438280" cy="1936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s components in container in a single row or colum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use preferred sizes and align based on their preferred al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ferred way to construct a container with box layou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3C47-6BDA-48A0-871B-D4B29D19DB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ther layou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7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ers of "cards" stack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op of each other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visible at a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complicate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recommendatio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ever use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 / null 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define absolute position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X/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Width/H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91320" y="2994120"/>
            <a:ext cx="300168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8AF8-E17C-47DE-9D4B-39476EE67C8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7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 with layout manag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715000" cy="44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9091-E650-45DA-B844-536EA3A5331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67080" y="3900600"/>
            <a:ext cx="4732560" cy="2465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an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layout in e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: composite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7AF8-A340-4FA1-883D-3C9A76D47AD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Compos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can serve as containers, and can hold other objects lik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75040" y="4267080"/>
            <a:ext cx="5392440" cy="25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6480-B1D1-4A47-BB6D-AC8D834FBD7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istory of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cept of a "pattern" was first expres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ristopher Alexander's wor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atter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angua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1977 (2543 patter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1990 a group called the Gang of Four or "GoF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amma, Helm, Johnson, Vlissides) compile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talog of design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5 boo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sign Patterns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ements of Reusable Object-Oriente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lassic of th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171468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F282-A0EE-405C-AF45-1D162B55BA8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osite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 object that is either an individual item or a collection of man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 objects can be composed of individual items or of other compo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ursive definition: objects that can hold themsel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leads to a tree structure of leaves and no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: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leaf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compositenod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composite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: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 Ja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s (a List of L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 layout (panels containing panels containing button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314E-16C1-42A7-9FEB-BED7E09E775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486400" y="4800600"/>
            <a:ext cx="3360600" cy="1751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osite example: pane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north = new JPanel(new Flow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th.add(new JButton("Button 1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th.add(new JButton("Button 2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south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th.add(new JLabel("Southwest"), BorderLayout.WE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th.add(new JLabel("Southeast"), BorderLayout.E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verall panel contains the smaller panels (composi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 overall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north, BorderLayout.NOR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new JButton("Center Button"), BorderLayout.CEN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south, BorderLayout.SOU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ame.add(overal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6896-48F4-4715-A755-DAC2BC7CE55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Deco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wrap around other objects to add useful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57400" y="4330800"/>
            <a:ext cx="4929120" cy="25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C63C-5CB0-4E35-A974-C5EED9DD04D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o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modifies behavior of, or adds features to, another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rator must maintain the common interface of the object it wraps 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so that we can add features to an existing simple object without needing to disrupt the interface that client code expects when using the simp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being "decorated" usually does not explicitly know about the deco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 Jav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layered input streams adding useful I/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scroll bars to GUI contr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344-ECBF-4EAC-8F44-3D29FC8642E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example: I/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has on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read(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thod to read one letter at a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o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dd additional functionality to read the stream more eas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StreamReader/BufferedReader decorate InputStre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new FileInputStream("hardcode.txt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Reader isr = new InputStreamReader(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ecause of decorator streams, I can read 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ntire line from the file in one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(InputStream only provides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ublic int read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wholeLine = br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1584-64D8-4A34-B452-5FFA005C07D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example: G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GUI components don't have scroll b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crollPane is a container with scroll bars to which you can add any component to make it scrol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JScrollPane decorates GUI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TextArea area = new JTextArea(20, 3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ScrollPane scrollPane = new JScrollPane(are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Pane.add(scrollPa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Components also 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o add a "decorative" border.  Is this another example of the Decorator pattern?  Why or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529320" y="2895480"/>
            <a:ext cx="25383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99A6-2FDF-4ED0-A01B-8CF39F4CE3D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Java Tutorial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sual Index to the Swing Components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docs/books/tutorial/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iswing/components/components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Java Tutorial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ing Out Components Within a Container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docs/books/tutorial/uiswing/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ayout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va Class Library Refere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Observer, Observable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j2se/1.5.0/docs/api/java/util/Observer.html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j2se/1.5.0/docs/api/java/util/Observable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Iterator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Decorator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Composite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64C0-00BF-416E-9595-A1C96EB12AF1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re about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ttern describes a recurring softwar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bstract from concrete design elements such as problem domain, programm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es classes that play a role in the solution to a problem, describes their collaborations and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s implementation trade-of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terns are not code or designs; must be instantiated/ap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engineer is required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rade-offs and impact of using a pattern in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design and implementation decision how best to apply the pattern, perhaps modify it sligh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the pattern in code and combine it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969D-7B14-4EF6-8D4F-0A42020F37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nefits of using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are a common design 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engineers to abstract a problem and talk about that abstraction in isolation from its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odies a culture; domain-specific patterns increase design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capture design expertise and allow that expertise to be communic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s design reuse and avoid mistak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documentation (less is needed) and understandability (patterns are described well o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9794-CD3E-4CBE-B445-6B4FDBAC63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ng of Four (GoF)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onal Pattern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cerned with abstracting the object-instantiation pro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 Fa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uctural Pattern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cerned with how objects/classes can be combined to form larger structur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d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yw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havioral Pattern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cerned with communication between objec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in of Responsi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late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6F69-E441-4ED6-B12C-2643D67369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Ite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4354560" cy="2148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traverse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C383-A7B5-419B-98CA-34B80E1543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provides a standard way to examine all elements of any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 interface for traversing many different data structures without exposing their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concurrent iteration and element rem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need to know about internal structure of collection or different methods to access data from different coll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E7B8-17E0-480D-8A29-9F6CCD6B82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05T21:08:56Z</dcterms:modified>
  <cp:revision>1265</cp:revision>
  <dc:subject/>
  <dc:title>CSE 403 Slides</dc:title>
</cp:coreProperties>
</file>