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AAD-F08E-47BE-8611-7E7220B3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from Command patte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objects each solve different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objects all solve the same problem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E0CE-719A-4BCB-AE0F-18CCFE6A8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811-253C-4450-B47B-D2EEC00DA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5A93-2F82-48FA-B06F-D2307DFCF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1EC3-2A40-4804-8CA0-0F93B9EDD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17E6-E07D-46DF-8C0C-4C8E33D420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989B-721B-4B06-8947-78DC23FC5F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D7E3-39EE-4EBB-89C5-74C68BC103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DF50-757C-40EC-A762-0176924C8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DBDA-2568-4CB3-B341-8E5C98A16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60FF-6DBE-4382-9AE8-61E33FF1F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BC2A-A459-4271-9F04-E8B11CA29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AD26-ACC9-4D43-810A-041399354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90B5-E6DB-4722-B38D-2A5808C5B2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FEB8-0F31-40D5-B2F8-75FA521D59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602F-158F-4B39-9F2A-373A0CD246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3B9E-61EA-46B2-B009-D2DFD6F42A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2729-8A8A-4847-9C5C-92C6467C1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0879-6F00-4C91-A4E1-AF2EFBD89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D50A-3B8C-4124-898F-FB41210DC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98DE-5BC3-4CC7-9319-063294EF1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2DE3-0601-4F30-89A2-6C8303F7B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9DD4-99FE-4914-BC0A-D3643A00A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F49D-9752-459F-B734-C2A4B7594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68A5-ECE5-4CCE-90A3-D68B00258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7527-B3F9-4267-894F-FD907F850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531-C9B6-4C64-B72B-B08F3893A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16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Patterns and GUI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bject-Oriented Design and Pattern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Ch. 5 (Horstman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D54A-ADF6-45F6-B882-6C6A9A42D8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 interface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ckage java.uti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Iterator&lt;E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boolean has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E nex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void remov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Collection&lt;E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  // List, Set extend Coll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erface Map&lt;K, V&gt;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et&lt;K&gt; keySet();          // keys,values are Colle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ollection&lt;E&gt; values();   // (can call iterator() on the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133C-3607-4CC0-A463-F79CED6F20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Java collections hav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returns an iterator for the elements of the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look through the elements of any kind of collection (an alternative to for loo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&lt;Account&gt; list = new ArrayList&lt;Account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... add some elements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terator&lt;Account&gt; itr = list.iterator(); itr.hasNext(); 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ount a = itr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r, using Java 1.5's foreach loop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Account a : lis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360" y="4419360"/>
            <a:ext cx="4572360" cy="1529640"/>
            <a:chOff x="4419360" y="4419360"/>
            <a:chExt cx="4572360" cy="1529640"/>
          </a:xfrm>
        </p:grpSpPr>
        <p:sp>
          <p:nvSpPr>
            <p:cNvPr id="132" name=""/>
            <p:cNvSpPr/>
            <p:nvPr/>
          </p:nvSpPr>
          <p:spPr>
            <a:xfrm>
              <a:off x="5105520" y="4622760"/>
              <a:ext cx="3886200" cy="13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.keySet()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p.values().iterator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419360" y="44193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6E86-5353-4081-B60F-C137F3397108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ding your own Itera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mplementing your own collections, it can be convenient to use iterat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ouraged (has nonstandard interfac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layerLis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int getNumPlayers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boolean empty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a50021"/>
                </a:solidFill>
                <a:latin typeface="Courier New"/>
              </a:rPr>
              <a:t>public Player getPlayer(int n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ferre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layerLis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terator&lt;Player&gt; iterator()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public int size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public boolean isEmpty(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220968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E5A3-EECD-427F-AD88-E5E47327D8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whose state can be wat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15000" y="4562640"/>
            <a:ext cx="29052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3198" t="0" r="3999" b="6664"/>
          <a:stretch/>
        </p:blipFill>
        <p:spPr>
          <a:xfrm>
            <a:off x="152280" y="411480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5B60-9846-463B-84AF-596AC72B5E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call: model and 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are related to the internal representation of the stat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part of the model is connected to file(s) or datab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card game): Card, Deck, 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bank system): Account, User, User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display the state of the model to the u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ly, this is your GUI (could also be a text U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uld not contain crucial application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views can represent the same data in different 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Bar chart vs. pie ch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PokerPanel, BankApp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4313-8BA6-4E20-B9E5-4E7C128E6E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mmon design paradigm for graphic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that connect model and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how user interface reacts to user input (ev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messages from view (where events come fr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s messages to model (tells what data to disp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part of view (see le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495680" y="4343400"/>
            <a:ext cx="4647960" cy="2370240"/>
            <a:chOff x="4495680" y="4343400"/>
            <a:chExt cx="4647960" cy="2370240"/>
          </a:xfrm>
        </p:grpSpPr>
        <p:sp>
          <p:nvSpPr>
            <p:cNvPr id="146" name=""/>
            <p:cNvSpPr/>
            <p:nvPr/>
          </p:nvSpPr>
          <p:spPr>
            <a:xfrm>
              <a:off x="449568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3040" y="6376320"/>
              <a:ext cx="1218960" cy="337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360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720" y="4999680"/>
              <a:ext cx="2149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051680" y="5218560"/>
              <a:ext cx="15109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192280" y="5218200"/>
              <a:ext cx="15685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38800" y="4343400"/>
              <a:ext cx="127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data for ren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33080" y="5665320"/>
              <a:ext cx="12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60080" y="5719680"/>
              <a:ext cx="133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upd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2280" y="5181480"/>
            <a:ext cx="3810240" cy="1524240"/>
            <a:chOff x="152280" y="5181480"/>
            <a:chExt cx="3810240" cy="1524240"/>
          </a:xfrm>
        </p:grpSpPr>
        <p:sp>
          <p:nvSpPr>
            <p:cNvPr id="156" name=""/>
            <p:cNvSpPr/>
            <p:nvPr/>
          </p:nvSpPr>
          <p:spPr>
            <a:xfrm>
              <a:off x="152280" y="576108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1440" y="5181480"/>
              <a:ext cx="1621080" cy="152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5440" y="603576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6" idx="6"/>
              <a:endCxn id="157" idx="1"/>
            </p:cNvCxnSpPr>
            <p:nvPr/>
          </p:nvCxnSpPr>
          <p:spPr>
            <a:xfrm>
              <a:off x="1125360" y="5943240"/>
              <a:ext cx="121680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4EA9-6EC0-4696-AFA9-4EDBB41E7C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"watches" the state of another object and takes action when the state changes in some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event listeners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O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: an object that allows observers to examine it (often the observable object notifies the observers when it chang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s customizable, extensible event-based behavior for data modeling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1CFA-2539-48EB-994C-D27351C2CD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nefits of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 coupling between subject and observer; each can be extended and reused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relationship between subject and observer; can be established at run time (can "hot-swap" views, etc) gives a lot more programming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communication: notification is broadcast automatically to all interested objects that subscribed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er can be used to implement model-view separation in Java more eas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0C5D-7928-4A04-98D2-5A211DE774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51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D180-F1FF-4B90-9FF8-4726DAD8F7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er interfac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uti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Observ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servable o, Object arg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thod will be called when the observable model changes, so put the appropriate code to handle the change 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AC52-7703-4913-AE8B-2821E5946D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sign challeng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ing software for reuse is hard; one must fin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od problem decomposition, and the right software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sign with flexibility, modularity and eleg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s often emerge from an iterative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rials and err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designs do ex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designs they are almost never iden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exhibit some recurring characte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gineering perspective: can designs be described, codified or standardiz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short circuit the trial and error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"better" software f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0898-71F8-442D-8E7C-E1D86DF4F1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bservable cla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Observer(Observer 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leteObserver(Observer 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s/remov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/from the list of objects that will be notified (via their update method) when notifyObservers is call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notifyObserver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notifyObservers(Object ar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all observers listening to this Observable object of an event that has occurred.  An optional object argument may be passed to provide more information about the ev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Chang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gs the observable object as having changed since the last event; must be called each time before calling notifyObserv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26B6-493B-4FCB-A1D3-4F975E4DE8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on usage of Ob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write a model class that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model notify its observers when anything significant happ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make all views of that model (e.g. GUI panels that draw the model on screen) into obser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panels take action when the model notifies them of event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play sound, show option dialog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6C88-CD68-4763-9D02-323336B4F4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Observabl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View interface or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View an o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/implement View for all actual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 each its own unique inner components and code to draw the model's state in its own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echanism in GUI to set view (perhaps through men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t view, attach it to observe th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multiple view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DB2C-BCDB-4430-8D06-F4E7550C72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the frame's action listen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hide old view; show new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.deleteObserver(view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.addObserver(view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ew1.setVisible(fals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ew2.setVisible(tru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changing view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E14D-E15B-4097-99B8-7435A7C6F9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Strate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hold alternate algorithms to solve a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22772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90F4-9A97-4625-973D-8C5875B5034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lgorithm separated from the object that uses it, and encapsulated as its own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strategy implements one behavior, one implementation of how to solve the same probl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arates algorithm for behavior from object that wants to 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changing an object's behavior dynamically without extending / changing the object itse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saving/com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out managers on GUI contain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 algorithms for computer game play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ategy 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7308-D720-4C5F-A4B9-23D4FCE682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ategy example: Card play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trategy hierarchy pa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(an interface or abstract cla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Strateg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ard getMov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etting a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1.setStrategy(new SmartStrategy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using a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 p1move = player1.move();  // uses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5A2E-62E9-46E8-9CDC-A1AE6BFABA9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ategies and GUI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ow does the programmer specify where each component sits in a GUI window, how big each component should be, and what the component should do if the window is resized / moved / maximized /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olute positi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++, C#, others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exact pixel coordinates for every com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ayout manag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Java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special objects that decide where to position each component based on some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60199" b="66779"/>
          <a:stretch/>
        </p:blipFill>
        <p:spPr>
          <a:xfrm>
            <a:off x="3200400" y="5105520"/>
            <a:ext cx="312408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BFCA-96EA-4105-899D-19F55970AE8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951200"/>
            <a:ext cx="7848720" cy="490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dea: Place many components into a special component called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n add the container to the window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ainers with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F33C-AE05-43DD-BE5E-5309C43CCA1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n object that holds components; it also governs their positions, sizes, and resize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s a component to the container, possibly giving extra information about where to place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es the given component from the contai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the given layout manager to position the components in the contai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should call this if you change the contents of a container that is already on the screen, to make it re-do its lay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020A-9E67-4028-B5AB-5BFBC29815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sign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olution to a common software problem in a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ter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terator pattern defines an interface that declares methods for sequentially accessing the objects in a colle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CE88-2B09-4B6A-8ED3-0CE25A61E9F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anel is our container of choice; it is a subclass of Container, so it inherit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s a panel with a default flow lay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s a panel that uses the gi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out man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B6E5-3D71-4DF2-9653-661AAB9822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ferred size of compon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ng component objects each have a certain size they would "like" to be--just large enough to fit their contents (text, icons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ttons at preferred size:            Not preferred siz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800600" y="5410080"/>
            <a:ext cx="3352680" cy="1300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609480" y="5486400"/>
            <a:ext cx="2362320" cy="9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42CB-7CB0-4B0A-8C79-F174EFA77A8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38280" y="5159520"/>
            <a:ext cx="4953240" cy="1622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s container into five region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gions expand to fill region horizontally, and use preferred size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gions expand to fill region vertically, and use preferred size horizont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ses all space not occupied by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29D9-0D8D-458C-82E0-5F7E2959B06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562284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positioned in order ad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oo long, components wrap around to next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D575-2CE2-460B-AE5E-3BFE1C652D3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s container as a grid of equally-sized rows and colum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are given equal horizontal / vertical size, disregarding preferred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specify 0 rows or columns to indicate expansion in that direction a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445A-BE1D-4F5D-A5BE-503E68AF22A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Box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6720" y="4788000"/>
            <a:ext cx="2438280" cy="1936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s components in container in a single row or colum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s use preferred sizes and align based on their preferred al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ferred way to construct a container with box layou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FF06-30F9-4404-8B9D-48A82B376A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ther layou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7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yers of "cards" stack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op of each other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visible at a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complicated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y recommendatio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ever use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 / null lay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define absolute position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X/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Width/H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791320" y="2994120"/>
            <a:ext cx="300168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270A-7A5A-45D6-950B-5EE08C455F1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70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 with layout manag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715000" cy="44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5363-C23E-4748-8961-CCD90C8C2D5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67080" y="3900600"/>
            <a:ext cx="4732560" cy="2465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ane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layout in eac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: composite lay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D624-06C5-4D6E-AF70-ABAE8A6CB51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Compos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can serve as containers, and can hold other objects lik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75040" y="4267080"/>
            <a:ext cx="5392440" cy="25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B9E2-1F60-4F73-B2EA-8A3669AC81E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istory of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cept of a "pattern" was first expres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ristopher Alexander's wor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atter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anguag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1977 (2543 patter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1990 a group called the Gang of Four or "GoF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amma, Helm, Johnson, Vlissides) compile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talog of design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5 book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sign Patterns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ements of Reusable Object-Oriente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lassic of th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171468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C49E-5B17-4CE8-8EA2-D9DFF07DFA3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osite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 object that is either an individual item or a collection of man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 objects can be composed of individual items or of other compo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ursive definition: objects that can hold themsel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ten leads to a tree structure of leaves and no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: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leaf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|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compositenod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composite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: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node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 Ja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s (a List of Lis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 layout (panels containing panels containing button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969A-77BC-4C8F-A836-461D8D64274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486400" y="4800600"/>
            <a:ext cx="3360600" cy="1751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osite example: pane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north = new JPanel(new Flow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th.add(new JButton("Button 1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th.add(new JButton("Button 2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iner south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th.add(new JLabel("Southwest"), BorderLayout.WE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th.add(new JLabel("Southeast"), BorderLayout.EAST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verall panel contains the smaller panels (composi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 overall = new JPanel(new BorderLayout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north, BorderLayout.NOR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new JButton("Center Button"), BorderLayout.CENTE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.add(south, BorderLayout.SOU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ame.add(overal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5404-E02B-402F-BA7E-4642084B135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Deco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wrap around other objects to add useful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57400" y="4330800"/>
            <a:ext cx="4929120" cy="25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0ACF-B1AE-4BD2-A947-512144B53CE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o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modifies behavior of, or adds features to, another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rator must maintain the common interface of the object it wraps 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so that we can add features to an existing simple object without needing to disrupt the interface that client code expects when using the simpl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being "decorated" usually does not explicitly know about the deco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 Jav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layered input streams adding useful I/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scroll bars to GUI contr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141B-6536-46DF-BD48-EBC28C8D72E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example: I/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has on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read(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thod to read one letter at a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o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dd additional functionality to read the stream more eas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StreamReader/BufferedReader decorate InputStre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new FileInputStream("hardcode.txt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Reader isr = new InputStreamReader(in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because of decorator streams, I can read 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entire line from the file in one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(InputStream only provides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ublic int read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wholeLine = br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94BF-27AF-4DE8-9200-5C1DA838257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corator example: GU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GUI components don't have scroll b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crollPane is a container with scroll bars to which you can add any component to make it scrol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JScrollPane decorates GUI compon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TextArea area = new JTextArea(20, 30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ScrollPane scrollPane = new JScrollPane(area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Pane.add(scrollPan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Components also 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o add a "decorative" border.  Is this another example of the Decorator pattern?  Why or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529320" y="2895480"/>
            <a:ext cx="2538360" cy="19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FAF3-751F-4D96-B9CE-726B44211C8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Java Tutorial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sual Index to the Swing Components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docs/books/tutorial/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iswing/components/components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Java Tutorial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ing Out Components Within a Container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docs/books/tutorial/uiswing/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layout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va Class Library Refere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Observer, Observable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j2se/1.5.0/docs/api/java/util/Observer.html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ttp://java.sun.com/j2se/1.5.0/docs/api/java/util/Observable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Iterator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Decorator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Composite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B59C-C0DD-4773-8636-E8A65F52FEEF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re about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ttern describes a recurring software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bstract from concrete design elements such as problem domain, programming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es classes that play a role in the solution to a problem, describes their collaborations and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s implementation trade-of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terns are not code or designs; must be instantiated/appl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engineer is required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rade-offs and impact of using a pattern in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design and implementation decision how best to apply the pattern, perhaps modify it sligh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the pattern in code and combine it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E519-D9FB-4E9F-83C0-12931F14D8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nefits of using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are a common design 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engineers to abstract a problem and talk about that abstraction in isolation from its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odies a culture; domain-specific patterns increase design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terns capture design expertise and allow that expertise to be communic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s design reuse and avoid mistak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documentation (less is needed) and understandability (patterns are described well o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F22F-CCDC-43B8-97F2-A953938FD9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ang of Four (GoF) patter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ational Pattern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cerned with abstracting the object-instantiation pro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 Fac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t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uctural Patterns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cerned with how objects/classes can be combined to form larger structur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d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r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ywe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havioral Pattern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cerned with communication between objec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in of Responsi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3538440"/>
                <a:tab algn="l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late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84E9-75F0-4365-BC72-B7A40FB24E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Itera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09680" y="4495680"/>
            <a:ext cx="4354560" cy="2148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traverse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282C-AC27-4D6C-8575-07F6D5D740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terator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provides a standard way to examine all elements of any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 interface for traversing many different data structures without exposing their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concurrent iteration and element remov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need to know about internal structure of collection or different methods to access data from different colle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C9D3-884C-4556-B6C1-6AB9DB52AA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05T21:08:56Z</dcterms:modified>
  <cp:revision>1265</cp:revision>
  <dc:subject/>
  <dc:title>CSE 403 Slides</dc:title>
</cp:coreProperties>
</file>