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6548-E5D1-475D-8C5B-982071509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522B-8B29-48AD-A8B1-B14885AD1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F9F4-22AE-4635-BB2C-C716AD790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3584-CAA9-477C-95C1-84609A4C6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9725-271B-4415-A43A-08509AC897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4E41-8AD9-42AD-863A-43CEDE6BED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587E-8EC4-449D-9FC9-D9A7F95788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57D0-611C-4C37-B4F9-15BD7EA5DF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A63D-6264-462D-8FF2-F853A8F355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1262-49F5-4593-81BF-56E5D03201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331F-4810-403F-B2A5-5783FEEDC8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488D-4EAA-4B61-8D67-0C4734D47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4345-27F7-499D-BD06-B9F1338889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0FE3-CF41-4378-96A3-36347FD87D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764C-408F-484B-8106-1ED1B6CE96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3798-E4F5-4C45-8394-EC56B6DD07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7E9A-D0D8-4AC2-8AFC-3590AE0380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4D83-27A0-445C-B361-60726367F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6B13-A631-4F7A-8EAB-520B37449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3CC9-E72F-46CC-93DC-4580B6D20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2A72-59F0-4A29-AEE5-549CEE0F8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F0D4-1BA5-4613-8230-C9707EE04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0105-D35C-4779-8AF5-045A5F9A0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4B97-2720-454F-B37A-70BCB6788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57200" y="3808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3808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1040" y="803160"/>
            <a:ext cx="42228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50760" y="803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680" y="7300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1720" y="2728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1063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A38F-5226-44EB-9FC0-AF8C798D5A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391520" y="64771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AE68-378A-4376-8992-08E156221E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503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5980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CSE 40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9144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Object Oriented Design Heuristic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Ch. 2-3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Authur R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lecture slides are copyright (C) Marty Stepp, 2007.  They may not be rehosted, sold, or modified without expressed permission from the author. 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70073-8FAA-4245-BCEC-951DDF9DD63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es' protocols/interfa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Minimize the number of messages in the protocol of a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with too many methods makes it hard to find a common operation, such as merge with another linked list (in Ch. 2 paper, this w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 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mplement a minimal public interface that all classes underst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implem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all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implem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toco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other word for "public interface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9CD6-6191-4348-B809-C60212CD78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methods should be privat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o not put implementation details such as common-code private functions into the public interface of a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o not clutter the public interface of a class with items that users of that class are not able to use or are not interested in us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h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s that both advance the list to the proper linked node to add/remove, then performs the operation.  How should we design thi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57800"/>
            <a:ext cx="91440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3160" indent="-34596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 a common helper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NodeAt(int index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that advances the list to the proper node and returns tha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ke the help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Node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so client code does not see it and cannot call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F77D-DB4B-4E7A-9243-017CDB45B905}" type="slidenum">
              <a:t>11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nimizing public interfa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ways to minimize a class's protoco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a method private unless it needs to be publi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supply getters (not setters) for fields' values if you can get away with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bject with rank and suit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onl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writing a class that wraps up a data structure, don't replicate that data structure's entire API; only expose the parts you absolutely n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c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ss holds a list of cards, but the game only shuffles and draws the top card, so rather than having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Card(int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tc., just hav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uffle(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TopCard(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etho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 If you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a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as an inner list or map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ay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supply just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PlayerByName(String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a Java interface that holds only the needed methods from the class, and then refer to your class by the interface type in client c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4A7C-5F72-4BB9-8BCC-58B97FCBB35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hesion and coupl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he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how complete and closely related things are within your class (a good th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class should capture one and only one key abstr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ad) 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kerG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that holds all the players, holds an array representing the card deck, stores all bets and money, does the logic for each betting round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a better way to do i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807E-5B2A-458A-B208-AF6217C6312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upl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upl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how much classes are connected to / depend on each other (can be a bad th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il coupl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no connection at 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port coupl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one class depends on public interface of an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t coupl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one class uses another's innards legally (C++ friend classes, Java subclasses using protected stuf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vert coupl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using another class's inner details without permission (hard to do this in Jav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3276720"/>
            <a:ext cx="9144000" cy="3585600"/>
            <a:chOff x="0" y="3276720"/>
            <a:chExt cx="9144000" cy="3585600"/>
          </a:xfrm>
        </p:grpSpPr>
        <p:sp>
          <p:nvSpPr>
            <p:cNvPr id="145" name=""/>
            <p:cNvSpPr/>
            <p:nvPr/>
          </p:nvSpPr>
          <p:spPr>
            <a:xfrm>
              <a:off x="0" y="3276720"/>
              <a:ext cx="914400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530532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5960" indent="-345960">
                <a:lnSpc>
                  <a:spcPct val="100000"/>
                </a:lnSpc>
                <a:spcBef>
                  <a:spcPts val="601"/>
                </a:spcBef>
                <a:buClr>
                  <a:srgbClr val="80008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Heuristic 2.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Classes should only exhibit nil or export coupling with other classes, that is, a class should only use operations in the public interface of another class or have nothing to do with that clas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C2AA-F45D-4AE6-8C97-A80F7E0AD363}" type="slidenum">
              <a:t>1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ducing coupl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ways to reduce coupl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e two classes that don't represent a whole abst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coupled class an inner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list and list it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GUI frame and event liste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more unified communication points between subsystems, so that one subsystem does not need to communicate with every piece of another sub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providing convenience method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G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...)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kerG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so that GUI does not need to manually refresh the players, bet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0362-DF01-4F73-B886-B3C334C5C9B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lated data and behavi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related data and behavior in one pla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oids having to change two places when one change is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Should a poker gam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ay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remember whether that player is in the game, what that player's current bet is, etc?  Or should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remember who is in the game,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remember every player's current bets, ..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pin off nonrelated behavior into another class (i.e., noncommunicating behavio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code to do save/load of dictionary for anagram 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5013-8720-4FD7-9185-F273E2F31AE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oles of obje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Be sure the abstractions that you model are classes and not simply the roles objects pl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To model a family tree, should we make classes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th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th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Should we mak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amo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r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to represent each suit of car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Should we mak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Bet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that represents the player who is currently betting first in our card gam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BCB6-91A3-45B2-BF91-32BBA8F20EE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s should be used when you wa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lymorphis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bility to treat different types of objects the same way (can call same method on two objects and get different results, based on their typ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ode sharing (each class implements the methods in the interface in its own w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Java's collection framewor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-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-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era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Java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294F-5EBB-4571-8B4C-C9AC08E1D69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herita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heritance should be used when you wa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de sha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ubclass's object receives all code from superclass's objects; those methods can now be called on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stitut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client code can use subclass's object in any situation that a superclass object was expected, and expect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sults to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Java Sw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uperclass that represents any graphical compon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res common features like size, location, color, and fo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tc. exte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share these featu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ay be substituted for another in a variety of cases, such as being added to a frame on the scre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2C13-521B-47D7-8BB6-9C554352149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pter 2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es and Obje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E302B-F600-41B2-916B-0E9558B98FC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heritance vs. deleg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we wri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that is really just a variation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houl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ant a class that models a sorted linked list, so that when any element is added to the list, it will be added in-order and the list's contents will always be sorted.  Shoul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rtedLinked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're writing shape classes.  Shoul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80" y="3848040"/>
            <a:ext cx="8682120" cy="3006000"/>
            <a:chOff x="4680" y="3848040"/>
            <a:chExt cx="8682120" cy="3006000"/>
          </a:xfrm>
        </p:grpSpPr>
        <p:grpSp>
          <p:nvGrpSpPr>
            <p:cNvPr id="160" name=""/>
            <p:cNvGrpSpPr/>
            <p:nvPr/>
          </p:nvGrpSpPr>
          <p:grpSpPr>
            <a:xfrm>
              <a:off x="4576680" y="4000680"/>
              <a:ext cx="4110120" cy="2269800"/>
              <a:chOff x="4576680" y="4000680"/>
              <a:chExt cx="4110120" cy="2269800"/>
            </a:xfrm>
          </p:grpSpPr>
          <p:sp>
            <p:nvSpPr>
              <p:cNvPr id="161" name=""/>
              <p:cNvSpPr/>
              <p:nvPr/>
            </p:nvSpPr>
            <p:spPr>
              <a:xfrm>
                <a:off x="5023080" y="4026960"/>
                <a:ext cx="61164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26320" y="4031280"/>
                <a:ext cx="754920" cy="84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026320" y="4225320"/>
                <a:ext cx="75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26320" y="4419720"/>
                <a:ext cx="75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37120" y="4438800"/>
                <a:ext cx="63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add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24520" y="4590720"/>
                <a:ext cx="815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remo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50520" y="4000680"/>
                <a:ext cx="4572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Li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5382360" y="4889520"/>
                <a:ext cx="0" cy="8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255640" y="4985640"/>
                <a:ext cx="248400" cy="127440"/>
              </a:xfrm>
              <a:custGeom>
                <a:avLst/>
                <a:gdLst/>
                <a:ahLst/>
                <a:rect l="l" t="t" r="r" b="b"/>
                <a:pathLst>
                  <a:path w="289" h="121">
                    <a:moveTo>
                      <a:pt x="144" y="0"/>
                    </a:moveTo>
                    <a:lnTo>
                      <a:pt x="0" y="120"/>
                    </a:lnTo>
                    <a:lnTo>
                      <a:pt x="288" y="120"/>
                    </a:lnTo>
                    <a:lnTo>
                      <a:pt x="14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82360" y="5106960"/>
                <a:ext cx="0" cy="13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69880" y="5249520"/>
                <a:ext cx="61128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073120" y="5253840"/>
                <a:ext cx="611640" cy="1016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73120" y="5447880"/>
                <a:ext cx="61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73120" y="5642280"/>
                <a:ext cx="61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49800" y="5214960"/>
                <a:ext cx="5943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892920" y="4330800"/>
                <a:ext cx="632160" cy="12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6160" y="4335120"/>
                <a:ext cx="632160" cy="1438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96160" y="4698360"/>
                <a:ext cx="63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25680" y="5038200"/>
                <a:ext cx="64152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pus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pop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top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77520" y="4397400"/>
                <a:ext cx="5943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965000" y="4459680"/>
                <a:ext cx="632160" cy="75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989120" y="5122800"/>
                <a:ext cx="5472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dd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71840" y="4937040"/>
                <a:ext cx="655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rem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97480" y="4459680"/>
                <a:ext cx="4572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Li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557120" y="4867200"/>
                <a:ext cx="38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96160" y="4940280"/>
                <a:ext cx="63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59840" y="4559040"/>
                <a:ext cx="310320" cy="524880"/>
              </a:xfrm>
              <a:custGeom>
                <a:avLst/>
                <a:gdLst/>
                <a:ahLst/>
                <a:rect l="l" t="t" r="r" b="b"/>
                <a:pathLst>
                  <a:path w="361" h="497">
                    <a:moveTo>
                      <a:pt x="0" y="312"/>
                    </a:moveTo>
                    <a:lnTo>
                      <a:pt x="0" y="208"/>
                    </a:lnTo>
                    <a:lnTo>
                      <a:pt x="8" y="192"/>
                    </a:lnTo>
                    <a:lnTo>
                      <a:pt x="16" y="192"/>
                    </a:lnTo>
                    <a:lnTo>
                      <a:pt x="40" y="192"/>
                    </a:lnTo>
                    <a:lnTo>
                      <a:pt x="56" y="192"/>
                    </a:lnTo>
                    <a:lnTo>
                      <a:pt x="80" y="184"/>
                    </a:lnTo>
                    <a:lnTo>
                      <a:pt x="96" y="168"/>
                    </a:lnTo>
                    <a:lnTo>
                      <a:pt x="112" y="152"/>
                    </a:lnTo>
                    <a:lnTo>
                      <a:pt x="136" y="136"/>
                    </a:lnTo>
                    <a:lnTo>
                      <a:pt x="168" y="120"/>
                    </a:lnTo>
                    <a:lnTo>
                      <a:pt x="192" y="104"/>
                    </a:lnTo>
                    <a:lnTo>
                      <a:pt x="216" y="80"/>
                    </a:lnTo>
                    <a:lnTo>
                      <a:pt x="232" y="64"/>
                    </a:lnTo>
                    <a:lnTo>
                      <a:pt x="248" y="48"/>
                    </a:lnTo>
                    <a:lnTo>
                      <a:pt x="256" y="24"/>
                    </a:lnTo>
                    <a:lnTo>
                      <a:pt x="272" y="8"/>
                    </a:lnTo>
                    <a:lnTo>
                      <a:pt x="280" y="0"/>
                    </a:lnTo>
                    <a:lnTo>
                      <a:pt x="296" y="0"/>
                    </a:lnTo>
                    <a:lnTo>
                      <a:pt x="296" y="24"/>
                    </a:lnTo>
                    <a:lnTo>
                      <a:pt x="304" y="40"/>
                    </a:lnTo>
                    <a:lnTo>
                      <a:pt x="296" y="64"/>
                    </a:lnTo>
                    <a:lnTo>
                      <a:pt x="288" y="88"/>
                    </a:lnTo>
                    <a:lnTo>
                      <a:pt x="280" y="104"/>
                    </a:lnTo>
                    <a:lnTo>
                      <a:pt x="264" y="120"/>
                    </a:lnTo>
                    <a:lnTo>
                      <a:pt x="256" y="144"/>
                    </a:lnTo>
                    <a:lnTo>
                      <a:pt x="256" y="168"/>
                    </a:lnTo>
                    <a:lnTo>
                      <a:pt x="272" y="176"/>
                    </a:lnTo>
                    <a:lnTo>
                      <a:pt x="296" y="184"/>
                    </a:lnTo>
                    <a:lnTo>
                      <a:pt x="312" y="184"/>
                    </a:lnTo>
                    <a:lnTo>
                      <a:pt x="336" y="192"/>
                    </a:lnTo>
                    <a:lnTo>
                      <a:pt x="344" y="192"/>
                    </a:lnTo>
                    <a:lnTo>
                      <a:pt x="352" y="200"/>
                    </a:lnTo>
                    <a:lnTo>
                      <a:pt x="352" y="224"/>
                    </a:lnTo>
                    <a:lnTo>
                      <a:pt x="352" y="240"/>
                    </a:lnTo>
                    <a:lnTo>
                      <a:pt x="352" y="256"/>
                    </a:lnTo>
                    <a:lnTo>
                      <a:pt x="344" y="272"/>
                    </a:lnTo>
                    <a:lnTo>
                      <a:pt x="352" y="296"/>
                    </a:lnTo>
                    <a:lnTo>
                      <a:pt x="360" y="312"/>
                    </a:lnTo>
                    <a:lnTo>
                      <a:pt x="352" y="328"/>
                    </a:lnTo>
                    <a:lnTo>
                      <a:pt x="352" y="344"/>
                    </a:lnTo>
                    <a:lnTo>
                      <a:pt x="344" y="352"/>
                    </a:lnTo>
                    <a:lnTo>
                      <a:pt x="344" y="360"/>
                    </a:lnTo>
                    <a:lnTo>
                      <a:pt x="344" y="376"/>
                    </a:lnTo>
                    <a:lnTo>
                      <a:pt x="344" y="392"/>
                    </a:lnTo>
                    <a:lnTo>
                      <a:pt x="344" y="400"/>
                    </a:lnTo>
                    <a:lnTo>
                      <a:pt x="344" y="416"/>
                    </a:lnTo>
                    <a:lnTo>
                      <a:pt x="336" y="424"/>
                    </a:lnTo>
                    <a:lnTo>
                      <a:pt x="328" y="440"/>
                    </a:lnTo>
                    <a:lnTo>
                      <a:pt x="328" y="456"/>
                    </a:lnTo>
                    <a:lnTo>
                      <a:pt x="328" y="472"/>
                    </a:lnTo>
                    <a:lnTo>
                      <a:pt x="320" y="480"/>
                    </a:lnTo>
                    <a:lnTo>
                      <a:pt x="304" y="488"/>
                    </a:lnTo>
                    <a:lnTo>
                      <a:pt x="280" y="496"/>
                    </a:lnTo>
                    <a:lnTo>
                      <a:pt x="248" y="496"/>
                    </a:lnTo>
                    <a:lnTo>
                      <a:pt x="232" y="496"/>
                    </a:lnTo>
                    <a:lnTo>
                      <a:pt x="208" y="496"/>
                    </a:lnTo>
                    <a:lnTo>
                      <a:pt x="176" y="488"/>
                    </a:lnTo>
                    <a:lnTo>
                      <a:pt x="144" y="480"/>
                    </a:lnTo>
                    <a:lnTo>
                      <a:pt x="112" y="472"/>
                    </a:lnTo>
                    <a:lnTo>
                      <a:pt x="80" y="464"/>
                    </a:lnTo>
                    <a:lnTo>
                      <a:pt x="64" y="456"/>
                    </a:lnTo>
                    <a:lnTo>
                      <a:pt x="48" y="448"/>
                    </a:lnTo>
                    <a:lnTo>
                      <a:pt x="32" y="440"/>
                    </a:lnTo>
                    <a:lnTo>
                      <a:pt x="16" y="440"/>
                    </a:lnTo>
                    <a:lnTo>
                      <a:pt x="8" y="432"/>
                    </a:lnTo>
                    <a:lnTo>
                      <a:pt x="0" y="4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52080" y="4702680"/>
                <a:ext cx="35280" cy="3492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16" y="0"/>
                    </a:moveTo>
                    <a:lnTo>
                      <a:pt x="8" y="16"/>
                    </a:lnTo>
                    <a:lnTo>
                      <a:pt x="0" y="24"/>
                    </a:lnTo>
                    <a:lnTo>
                      <a:pt x="8" y="24"/>
                    </a:lnTo>
                    <a:lnTo>
                      <a:pt x="40" y="3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679800" y="4575960"/>
                <a:ext cx="21240" cy="26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4"/>
                    </a:moveTo>
                    <a:lnTo>
                      <a:pt x="16" y="24"/>
                    </a:lnTo>
                    <a:lnTo>
                      <a:pt x="24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28040" y="481248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40" y="0"/>
                    </a:moveTo>
                    <a:lnTo>
                      <a:pt x="32" y="16"/>
                    </a:lnTo>
                    <a:lnTo>
                      <a:pt x="24" y="24"/>
                    </a:lnTo>
                    <a:lnTo>
                      <a:pt x="16" y="24"/>
                    </a:lnTo>
                    <a:lnTo>
                      <a:pt x="0" y="16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20840" y="4905360"/>
                <a:ext cx="41760" cy="1764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40" y="16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13640" y="49982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8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79800" y="5065920"/>
                <a:ext cx="41760" cy="936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32" y="8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467040" y="5006520"/>
                <a:ext cx="34560" cy="936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16" y="8"/>
                    </a:lnTo>
                    <a:lnTo>
                      <a:pt x="4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07520" y="4778640"/>
                <a:ext cx="55440" cy="9000"/>
              </a:xfrm>
              <a:custGeom>
                <a:avLst/>
                <a:gdLst/>
                <a:ahLst/>
                <a:rect l="l" t="t" r="r" b="b"/>
                <a:pathLst>
                  <a:path w="65" h="9">
                    <a:moveTo>
                      <a:pt x="64" y="0"/>
                    </a:move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0" y="8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84600" y="4753440"/>
                <a:ext cx="89640" cy="288000"/>
              </a:xfrm>
              <a:custGeom>
                <a:avLst/>
                <a:gdLst/>
                <a:ahLst/>
                <a:rect l="l" t="t" r="r" b="b"/>
                <a:pathLst>
                  <a:path w="105" h="273">
                    <a:moveTo>
                      <a:pt x="104" y="0"/>
                    </a:moveTo>
                    <a:lnTo>
                      <a:pt x="96" y="64"/>
                    </a:lnTo>
                    <a:lnTo>
                      <a:pt x="88" y="136"/>
                    </a:lnTo>
                    <a:lnTo>
                      <a:pt x="96" y="216"/>
                    </a:lnTo>
                    <a:lnTo>
                      <a:pt x="104" y="272"/>
                    </a:lnTo>
                    <a:lnTo>
                      <a:pt x="24" y="272"/>
                    </a:lnTo>
                    <a:lnTo>
                      <a:pt x="8" y="216"/>
                    </a:lnTo>
                    <a:lnTo>
                      <a:pt x="0" y="136"/>
                    </a:lnTo>
                    <a:lnTo>
                      <a:pt x="0" y="56"/>
                    </a:lnTo>
                    <a:lnTo>
                      <a:pt x="16" y="0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51920" y="4710960"/>
                <a:ext cx="309960" cy="448920"/>
              </a:xfrm>
              <a:custGeom>
                <a:avLst/>
                <a:gdLst/>
                <a:ahLst/>
                <a:rect l="l" t="t" r="r" b="b"/>
                <a:pathLst>
                  <a:path w="361" h="425">
                    <a:moveTo>
                      <a:pt x="0" y="160"/>
                    </a:moveTo>
                    <a:lnTo>
                      <a:pt x="0" y="248"/>
                    </a:lnTo>
                    <a:lnTo>
                      <a:pt x="16" y="264"/>
                    </a:lnTo>
                    <a:lnTo>
                      <a:pt x="40" y="264"/>
                    </a:lnTo>
                    <a:lnTo>
                      <a:pt x="56" y="264"/>
                    </a:lnTo>
                    <a:lnTo>
                      <a:pt x="80" y="272"/>
                    </a:lnTo>
                    <a:lnTo>
                      <a:pt x="96" y="280"/>
                    </a:lnTo>
                    <a:lnTo>
                      <a:pt x="112" y="296"/>
                    </a:lnTo>
                    <a:lnTo>
                      <a:pt x="136" y="312"/>
                    </a:lnTo>
                    <a:lnTo>
                      <a:pt x="168" y="320"/>
                    </a:lnTo>
                    <a:lnTo>
                      <a:pt x="192" y="344"/>
                    </a:lnTo>
                    <a:lnTo>
                      <a:pt x="216" y="360"/>
                    </a:lnTo>
                    <a:lnTo>
                      <a:pt x="232" y="376"/>
                    </a:lnTo>
                    <a:lnTo>
                      <a:pt x="248" y="384"/>
                    </a:lnTo>
                    <a:lnTo>
                      <a:pt x="256" y="408"/>
                    </a:lnTo>
                    <a:lnTo>
                      <a:pt x="272" y="424"/>
                    </a:lnTo>
                    <a:lnTo>
                      <a:pt x="280" y="424"/>
                    </a:lnTo>
                    <a:lnTo>
                      <a:pt x="296" y="424"/>
                    </a:lnTo>
                    <a:lnTo>
                      <a:pt x="296" y="408"/>
                    </a:lnTo>
                    <a:lnTo>
                      <a:pt x="304" y="392"/>
                    </a:lnTo>
                    <a:lnTo>
                      <a:pt x="296" y="368"/>
                    </a:lnTo>
                    <a:lnTo>
                      <a:pt x="288" y="352"/>
                    </a:lnTo>
                    <a:lnTo>
                      <a:pt x="280" y="336"/>
                    </a:lnTo>
                    <a:lnTo>
                      <a:pt x="264" y="328"/>
                    </a:lnTo>
                    <a:lnTo>
                      <a:pt x="256" y="304"/>
                    </a:lnTo>
                    <a:lnTo>
                      <a:pt x="256" y="288"/>
                    </a:lnTo>
                    <a:lnTo>
                      <a:pt x="272" y="280"/>
                    </a:lnTo>
                    <a:lnTo>
                      <a:pt x="296" y="272"/>
                    </a:lnTo>
                    <a:lnTo>
                      <a:pt x="312" y="272"/>
                    </a:lnTo>
                    <a:lnTo>
                      <a:pt x="328" y="264"/>
                    </a:lnTo>
                    <a:lnTo>
                      <a:pt x="344" y="264"/>
                    </a:lnTo>
                    <a:lnTo>
                      <a:pt x="352" y="256"/>
                    </a:lnTo>
                    <a:lnTo>
                      <a:pt x="352" y="240"/>
                    </a:lnTo>
                    <a:lnTo>
                      <a:pt x="352" y="224"/>
                    </a:lnTo>
                    <a:lnTo>
                      <a:pt x="352" y="208"/>
                    </a:lnTo>
                    <a:lnTo>
                      <a:pt x="344" y="200"/>
                    </a:lnTo>
                    <a:lnTo>
                      <a:pt x="352" y="176"/>
                    </a:lnTo>
                    <a:lnTo>
                      <a:pt x="360" y="160"/>
                    </a:lnTo>
                    <a:lnTo>
                      <a:pt x="352" y="144"/>
                    </a:lnTo>
                    <a:lnTo>
                      <a:pt x="352" y="128"/>
                    </a:lnTo>
                    <a:lnTo>
                      <a:pt x="344" y="128"/>
                    </a:lnTo>
                    <a:lnTo>
                      <a:pt x="336" y="120"/>
                    </a:lnTo>
                    <a:lnTo>
                      <a:pt x="344" y="104"/>
                    </a:lnTo>
                    <a:lnTo>
                      <a:pt x="344" y="96"/>
                    </a:lnTo>
                    <a:lnTo>
                      <a:pt x="344" y="80"/>
                    </a:lnTo>
                    <a:lnTo>
                      <a:pt x="344" y="72"/>
                    </a:lnTo>
                    <a:lnTo>
                      <a:pt x="336" y="64"/>
                    </a:lnTo>
                    <a:lnTo>
                      <a:pt x="328" y="56"/>
                    </a:lnTo>
                    <a:lnTo>
                      <a:pt x="328" y="40"/>
                    </a:lnTo>
                    <a:lnTo>
                      <a:pt x="328" y="24"/>
                    </a:lnTo>
                    <a:lnTo>
                      <a:pt x="312" y="16"/>
                    </a:lnTo>
                    <a:lnTo>
                      <a:pt x="304" y="8"/>
                    </a:lnTo>
                    <a:lnTo>
                      <a:pt x="280" y="0"/>
                    </a:lnTo>
                    <a:lnTo>
                      <a:pt x="248" y="0"/>
                    </a:lnTo>
                    <a:lnTo>
                      <a:pt x="232" y="0"/>
                    </a:lnTo>
                    <a:lnTo>
                      <a:pt x="208" y="8"/>
                    </a:lnTo>
                    <a:lnTo>
                      <a:pt x="176" y="8"/>
                    </a:lnTo>
                    <a:lnTo>
                      <a:pt x="144" y="16"/>
                    </a:lnTo>
                    <a:lnTo>
                      <a:pt x="112" y="24"/>
                    </a:lnTo>
                    <a:lnTo>
                      <a:pt x="80" y="32"/>
                    </a:lnTo>
                    <a:lnTo>
                      <a:pt x="64" y="40"/>
                    </a:lnTo>
                    <a:lnTo>
                      <a:pt x="48" y="48"/>
                    </a:lnTo>
                    <a:lnTo>
                      <a:pt x="32" y="48"/>
                    </a:lnTo>
                    <a:lnTo>
                      <a:pt x="8" y="56"/>
                    </a:lnTo>
                    <a:lnTo>
                      <a:pt x="0" y="72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51720" y="5006520"/>
                <a:ext cx="27360" cy="3492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2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32" y="0"/>
                    </a:lnTo>
                    <a:lnTo>
                      <a:pt x="16" y="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72600" y="5124960"/>
                <a:ext cx="21240" cy="26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16" y="8"/>
                    </a:lnTo>
                    <a:lnTo>
                      <a:pt x="24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72600" y="4727880"/>
                <a:ext cx="41760" cy="720"/>
              </a:xfrm>
              <a:custGeom>
                <a:avLst/>
                <a:gdLst/>
                <a:ahLst/>
                <a:rect l="l" t="t" r="r" b="b"/>
                <a:pathLst>
                  <a:path w="49" h="1">
                    <a:moveTo>
                      <a:pt x="48" y="0"/>
                    </a:moveTo>
                    <a:lnTo>
                      <a:pt x="32" y="0"/>
                    </a:lnTo>
                    <a:lnTo>
                      <a:pt x="24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58760" y="4770000"/>
                <a:ext cx="34560" cy="936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8"/>
                    </a:moveTo>
                    <a:lnTo>
                      <a:pt x="16" y="0"/>
                    </a:lnTo>
                    <a:lnTo>
                      <a:pt x="4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76680" y="4761720"/>
                <a:ext cx="90000" cy="245880"/>
              </a:xfrm>
              <a:custGeom>
                <a:avLst/>
                <a:gdLst/>
                <a:ahLst/>
                <a:rect l="l" t="t" r="r" b="b"/>
                <a:pathLst>
                  <a:path w="105" h="233">
                    <a:moveTo>
                      <a:pt x="104" y="0"/>
                    </a:moveTo>
                    <a:lnTo>
                      <a:pt x="96" y="56"/>
                    </a:lnTo>
                    <a:lnTo>
                      <a:pt x="88" y="120"/>
                    </a:lnTo>
                    <a:lnTo>
                      <a:pt x="96" y="184"/>
                    </a:lnTo>
                    <a:lnTo>
                      <a:pt x="104" y="232"/>
                    </a:lnTo>
                    <a:lnTo>
                      <a:pt x="24" y="232"/>
                    </a:lnTo>
                    <a:lnTo>
                      <a:pt x="0" y="184"/>
                    </a:lnTo>
                    <a:lnTo>
                      <a:pt x="0" y="120"/>
                    </a:lnTo>
                    <a:lnTo>
                      <a:pt x="0" y="48"/>
                    </a:lnTo>
                    <a:lnTo>
                      <a:pt x="16" y="0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10920" y="5592960"/>
                <a:ext cx="64152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pus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pop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top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7968960" y="4464000"/>
                <a:ext cx="717840" cy="938520"/>
                <a:chOff x="7968960" y="4464000"/>
                <a:chExt cx="717840" cy="938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968960" y="4464000"/>
                  <a:ext cx="717840" cy="93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968960" y="4920120"/>
                  <a:ext cx="717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968960" y="4728600"/>
                  <a:ext cx="717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4680" y="3848040"/>
              <a:ext cx="4495680" cy="30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n all cases, n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We do not want the user to be able to arbitrarily call add or remove on the Stack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The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ortedLinkedList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cannot substitute for a normal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kedList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(result of an add differs), so it should not extend i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oth should delegate to an inner list data fiel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D642-D9AB-49F2-A8A2-C04D3F714A85}" type="slidenum">
              <a:t>20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ositioning common co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re designing our collection framework, and we want the ability to sort a list of any type.  The list could be a linked list or an array list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oth implement the 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but they currently have no common superclass.  Where should we put the sorting functionalit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159080"/>
            <a:ext cx="9144000" cy="14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new abstract super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static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 a new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lectionUtil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This is what Java's collection framework doe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16BA-4C97-40D2-98C1-7857D39282F5}" type="slidenum">
              <a:t>21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face, inheritance ex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ant it so that some objects can be allowed to be exported on the network, and some objects can be allowed to be stored local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types of objects would export or store themselves in the same w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object can be exportable, storable, or bo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me objects also can be cloned, and each type of object clones itself in a different w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stly, some objects are output buffers and should implement common output buffer that is always done the same w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combination of superclasses, interfaces and delegation should be used in this syste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343400"/>
            <a:ext cx="914400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888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 methodless interfaces nam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orta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ra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; classes that can be used in these ways implement these "tagging" interfaces (JDK 1.5+ supports attributes inst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legate task of exporting and storing to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or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r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lass whose methods will accept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orta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 interfac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nea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hat has a metho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ne(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hat the class must implement to specify how to clone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 a superclass (abstract?) nam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Buff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nd extend it when a class wants to be an output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2C0B-CC30-48C1-80B1-538EE06FE1EF}" type="slidenum">
              <a:t>22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pter 3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polog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B5EF-8C37-472F-8D69-880274C2B83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tion vs. object-oriente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difference between an "action-oriented" and "object-oriented" applic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-orien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al: functional decom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sy to find data dependencies by looking at function hea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easy to find functional dependencies by looking at pieces of data (see fig 3.3, p3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-orien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decomposition, decentralized funct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in front of coder's mind, functionality in 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6558-BEE5-4411-94A5-EFB12BBDA6A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n action-oriented work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en does it work better to use an action-oriented style for application build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y put the data in the same file with the functions on it; essentially makes a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why not just make it a class?  forces programmer to use good conven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ces coders to stick with good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8699-78C0-41F1-9F7B-FE3C078CD89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"God class" proble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are "god classes?"  What is wrong with having a "god class" in your syst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362320"/>
            <a:ext cx="9144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god clas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a class that hoards too much of the data or functionality of a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blem: not modul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euristic 3.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Distribute system intelligence horizontally as uniformly as possible, that is, the top-level classes in a design should share the work uniform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euristic 3.2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 not create god classes/objects in your system.  Be very suspicious of a class whose name contains Driver, Manager, System, or Sub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3712-853E-4071-A645-3F3D814D7C5C}" type="slidenum">
              <a:t>26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orms of god clas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ehavioral god cla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holds too much log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has a name ending with "System", "Manag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ata god cla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holds too much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has a bunch of access / search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14600" y="4956120"/>
            <a:ext cx="3846600" cy="1901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2225520"/>
            <a:ext cx="6105240" cy="166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62FB-2475-4A00-916C-CEF4EEBD0F3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iminating god clas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3.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Beware of classes that have many accessor methods defined in their public interface.  Having many implies that related data and behavior are not being kept in one pl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ion of "policy" behavior should be in the place where that policy is enforced / enac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ts of accessors are okay on a class with important data that needs to be shown by a G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28800" y="4662360"/>
            <a:ext cx="5486400" cy="21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9A6D-D880-4E53-85E9-0302BC02197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"Controller" clas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is a "controller" class?  Is it good or ba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8288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roller clas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 a class that only contains behavio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ight contain some fields, but they are superfluo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ually grabs state from other classes and acts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ften has an "-er" or "-or" verb phrase as its name, such a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Load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wordChec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milar to a behavioral god class on a smaller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on right below has a controller clas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checking of prereqs could be done by course off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23880" y="4484520"/>
            <a:ext cx="6050160" cy="23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1572-69F8-4A7F-8869-C4610DF5BCEB}" type="slidenum">
              <a:t>29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O design pyrami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295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43400" y="5537160"/>
            <a:ext cx="411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pports hardware/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mapping (</a:t>
            </a:r>
            <a:r>
              <a:rPr b="1" i="1" lang="en-US" sz="1600" spc="-1" strike="noStrike">
                <a:solidFill>
                  <a:srgbClr val="ac0056"/>
                </a:solidFill>
                <a:latin typeface="Verdana"/>
              </a:rPr>
              <a:t>packag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546440"/>
            <a:ext cx="411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ass definitions, hierarchi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izations (</a:t>
            </a:r>
            <a:r>
              <a:rPr b="1" i="1" lang="en-US" sz="1600" spc="-1" strike="noStrike">
                <a:solidFill>
                  <a:srgbClr val="ac0056"/>
                </a:solidFill>
                <a:latin typeface="Verdana"/>
              </a:rPr>
              <a:t>modul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556080"/>
            <a:ext cx="411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rnal and internal interfac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1600" spc="-1" strike="noStrike">
                <a:solidFill>
                  <a:srgbClr val="ac0056"/>
                </a:solidFill>
                <a:latin typeface="Verdana"/>
              </a:rPr>
              <a:t>module coupl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61880" y="2590920"/>
            <a:ext cx="404856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 structure &amp; algorithm design f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tributes &amp; operations (</a:t>
            </a:r>
            <a:r>
              <a:rPr b="1" i="1" lang="en-US" sz="1600" spc="-1" strike="noStrike">
                <a:solidFill>
                  <a:srgbClr val="ac0056"/>
                </a:solidFill>
                <a:latin typeface="Verdana"/>
              </a:rPr>
              <a:t>detailed desig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610480" y="2514600"/>
            <a:ext cx="379080" cy="3657600"/>
            <a:chOff x="8610480" y="2514600"/>
            <a:chExt cx="379080" cy="3657600"/>
          </a:xfrm>
        </p:grpSpPr>
        <p:sp>
          <p:nvSpPr>
            <p:cNvPr id="110" name=""/>
            <p:cNvSpPr/>
            <p:nvPr/>
          </p:nvSpPr>
          <p:spPr>
            <a:xfrm flipV="1">
              <a:off x="8610480" y="2514600"/>
              <a:ext cx="0" cy="3657600"/>
            </a:xfrm>
            <a:prstGeom prst="line">
              <a:avLst/>
            </a:prstGeom>
            <a:ln w="57240">
              <a:solidFill>
                <a:srgbClr val="ac005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7828920" y="3974400"/>
              <a:ext cx="19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creasing det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C555-4838-42FC-BA97-BE99D37C468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ntrollers, cont'd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 with controller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(entity) and behavior (control) should be together, not in separate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ler classes are basically the action-oriented paradig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becomes difficult to ask a piece of data, "what functionality depends on you?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real world, people dislike controllers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crowave, radio, car have data and behavior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 / tape has control separate because controller is expen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bout a TV?  It has remote control separate; 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cal convenience, price, dependency; you never want one without the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4DCE-C146-41A5-A761-65EF40D58CB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n-communicating behavi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3.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Beware of classes that have too much non-communicating behavior, that is, methods that operate on a proper subset of the data members of a class.  God classes often exhibit much non-communicating behav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7FDE-9048-44EA-9C9D-6D927E42B2D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del and 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sses in your system that are related to the internal representation of the state of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ten part of the model is connected to file(s) or datab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 (card game)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c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 (bank system)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r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sses in your system that display the state of the model to the u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rally, this is your GUI (could also be a text U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ould not contain crucial application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erent views can represent the same data in different w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bar chart vs. pie cha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kerPan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nkApp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864F-2DDF-42A3-BC44-9E449AC897B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del-view-controll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-view-controller (MVC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ommon design paradigm for graphic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sses that connect model and 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s how user interface reacts to user input (eve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messages from view (where events come fr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s messages to model (tells what data to displ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part of view (see lef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95680" y="4343400"/>
            <a:ext cx="4647960" cy="2370240"/>
            <a:chOff x="4495680" y="4343400"/>
            <a:chExt cx="4647960" cy="2370240"/>
          </a:xfrm>
        </p:grpSpPr>
        <p:sp>
          <p:nvSpPr>
            <p:cNvPr id="244" name=""/>
            <p:cNvSpPr/>
            <p:nvPr/>
          </p:nvSpPr>
          <p:spPr>
            <a:xfrm>
              <a:off x="4495680" y="4835520"/>
              <a:ext cx="1220040" cy="3682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13040" y="6376320"/>
              <a:ext cx="1218960" cy="33732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23600" y="4835520"/>
              <a:ext cx="1220040" cy="3682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15720" y="4999680"/>
              <a:ext cx="2149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051680" y="5218560"/>
              <a:ext cx="1510920" cy="1157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192280" y="5218200"/>
              <a:ext cx="1568520" cy="1157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8800" y="4343400"/>
              <a:ext cx="127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data for rend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33080" y="5665320"/>
              <a:ext cx="127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ev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60080" y="5719680"/>
              <a:ext cx="133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upd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52280" y="5181480"/>
            <a:ext cx="3810240" cy="1524240"/>
            <a:chOff x="152280" y="5181480"/>
            <a:chExt cx="3810240" cy="1524240"/>
          </a:xfrm>
        </p:grpSpPr>
        <p:sp>
          <p:nvSpPr>
            <p:cNvPr id="254" name=""/>
            <p:cNvSpPr/>
            <p:nvPr/>
          </p:nvSpPr>
          <p:spPr>
            <a:xfrm>
              <a:off x="152280" y="5761080"/>
              <a:ext cx="973080" cy="36504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41440" y="5181480"/>
              <a:ext cx="1621080" cy="15242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5440" y="6035760"/>
              <a:ext cx="973080" cy="36504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7" name=""/>
            <p:cNvCxnSpPr>
              <a:stCxn id="254" idx="6"/>
              <a:endCxn id="255" idx="1"/>
            </p:cNvCxnSpPr>
            <p:nvPr/>
          </p:nvCxnSpPr>
          <p:spPr>
            <a:xfrm>
              <a:off x="1125360" y="5943240"/>
              <a:ext cx="121680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F003-19A8-45C9-9A36-72E8A2031F0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vantages of MV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s coup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s complex user interface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controllers may be defined based on desired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s to part can affect others without requiring the changed object to know details of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s cohe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the view is concerned with pixels and screen-based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views can be added without changing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the feel (Controller) without changing the look (view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s re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model can be represented in several w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225E-1E37-44B5-BF01-A826CD9B457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del-view sepa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3.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n applications that consist of an object-oriented model interacting with a user interface, the model should never be dependent on the interface.  The interface should be dependent on the mod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ad) example: Making a system with lots of classes that know how to render themselves; the GUI just cal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rd.draw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ck.draw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ayer.draw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UI should render them, not delegat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n't this violate Heuristic 2.9: Keep related data and behavior in one place?  Shouldn't things know how to draw themselv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54864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behavior of drawing things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te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o the GUI, because it is part of the GUI's appearance.  So it belongs in the GUI classes.  Having things draw themselves locks them in to one re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84FC-70BF-45F8-B11E-717239A358C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ing the real worl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3.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Model the real world whenever pos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of room heat: fig 3.7 - 3.9, p37-3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 the room as a way to decide if heat is needed, and to encapsulate sens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133720" y="2590920"/>
            <a:ext cx="4495680" cy="4266720"/>
            <a:chOff x="2133720" y="2590920"/>
            <a:chExt cx="4495680" cy="426672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2133720" y="2590920"/>
              <a:ext cx="4495680" cy="121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2133720" y="3841200"/>
              <a:ext cx="4209840" cy="152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2133720" y="5366520"/>
              <a:ext cx="4067280" cy="14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A92D-31D4-4CC1-8CD8-7514457A8C6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liferation of clas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is the "proliferation of classes" probl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752480"/>
            <a:ext cx="9144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liferation of class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When object-oriented design leads us to design a system that has too many classes that are too small in size and scope, making the system hard to use, debug, and main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euristic 3.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iminate irrelevant classes from your desig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rrelevant classes often hav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euristic 3.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iminate classes that are outside th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n't model behavior of a blender just because you sell blenders; don't model a user just because the system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euristic 3.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 not turn an operation into a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 suspicious of any class whose name is a verb, especially those that have only one piece of meaningful behavior.  Ask if that piece of behavior needs to be migrated to some existing or undiscovered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7149-7574-4FA1-A372-FE25D6EC1923}" type="slidenum">
              <a:t>37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gent clas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is an "agent class?"  Is it good or bad to have them in your syst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362320"/>
            <a:ext cx="9144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gent clas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a class that acts as a middle-man to help two or more other classes communic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: Farmer class to link Cow and Milk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: Librarian class to link Book and Shelf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euristic 3.1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Agent classes are often placed in the analysis model of an application.  During design time, many agents are found to be irrelevant and should be rem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defines whether an agent is relev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relevant agent must have some other behavior beyond simply being a middle-man; it must have some useful purpose of its own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156440" y="0"/>
            <a:ext cx="1987560" cy="13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4358-029E-4FB4-9922-D9A301AF6E16}" type="slidenum">
              <a:t>38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s the controller relevan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model-view-controller paradigm, the controller acts largely as an ag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it be t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1760" y="2436840"/>
            <a:ext cx="7543800" cy="4361400"/>
            <a:chOff x="761760" y="2436840"/>
            <a:chExt cx="7543800" cy="4361400"/>
          </a:xfrm>
        </p:grpSpPr>
        <p:sp>
          <p:nvSpPr>
            <p:cNvPr id="279" name=""/>
            <p:cNvSpPr/>
            <p:nvPr/>
          </p:nvSpPr>
          <p:spPr>
            <a:xfrm>
              <a:off x="4876560" y="4037040"/>
              <a:ext cx="1214640" cy="732960"/>
            </a:xfrm>
            <a:custGeom>
              <a:avLst/>
              <a:gdLst>
                <a:gd name="textAreaLeft" fmla="*/ 212400 w 1214640"/>
                <a:gd name="textAreaRight" fmla="*/ 880560 w 1214640"/>
                <a:gd name="textAreaTop" fmla="*/ 97920 h 732960"/>
                <a:gd name="textAreaBottom" fmla="*/ 635040 h 73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2660040" y="3720960"/>
              <a:ext cx="2978640" cy="2601720"/>
              <a:chOff x="2660040" y="3720960"/>
              <a:chExt cx="2978640" cy="2601720"/>
            </a:xfrm>
          </p:grpSpPr>
          <p:sp>
            <p:nvSpPr>
              <p:cNvPr id="281" name=""/>
              <p:cNvSpPr/>
              <p:nvPr/>
            </p:nvSpPr>
            <p:spPr>
              <a:xfrm flipH="1">
                <a:off x="3429000" y="5713200"/>
                <a:ext cx="2209680" cy="609480"/>
              </a:xfrm>
              <a:prstGeom prst="leftArrow">
                <a:avLst>
                  <a:gd name="adj1" fmla="val 50000"/>
                  <a:gd name="adj2" fmla="val 90638"/>
                </a:avLst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7171200">
                <a:off x="2613240" y="4092840"/>
                <a:ext cx="1199880" cy="592200"/>
              </a:xfrm>
              <a:prstGeom prst="leftArrow">
                <a:avLst>
                  <a:gd name="adj1" fmla="val 50000"/>
                  <a:gd name="adj2" fmla="val 50653"/>
                </a:avLst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61760" y="4951440"/>
              <a:ext cx="2667240" cy="1523520"/>
            </a:xfrm>
            <a:prstGeom prst="roundRect">
              <a:avLst>
                <a:gd name="adj" fmla="val 29005"/>
              </a:avLst>
            </a:prstGeom>
            <a:solidFill>
              <a:srgbClr val="777777">
                <a:alpha val="90000"/>
              </a:srgbClr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Vie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model repre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76360" y="2436840"/>
              <a:ext cx="2667240" cy="1523520"/>
            </a:xfrm>
            <a:prstGeom prst="roundRect">
              <a:avLst>
                <a:gd name="adj" fmla="val 29005"/>
              </a:avLst>
            </a:prstGeom>
            <a:solidFill>
              <a:srgbClr val="777777">
                <a:alpha val="90000"/>
              </a:srgbClr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business log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38680" y="4951440"/>
              <a:ext cx="2666880" cy="1523520"/>
            </a:xfrm>
            <a:prstGeom prst="roundRect">
              <a:avLst>
                <a:gd name="adj" fmla="val 29005"/>
              </a:avLst>
            </a:prstGeom>
            <a:solidFill>
              <a:srgbClr val="777777">
                <a:alpha val="90000"/>
              </a:srgbClr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ontroll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user inte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29000" y="4037040"/>
              <a:ext cx="10666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Upd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7600" y="609444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User</a:t>
              </a:r>
              <a:br>
                <a:rPr sz="2000"/>
              </a:b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429000" y="5103720"/>
              <a:ext cx="2209680" cy="609120"/>
              <a:chOff x="3429000" y="5103720"/>
              <a:chExt cx="2209680" cy="609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429000" y="5103720"/>
                <a:ext cx="2209680" cy="609120"/>
              </a:xfrm>
              <a:prstGeom prst="leftArrow">
                <a:avLst>
                  <a:gd name="adj1" fmla="val 50000"/>
                  <a:gd name="adj2" fmla="val 90691"/>
                </a:avLst>
              </a:prstGeom>
              <a:solidFill>
                <a:srgbClr val="ffcf01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981080" y="3046320"/>
              <a:ext cx="1295280" cy="19047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cf01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943600" y="3046320"/>
              <a:ext cx="1295280" cy="190476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cf01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24280" y="4570200"/>
              <a:ext cx="1066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Change</a:t>
              </a:r>
              <a:br>
                <a:rPr sz="2000"/>
              </a:b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62560" y="3884400"/>
              <a:ext cx="10670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66680" y="396072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Get</a:t>
              </a:r>
              <a:br>
                <a:rPr sz="2000"/>
              </a:b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CE45-7F25-4275-8B80-CFB31B32E25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O design pyramid, cont'd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7DFA-4B69-4B92-BC95-EE8FDE3DD45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-class 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your project groups, define a set of classes and their major attributes and operations, for a calendar management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users should be able to use the system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 appointments (either individual or group meetin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e an overview of their calendars at various levels of granularity (day, week, mont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dit or delete existing appoint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 reminders to go off for an existing appoin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t. data should be persistent (save and load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classes would you use in this syst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model would you use?  What data would it contai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views of the model(s) would you wan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some time to discuss, we'll do a quick discussion of each group's design and critiqu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2D10-00B7-4ABA-8874-CB7455D4D48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uristics 2 quick refer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All data should be hidden within its clas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Users of a class must be dependent on its public interface, but a class should not be dependent on its us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Minimize the number of messages in the protocol of a clas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4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mplement a minimal public interface that all classes underst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Do not put implementation details such as common-code private functions into the public interface of a clas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Do not clutter the public interface of a class with items that users of that class are not able to use or are not interested in usi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7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Classes should only exhibit nil or export coupling with other classes, that is, a class should only use operations in the public interface of another class or have nothing to do with that clas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8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A class should capture one and only one key abstrac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9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Keep related data and behavior in one pla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1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Spin off nonrelated behavior into another class (i.e., noncommunicating behavior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1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Be sure the abstractions that you model are classes and not simply the roles objects pla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8667-8FF8-4CC6-9562-F86F3100E30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uristics 3 quick refer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Distribute system intelligence horizontally as uniformly as possible, that is, the top-level classes in a design should share the work uniforml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Do not create god classes/objects in your system.  Be very suspicious of a class whose name contains Driver, Manager, System, or Subsyste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Beware of classes that have many accessor methods defined in their public interfa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4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Beware of classes that have too much noncommunicating behavio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 applications that consist of an object-oriented model interacting with a user interface, the model should never be dependent on the interfa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Model the real world whenever possib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7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Eliminate irrelevant classes from your desig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8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Eliminate classes that are outside the syste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9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Do not turn an operation into a class.  Be suspicious of any class whose name is a verb or is derived from a verb, especially those that have only one piece of meaningful behavior (don't count set, get, print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1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Agent classes are often placed in the analysis model of an application.  During design time, many agents are found to be irrelevant and should be remov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7B57-28C8-4CBF-A2F2-E8B3756BD4B4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constitutes an objec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 chunk of executable co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ype definition (describes data, behavior for a type of objec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emory addr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fiel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etho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 interfa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user's view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FF83-0AA8-40FC-AA38-EF3FBC23F8C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alities of modular softw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ompos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broken down into pie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s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ces are useful and can be combi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stand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piece can be examined in iso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contin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s. change affects few mod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ected / saf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rror affects few other mod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35760" y="1355760"/>
            <a:ext cx="2133720" cy="86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010280" y="2448000"/>
            <a:ext cx="1981440" cy="86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086600" y="3579840"/>
            <a:ext cx="1905120" cy="973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548080" cy="974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400800" y="5948280"/>
            <a:ext cx="24354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6019-0B70-4330-AE5D-40FE2330C5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420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face and implement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interfa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ata and behavior of the object that can be seen and executed externally by "client"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 implement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nternal data and methods in the object, used to help implement the public interface, but cannot be directly acces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ode that uses your class/sub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interface is the speaker, volume buttons, station d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vate implementation is the guts of the radio; the transistors, capacitors, voltage readings, frequencies, etc. that user should not s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5562720"/>
            <a:ext cx="1796760" cy="11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24C6-EA55-402D-8B2F-7875DD34D5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capsul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data should be hidden within its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hiding the private state and behavior within a class and its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benefit do we receive from encapsulation?  Why not just use public fields and metho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886200"/>
            <a:ext cx="91440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capsulation promote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 ability to focus on task at hand and not on specific unnecessary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f data is public, it can never be chang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it becomes part of published inter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ublic data exposes the client to unnecessary details about how the class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: point class with x, y vs. r, theta (fig 2.3 p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257720"/>
            <a:ext cx="9144000" cy="26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ABEF-33C6-4D6F-A3E8-E6CF26C6C448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pendency on cli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Users of a class must be dependent on its public interface, but a class should not be dependent on its us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deCalcula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ss with 3 metho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Grade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uteGr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Grade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3 methods are not called in exactly this order, GradeCalculator code crashes!  Solution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334120"/>
            <a:ext cx="914400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v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uteGrad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owGradeOutp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call their preceding methods if that hasn't been done al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bine these methods into only one public method that calls all 3 in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87C6-1D25-478A-9BBA-02913AA6112D}" type="slidenum">
              <a:t>9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7-01-26T06:59:49Z</dcterms:modified>
  <cp:revision>1239</cp:revision>
  <dc:subject/>
  <dc:title>CSE 403 Slides</dc:title>
</cp:coreProperties>
</file>