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56.jpeg" ContentType="image/jpeg"/>
  <Override PartName="/ppt/media/image27.png" ContentType="image/png"/>
  <Override PartName="/ppt/media/image4.png" ContentType="image/png"/>
  <Override PartName="/ppt/media/image34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57.jpeg" ContentType="image/jpeg"/>
  <Override PartName="/ppt/media/image43.png" ContentType="image/png"/>
  <Override PartName="/ppt/media/image55.png" ContentType="image/png"/>
  <Override PartName="/ppt/media/image35.png" ContentType="image/png"/>
  <Override PartName="/ppt/media/image30.png" ContentType="image/png"/>
  <Override PartName="/ppt/media/image10.png" ContentType="image/png"/>
  <Override PartName="/ppt/media/image47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52.wmf" ContentType="image/x-wmf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1935-C491-4F46-AA1F-487C87445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 combo boxes might be better as lists.  The Adjacent Words should be a checkbo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tton labels (especially "Default", which could be "Reset to Default") are po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6C77D-7333-44DC-BC58-9E762CB9F1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C00C1-A8DC-4A2D-A4AD-64C20551B6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8C088-429E-48E7-A68F-D9DF6D1864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D4A31-DCC8-4245-8DF3-36536624B6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16362-78CE-402E-ADFC-3B7062E290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0659F-6570-4F21-8376-8401E56F12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5D8F4-69C8-4655-8871-52062598BC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C0DF0-81F1-4D5B-AB7D-1CDD3EE9ED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980B0-2062-4847-B430-0804A85882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42640" y="151920"/>
            <a:ext cx="78008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8C195-2695-4281-8215-782374C6F9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DD9BD-1A9B-40F3-B0BD-944C2019E4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54525-BEE0-429A-A41B-10421EEC8F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C7CD5-B222-432B-852B-B580434B4D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E1628-6D95-4B97-B5B3-256D735345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C71F3-17A2-4EC3-8FC6-20954A90C4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AB52A-7744-40BA-834C-B7439E7523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BA44E-560A-4DF9-8387-3FF2256A6D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6E912-5084-4E7F-83E9-5376938832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B0802-CFD6-4C59-9F6E-67429BEFFD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CFC2F-F571-4424-881C-D34B1B81D2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151920"/>
            <a:ext cx="78008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540A8-6E04-4F62-8294-9E3236257C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52748-4523-46AD-AB34-0CBFCF33EA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AF829-3D4D-44D6-A79B-8993DF206C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25AF0-7D15-4D06-89DE-C08515CB58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154320" y="0"/>
            <a:ext cx="598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57200" y="38088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9880" y="38088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81040" y="803160"/>
            <a:ext cx="42228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50760" y="80316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6680" y="730080"/>
            <a:ext cx="560520" cy="422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1720" y="2728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2760" y="10638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777240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7EA4-89D1-4668-BCCD-FC373D7597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3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54320" y="0"/>
            <a:ext cx="59896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90520" y="254628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3200" y="254628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Num" idx="2"/>
          </p:nvPr>
        </p:nvSpPr>
        <p:spPr>
          <a:xfrm>
            <a:off x="7391520" y="6477120"/>
            <a:ext cx="1752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655C-8E8E-47A9-8245-5319F010AC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743200" cy="503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743200" y="0"/>
            <a:ext cx="6400800" cy="50328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0" y="533520"/>
            <a:ext cx="990720" cy="990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c0c0c0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utexas.edu/users/almstrum/cs370/elvisino/rules.html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9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2359800"/>
            <a:ext cx="8153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CSE 403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0" y="3505320"/>
            <a:ext cx="9144000" cy="19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I Prototyp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ading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aper Prototyp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. Sny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0199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lecture slides are copyright (C) Marty Stepp, 2007.  They may not be rehosted, sold, or modified without expressed permission from the author. 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0434E-77F2-403B-9481-D1D2F13A47C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 P.P. usability sess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r is given tasks to perform using paper prototy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ssion can be observed by people or came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developer can "play computer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09480" y="3048120"/>
            <a:ext cx="7993080" cy="3400200"/>
            <a:chOff x="609480" y="3048120"/>
            <a:chExt cx="7993080" cy="340020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609480" y="3048120"/>
              <a:ext cx="7993080" cy="34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4209840" y="3334320"/>
              <a:ext cx="151128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80"/>
                  </a:solidFill>
                  <a:latin typeface="TheSansSemiBold-Plain"/>
                </a:rPr>
                <a:t>Facilit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26200" y="4557960"/>
              <a:ext cx="86508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80"/>
                  </a:solidFill>
                  <a:latin typeface="TheSansSemiBold-Plain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38200" y="3262680"/>
              <a:ext cx="165600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80"/>
                  </a:solidFill>
                  <a:latin typeface="TheSansSemiBold-Plain"/>
                </a:rPr>
                <a:t>“</a:t>
              </a:r>
              <a:r>
                <a:rPr b="1" lang="en-US" sz="1600" spc="-1" strike="noStrike">
                  <a:solidFill>
                    <a:srgbClr val="800080"/>
                  </a:solidFill>
                  <a:latin typeface="TheSansSemiBold-Plain"/>
                </a:rPr>
                <a:t>Computer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0760" y="3837240"/>
              <a:ext cx="165600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80"/>
                  </a:solidFill>
                  <a:latin typeface="TheSansSemiBold-Plain"/>
                </a:rPr>
                <a:t>Observer(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CA65E-4CFB-4FD5-B540-75708FAC535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chneiderman's </a:t>
            </a:r>
            <a:r>
              <a:rPr b="0" lang="en-US" sz="36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8 Golden Ru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09480" y="3276720"/>
            <a:ext cx="7848720" cy="2676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1523880"/>
            <a:ext cx="4343400" cy="26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rive for consist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ive shortcuts to the us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ffer informative feedb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ke each interaction with the user yield a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1523880"/>
            <a:ext cx="4496040" cy="23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ffer simple error hand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mit easy undo of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the user be in cont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duce short-term memory load on the us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-2880" y="5943600"/>
            <a:ext cx="911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from Designing the User Interface, by Ben Schneiderman of UMD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ed HCI and UI design expe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3ED62-7D13-47B8-805B-76A19AAD034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5695920" cy="43434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I design exampl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057400" y="3886200"/>
            <a:ext cx="6896160" cy="276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FE175-999D-40C7-97B8-6A15BB6F8F7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I design, componen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should we us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butt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heck box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radio butto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ext fiel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lis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ombo box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enu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dialog box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..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302520" y="1346040"/>
            <a:ext cx="2743200" cy="2368800"/>
          </a:xfrm>
          <a:prstGeom prst="rect">
            <a:avLst/>
          </a:prstGeom>
          <a:ln w="0">
            <a:noFill/>
          </a:ln>
        </p:spPr>
      </p:pic>
      <p:grpSp>
        <p:nvGrpSpPr>
          <p:cNvPr id="152" name=""/>
          <p:cNvGrpSpPr/>
          <p:nvPr/>
        </p:nvGrpSpPr>
        <p:grpSpPr>
          <a:xfrm>
            <a:off x="5029200" y="4419720"/>
            <a:ext cx="3962520" cy="2146320"/>
            <a:chOff x="5029200" y="4419720"/>
            <a:chExt cx="3962520" cy="2146320"/>
          </a:xfrm>
        </p:grpSpPr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5029200" y="5381640"/>
              <a:ext cx="1600200" cy="11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3"/>
            <a:stretch/>
          </p:blipFill>
          <p:spPr>
            <a:xfrm>
              <a:off x="6934320" y="4419720"/>
              <a:ext cx="17524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4"/>
            <a:stretch/>
          </p:blipFill>
          <p:spPr>
            <a:xfrm>
              <a:off x="6782040" y="5105520"/>
              <a:ext cx="2209680" cy="146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3657600" y="2057400"/>
            <a:ext cx="2365200" cy="16794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3505320" y="3886200"/>
            <a:ext cx="3097080" cy="1393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2286000" y="5943600"/>
            <a:ext cx="264780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3DA14-561F-48B0-BD9E-A9CD5DF46F1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pple Mac user interfac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4267080" cy="3571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648320" y="1143000"/>
            <a:ext cx="4267080" cy="3581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rcRect l="2083" t="2126" r="0" b="0"/>
          <a:stretch/>
        </p:blipFill>
        <p:spPr>
          <a:xfrm>
            <a:off x="5562720" y="3276720"/>
            <a:ext cx="3581280" cy="35067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990720" y="3105000"/>
            <a:ext cx="4419360" cy="375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3B26A-23D3-47A6-BDA5-64E48EB7B93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I Hall of Sham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http://homepage.mac.com/bradster/iarchitect/shame.ht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18810" t="0" r="0" b="0"/>
          <a:stretch/>
        </p:blipFill>
        <p:spPr>
          <a:xfrm>
            <a:off x="7696080" y="3505320"/>
            <a:ext cx="1447920" cy="3047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28600" y="3135240"/>
            <a:ext cx="3581280" cy="30751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7391520" y="152280"/>
            <a:ext cx="1050840" cy="930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152280" y="1828800"/>
            <a:ext cx="7086600" cy="993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6477120" y="1981080"/>
            <a:ext cx="2286000" cy="18417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3505320" y="2666880"/>
            <a:ext cx="3139920" cy="3276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2971800" y="4327560"/>
            <a:ext cx="4579920" cy="23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CBDC2-F197-4229-94B1-4178D7CA4EEE}" type="slidenum">
              <a:t>15</a:t>
            </a:fld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ayout and colo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408720" y="4114800"/>
            <a:ext cx="2567160" cy="2590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666880" y="5632560"/>
            <a:ext cx="3718080" cy="1225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1600200" y="990720"/>
            <a:ext cx="4419720" cy="3876480"/>
          </a:xfrm>
          <a:prstGeom prst="rect">
            <a:avLst/>
          </a:prstGeom>
          <a:ln w="0">
            <a:noFill/>
          </a:ln>
        </p:spPr>
      </p:pic>
      <p:grpSp>
        <p:nvGrpSpPr>
          <p:cNvPr id="177" name=""/>
          <p:cNvGrpSpPr/>
          <p:nvPr/>
        </p:nvGrpSpPr>
        <p:grpSpPr>
          <a:xfrm>
            <a:off x="2133720" y="4572000"/>
            <a:ext cx="4572000" cy="981000"/>
            <a:chOff x="2133720" y="4572000"/>
            <a:chExt cx="4572000" cy="98100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133720" y="4572000"/>
              <a:ext cx="45720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5"/>
            <a:stretch/>
          </p:blipFill>
          <p:spPr>
            <a:xfrm>
              <a:off x="3276720" y="5181480"/>
              <a:ext cx="3352680" cy="371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228600" y="2362320"/>
            <a:ext cx="1166760" cy="4190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7"/>
          <a:stretch/>
        </p:blipFill>
        <p:spPr>
          <a:xfrm>
            <a:off x="5730840" y="1600200"/>
            <a:ext cx="3413160" cy="208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30250-4B16-495E-BBBB-D55EECFD8376}" type="slidenum">
              <a:t>16</a:t>
            </a:fld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ad error messag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257800" y="5089680"/>
            <a:ext cx="3535200" cy="14634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752480" y="5065560"/>
            <a:ext cx="3284640" cy="17924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6324480" y="3124080"/>
            <a:ext cx="2667240" cy="1879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304920" y="1600200"/>
            <a:ext cx="3711600" cy="17938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4191120" y="1752480"/>
            <a:ext cx="3124080" cy="1376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5943600" y="838080"/>
            <a:ext cx="3048120" cy="1349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7"/>
          <a:stretch/>
        </p:blipFill>
        <p:spPr>
          <a:xfrm>
            <a:off x="457200" y="3581280"/>
            <a:ext cx="5810400" cy="15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D8197-0F4E-42EE-BBA1-71B5BDC8F1E4}" type="slidenum">
              <a:t>17</a:t>
            </a:fld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I design - buttons, menu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utt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single independent actions that are relevant to the current scre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y to use button text with verb phrases such as "Save" or "Cancel", not generic: "OK", "Yes", "No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monics or Accelerators (Ctrl-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olba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common action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nu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infrequent actions that may be applicable to many or all scree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Users hate menus!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Try not to rel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 much on menus.  Provid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other way to access the sam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ality (toolbar, hotkey, et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rcRect l="0" t="0" r="0" b="45564"/>
          <a:stretch/>
        </p:blipFill>
        <p:spPr>
          <a:xfrm>
            <a:off x="6477120" y="5429160"/>
            <a:ext cx="2514600" cy="971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781680" y="2819520"/>
            <a:ext cx="1959120" cy="59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0204C-FDB2-4203-840E-29E9F64288B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heckboxes, radio butt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eck box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on/off switches, when any one switch can be toggled irrespective of the others (often correspond to boolean value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adio butt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related choices, when only one choice can be activated at a time (often corresponds to enum / constant value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80880" y="3809880"/>
            <a:ext cx="2590920" cy="17780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523880" y="4952880"/>
            <a:ext cx="3429000" cy="17146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162920" y="4800600"/>
            <a:ext cx="1633320" cy="166068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199" name=""/>
          <p:cNvSpPr/>
          <p:nvPr/>
        </p:nvSpPr>
        <p:spPr>
          <a:xfrm flipH="1">
            <a:off x="7010280" y="4495680"/>
            <a:ext cx="1981440" cy="21337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6477120" y="3581280"/>
            <a:ext cx="1752480" cy="13352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6248160" y="3276720"/>
            <a:ext cx="1981080" cy="213336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294ED-1B4C-43A9-9FD5-01EB51DAB12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sability and software desig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sabilit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the effectiveness with which users can achieve tasks in one software enviro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ying and improving usability is par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uman-Computer Interaction (HCI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4074" t="4598" r="1763" b="14086"/>
          <a:stretch/>
        </p:blipFill>
        <p:spPr>
          <a:xfrm>
            <a:off x="152280" y="3429000"/>
            <a:ext cx="8839440" cy="28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6636A-786D-4096-9595-4ADC1DB397D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ists, combo box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6477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xt field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usually with a label) when the user may type in anything they w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s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hen there are many fixed choices (too many for radio buttons to be practical) and you wan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ll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oices visible on screen at o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bo box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hen there are many fixed choices, but you don't want to take up screen real estate by showing them all at o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lid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pinn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eric val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553080" y="2317680"/>
            <a:ext cx="2057400" cy="14922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1752480" cy="523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6553080" y="4102200"/>
            <a:ext cx="2210040" cy="14605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rcRect l="0" t="0" r="25008" b="0"/>
          <a:stretch/>
        </p:blipFill>
        <p:spPr>
          <a:xfrm>
            <a:off x="5334120" y="5867280"/>
            <a:ext cx="2514600" cy="8208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8077320" y="6019920"/>
            <a:ext cx="990360" cy="50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66055-B762-46D1-BD16-125ABA498D3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n example U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can we say about this UI dialog?  Did the designer choose the right component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t's assume there are 20 collections and 3 ways to search (by title, author, relevanc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676520" y="3124080"/>
            <a:ext cx="5715000" cy="3595680"/>
            <a:chOff x="1676520" y="3124080"/>
            <a:chExt cx="5715000" cy="3595680"/>
          </a:xfrm>
        </p:grpSpPr>
        <p:sp>
          <p:nvSpPr>
            <p:cNvPr id="212" name=""/>
            <p:cNvSpPr/>
            <p:nvPr/>
          </p:nvSpPr>
          <p:spPr>
            <a:xfrm>
              <a:off x="1676520" y="3124080"/>
              <a:ext cx="5715000" cy="3595680"/>
            </a:xfrm>
            <a:prstGeom prst="rect">
              <a:avLst/>
            </a:prstGeom>
            <a:noFill/>
            <a:ln w="0">
              <a:solidFill>
                <a:srgbClr val="fffff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775160" y="3245040"/>
              <a:ext cx="5591520" cy="3450600"/>
            </a:xfrm>
            <a:prstGeom prst="rect">
              <a:avLst/>
            </a:prstGeom>
            <a:solidFill>
              <a:srgbClr val="00a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787040" y="3256200"/>
              <a:ext cx="5592960" cy="3451680"/>
            </a:xfrm>
            <a:prstGeom prst="rect">
              <a:avLst/>
            </a:prstGeom>
            <a:noFill/>
            <a:ln w="27000">
              <a:solidFill>
                <a:srgbClr val="00a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00640" y="3147840"/>
              <a:ext cx="5591520" cy="347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12160" y="3159000"/>
              <a:ext cx="5593320" cy="3475800"/>
            </a:xfrm>
            <a:prstGeom prst="rect">
              <a:avLst/>
            </a:prstGeom>
            <a:noFill/>
            <a:ln w="2700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83960" y="3270240"/>
              <a:ext cx="206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L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156400" y="3270240"/>
              <a:ext cx="264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B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72400" y="3270240"/>
              <a:ext cx="136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18200" y="3270240"/>
              <a:ext cx="965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: Search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39320" y="3756240"/>
              <a:ext cx="1846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hoose collection: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97640" y="4339080"/>
              <a:ext cx="36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75040" y="4339080"/>
              <a:ext cx="1651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ord or phrase: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82160" y="4873320"/>
              <a:ext cx="1047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earch by: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96200" y="5335200"/>
              <a:ext cx="1572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djacent word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06800" y="5820840"/>
              <a:ext cx="30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9120" y="5820840"/>
              <a:ext cx="65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Defaul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793400" y="5820840"/>
              <a:ext cx="675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anc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66320" y="3742200"/>
              <a:ext cx="2351160" cy="342000"/>
            </a:xfrm>
            <a:prstGeom prst="roundRect">
              <a:avLst>
                <a:gd name="adj" fmla="val 26667"/>
              </a:avLst>
            </a:prstGeom>
            <a:noFill/>
            <a:ln w="2700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58920" y="3730680"/>
              <a:ext cx="1080" cy="340560"/>
            </a:xfrm>
            <a:prstGeom prst="line">
              <a:avLst/>
            </a:prstGeom>
            <a:ln w="2700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07360" y="3756240"/>
              <a:ext cx="25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l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57920" y="3804120"/>
              <a:ext cx="73080" cy="7308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34" y="0"/>
                  </a:moveTo>
                  <a:lnTo>
                    <a:pt x="0" y="52"/>
                  </a:lnTo>
                  <a:lnTo>
                    <a:pt x="51" y="5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857920" y="3950640"/>
              <a:ext cx="73080" cy="4788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34" y="34"/>
                  </a:moveTo>
                  <a:lnTo>
                    <a:pt x="51" y="0"/>
                  </a:lnTo>
                  <a:lnTo>
                    <a:pt x="0" y="0"/>
                  </a:lnTo>
                  <a:lnTo>
                    <a:pt x="34" y="34"/>
                  </a:lnTo>
                  <a:close/>
                </a:path>
              </a:pathLst>
            </a:custGeom>
            <a:solidFill>
              <a:srgbClr val="000000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66320" y="4325040"/>
              <a:ext cx="2351160" cy="318240"/>
            </a:xfrm>
            <a:prstGeom prst="rect">
              <a:avLst/>
            </a:prstGeom>
            <a:noFill/>
            <a:ln w="2700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66320" y="4860360"/>
              <a:ext cx="2351160" cy="342000"/>
            </a:xfrm>
            <a:prstGeom prst="roundRect">
              <a:avLst>
                <a:gd name="adj" fmla="val 26667"/>
              </a:avLst>
            </a:prstGeom>
            <a:noFill/>
            <a:ln w="2700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72800" y="48733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4160" y="4873320"/>
              <a:ext cx="31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tl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807880" y="4849200"/>
              <a:ext cx="1080" cy="339120"/>
            </a:xfrm>
            <a:prstGeom prst="line">
              <a:avLst/>
            </a:prstGeom>
            <a:ln w="2700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906520" y="4897080"/>
              <a:ext cx="74520" cy="730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17" y="0"/>
                  </a:moveTo>
                  <a:lnTo>
                    <a:pt x="0" y="52"/>
                  </a:lnTo>
                  <a:lnTo>
                    <a:pt x="52" y="5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06520" y="5043600"/>
              <a:ext cx="74520" cy="730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17" y="52"/>
                  </a:moveTo>
                  <a:lnTo>
                    <a:pt x="52" y="0"/>
                  </a:lnTo>
                  <a:lnTo>
                    <a:pt x="0" y="0"/>
                  </a:lnTo>
                  <a:lnTo>
                    <a:pt x="17" y="52"/>
                  </a:lnTo>
                  <a:close/>
                </a:path>
              </a:pathLst>
            </a:custGeom>
            <a:solidFill>
              <a:srgbClr val="000000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012920" y="5394240"/>
              <a:ext cx="126000" cy="123840"/>
            </a:xfrm>
            <a:prstGeom prst="ellipse">
              <a:avLst/>
            </a:prstGeom>
            <a:solidFill>
              <a:srgbClr val="000000"/>
            </a:solidFill>
            <a:ln w="2700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49800" y="5358960"/>
              <a:ext cx="122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41240" y="5358960"/>
              <a:ext cx="226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152320" y="5394240"/>
              <a:ext cx="100080" cy="123840"/>
            </a:xfrm>
            <a:prstGeom prst="ellipse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21880" y="5358960"/>
              <a:ext cx="296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58560" y="5856480"/>
              <a:ext cx="718560" cy="244800"/>
            </a:xfrm>
            <a:prstGeom prst="rect">
              <a:avLst/>
            </a:prstGeom>
            <a:noFill/>
            <a:ln w="2700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518280" y="5832360"/>
              <a:ext cx="720000" cy="268920"/>
            </a:xfrm>
            <a:prstGeom prst="rect">
              <a:avLst/>
            </a:prstGeom>
            <a:noFill/>
            <a:ln w="2700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730400" y="5832360"/>
              <a:ext cx="720000" cy="244800"/>
            </a:xfrm>
            <a:prstGeom prst="rect">
              <a:avLst/>
            </a:prstGeom>
            <a:noFill/>
            <a:ln w="2700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B7418-7083-4F03-943E-EEE1ADCDEB1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I design - multiple scree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abbed pan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hen there are many screens that the user may want to switch between at any mo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alog box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ption pan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present temporary screens or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2640240" cy="8222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897520" y="5181480"/>
            <a:ext cx="2563920" cy="115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47CA0-21E4-44F8-BDB6-28F2D2A6692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reating a paper prototyp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ather 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per, pencils/pe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pe, sciss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lighters, transpar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 the screens in your U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 use cases, inputs and outputs to us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nk about how to get from one screen to n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will help choose between tabs, dialog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574960" y="1143000"/>
            <a:ext cx="3254760" cy="2107440"/>
            <a:chOff x="5574960" y="1143000"/>
            <a:chExt cx="3254760" cy="2107440"/>
          </a:xfrm>
        </p:grpSpPr>
        <p:pic>
          <p:nvPicPr>
            <p:cNvPr id="256" name="" descr=""/>
            <p:cNvPicPr/>
            <p:nvPr/>
          </p:nvPicPr>
          <p:blipFill>
            <a:blip r:embed="rId1"/>
            <a:stretch/>
          </p:blipFill>
          <p:spPr>
            <a:xfrm>
              <a:off x="6999480" y="1143000"/>
              <a:ext cx="1830240" cy="1860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5574960" y="1796400"/>
              <a:ext cx="1863720" cy="1454040"/>
              <a:chOff x="5574960" y="1796400"/>
              <a:chExt cx="1863720" cy="1454040"/>
            </a:xfrm>
          </p:grpSpPr>
          <p:sp>
            <p:nvSpPr>
              <p:cNvPr id="258" name=""/>
              <p:cNvSpPr/>
              <p:nvPr/>
            </p:nvSpPr>
            <p:spPr>
              <a:xfrm>
                <a:off x="5574960" y="2262600"/>
                <a:ext cx="761760" cy="917280"/>
              </a:xfrm>
              <a:custGeom>
                <a:avLst/>
                <a:gdLst/>
                <a:ahLst/>
                <a:rect l="l" t="t" r="r" b="b"/>
                <a:pathLst>
                  <a:path w="1148" h="1354">
                    <a:moveTo>
                      <a:pt x="1095" y="325"/>
                    </a:moveTo>
                    <a:lnTo>
                      <a:pt x="1091" y="323"/>
                    </a:lnTo>
                    <a:lnTo>
                      <a:pt x="1084" y="321"/>
                    </a:lnTo>
                    <a:lnTo>
                      <a:pt x="1078" y="318"/>
                    </a:lnTo>
                    <a:lnTo>
                      <a:pt x="1072" y="316"/>
                    </a:lnTo>
                    <a:lnTo>
                      <a:pt x="1065" y="312"/>
                    </a:lnTo>
                    <a:lnTo>
                      <a:pt x="1057" y="308"/>
                    </a:lnTo>
                    <a:lnTo>
                      <a:pt x="1048" y="304"/>
                    </a:lnTo>
                    <a:lnTo>
                      <a:pt x="1038" y="298"/>
                    </a:lnTo>
                    <a:lnTo>
                      <a:pt x="1027" y="295"/>
                    </a:lnTo>
                    <a:lnTo>
                      <a:pt x="1017" y="289"/>
                    </a:lnTo>
                    <a:lnTo>
                      <a:pt x="1011" y="287"/>
                    </a:lnTo>
                    <a:lnTo>
                      <a:pt x="1006" y="283"/>
                    </a:lnTo>
                    <a:lnTo>
                      <a:pt x="1000" y="279"/>
                    </a:lnTo>
                    <a:lnTo>
                      <a:pt x="994" y="278"/>
                    </a:lnTo>
                    <a:lnTo>
                      <a:pt x="989" y="276"/>
                    </a:lnTo>
                    <a:lnTo>
                      <a:pt x="983" y="272"/>
                    </a:lnTo>
                    <a:lnTo>
                      <a:pt x="975" y="268"/>
                    </a:lnTo>
                    <a:lnTo>
                      <a:pt x="970" y="266"/>
                    </a:lnTo>
                    <a:lnTo>
                      <a:pt x="964" y="262"/>
                    </a:lnTo>
                    <a:lnTo>
                      <a:pt x="956" y="259"/>
                    </a:lnTo>
                    <a:lnTo>
                      <a:pt x="951" y="255"/>
                    </a:lnTo>
                    <a:lnTo>
                      <a:pt x="943" y="251"/>
                    </a:lnTo>
                    <a:lnTo>
                      <a:pt x="937" y="247"/>
                    </a:lnTo>
                    <a:lnTo>
                      <a:pt x="930" y="243"/>
                    </a:lnTo>
                    <a:lnTo>
                      <a:pt x="922" y="241"/>
                    </a:lnTo>
                    <a:lnTo>
                      <a:pt x="916" y="238"/>
                    </a:lnTo>
                    <a:lnTo>
                      <a:pt x="909" y="234"/>
                    </a:lnTo>
                    <a:lnTo>
                      <a:pt x="903" y="230"/>
                    </a:lnTo>
                    <a:lnTo>
                      <a:pt x="896" y="224"/>
                    </a:lnTo>
                    <a:lnTo>
                      <a:pt x="890" y="222"/>
                    </a:lnTo>
                    <a:lnTo>
                      <a:pt x="882" y="219"/>
                    </a:lnTo>
                    <a:lnTo>
                      <a:pt x="875" y="213"/>
                    </a:lnTo>
                    <a:lnTo>
                      <a:pt x="869" y="209"/>
                    </a:lnTo>
                    <a:lnTo>
                      <a:pt x="863" y="205"/>
                    </a:lnTo>
                    <a:lnTo>
                      <a:pt x="856" y="202"/>
                    </a:lnTo>
                    <a:lnTo>
                      <a:pt x="848" y="198"/>
                    </a:lnTo>
                    <a:lnTo>
                      <a:pt x="842" y="192"/>
                    </a:lnTo>
                    <a:lnTo>
                      <a:pt x="835" y="188"/>
                    </a:lnTo>
                    <a:lnTo>
                      <a:pt x="829" y="184"/>
                    </a:lnTo>
                    <a:lnTo>
                      <a:pt x="823" y="181"/>
                    </a:lnTo>
                    <a:lnTo>
                      <a:pt x="816" y="177"/>
                    </a:lnTo>
                    <a:lnTo>
                      <a:pt x="810" y="173"/>
                    </a:lnTo>
                    <a:lnTo>
                      <a:pt x="804" y="167"/>
                    </a:lnTo>
                    <a:lnTo>
                      <a:pt x="799" y="165"/>
                    </a:lnTo>
                    <a:lnTo>
                      <a:pt x="791" y="160"/>
                    </a:lnTo>
                    <a:lnTo>
                      <a:pt x="787" y="156"/>
                    </a:lnTo>
                    <a:lnTo>
                      <a:pt x="776" y="148"/>
                    </a:lnTo>
                    <a:lnTo>
                      <a:pt x="766" y="141"/>
                    </a:lnTo>
                    <a:lnTo>
                      <a:pt x="755" y="131"/>
                    </a:lnTo>
                    <a:lnTo>
                      <a:pt x="743" y="122"/>
                    </a:lnTo>
                    <a:lnTo>
                      <a:pt x="738" y="118"/>
                    </a:lnTo>
                    <a:lnTo>
                      <a:pt x="732" y="114"/>
                    </a:lnTo>
                    <a:lnTo>
                      <a:pt x="724" y="110"/>
                    </a:lnTo>
                    <a:lnTo>
                      <a:pt x="721" y="106"/>
                    </a:lnTo>
                    <a:lnTo>
                      <a:pt x="713" y="101"/>
                    </a:lnTo>
                    <a:lnTo>
                      <a:pt x="705" y="97"/>
                    </a:lnTo>
                    <a:lnTo>
                      <a:pt x="700" y="93"/>
                    </a:lnTo>
                    <a:lnTo>
                      <a:pt x="694" y="89"/>
                    </a:lnTo>
                    <a:lnTo>
                      <a:pt x="686" y="86"/>
                    </a:lnTo>
                    <a:lnTo>
                      <a:pt x="679" y="82"/>
                    </a:lnTo>
                    <a:lnTo>
                      <a:pt x="671" y="76"/>
                    </a:lnTo>
                    <a:lnTo>
                      <a:pt x="665" y="74"/>
                    </a:lnTo>
                    <a:lnTo>
                      <a:pt x="658" y="70"/>
                    </a:lnTo>
                    <a:lnTo>
                      <a:pt x="650" y="65"/>
                    </a:lnTo>
                    <a:lnTo>
                      <a:pt x="643" y="61"/>
                    </a:lnTo>
                    <a:lnTo>
                      <a:pt x="635" y="57"/>
                    </a:lnTo>
                    <a:lnTo>
                      <a:pt x="627" y="53"/>
                    </a:lnTo>
                    <a:lnTo>
                      <a:pt x="620" y="49"/>
                    </a:lnTo>
                    <a:lnTo>
                      <a:pt x="612" y="48"/>
                    </a:lnTo>
                    <a:lnTo>
                      <a:pt x="605" y="44"/>
                    </a:lnTo>
                    <a:lnTo>
                      <a:pt x="595" y="40"/>
                    </a:lnTo>
                    <a:lnTo>
                      <a:pt x="588" y="38"/>
                    </a:lnTo>
                    <a:lnTo>
                      <a:pt x="580" y="34"/>
                    </a:lnTo>
                    <a:lnTo>
                      <a:pt x="572" y="30"/>
                    </a:lnTo>
                    <a:lnTo>
                      <a:pt x="563" y="28"/>
                    </a:lnTo>
                    <a:lnTo>
                      <a:pt x="555" y="27"/>
                    </a:lnTo>
                    <a:lnTo>
                      <a:pt x="546" y="25"/>
                    </a:lnTo>
                    <a:lnTo>
                      <a:pt x="538" y="21"/>
                    </a:lnTo>
                    <a:lnTo>
                      <a:pt x="529" y="19"/>
                    </a:lnTo>
                    <a:lnTo>
                      <a:pt x="521" y="15"/>
                    </a:lnTo>
                    <a:lnTo>
                      <a:pt x="511" y="13"/>
                    </a:lnTo>
                    <a:lnTo>
                      <a:pt x="502" y="11"/>
                    </a:lnTo>
                    <a:lnTo>
                      <a:pt x="492" y="9"/>
                    </a:lnTo>
                    <a:lnTo>
                      <a:pt x="485" y="8"/>
                    </a:lnTo>
                    <a:lnTo>
                      <a:pt x="475" y="6"/>
                    </a:lnTo>
                    <a:lnTo>
                      <a:pt x="468" y="6"/>
                    </a:lnTo>
                    <a:lnTo>
                      <a:pt x="458" y="4"/>
                    </a:lnTo>
                    <a:lnTo>
                      <a:pt x="449" y="2"/>
                    </a:lnTo>
                    <a:lnTo>
                      <a:pt x="439" y="2"/>
                    </a:lnTo>
                    <a:lnTo>
                      <a:pt x="430" y="2"/>
                    </a:lnTo>
                    <a:lnTo>
                      <a:pt x="420" y="0"/>
                    </a:lnTo>
                    <a:lnTo>
                      <a:pt x="411" y="0"/>
                    </a:lnTo>
                    <a:lnTo>
                      <a:pt x="401" y="0"/>
                    </a:lnTo>
                    <a:lnTo>
                      <a:pt x="394" y="0"/>
                    </a:lnTo>
                    <a:lnTo>
                      <a:pt x="384" y="0"/>
                    </a:lnTo>
                    <a:lnTo>
                      <a:pt x="375" y="0"/>
                    </a:lnTo>
                    <a:lnTo>
                      <a:pt x="365" y="0"/>
                    </a:lnTo>
                    <a:lnTo>
                      <a:pt x="356" y="2"/>
                    </a:lnTo>
                    <a:lnTo>
                      <a:pt x="346" y="2"/>
                    </a:lnTo>
                    <a:lnTo>
                      <a:pt x="337" y="4"/>
                    </a:lnTo>
                    <a:lnTo>
                      <a:pt x="327" y="6"/>
                    </a:lnTo>
                    <a:lnTo>
                      <a:pt x="318" y="8"/>
                    </a:lnTo>
                    <a:lnTo>
                      <a:pt x="308" y="9"/>
                    </a:lnTo>
                    <a:lnTo>
                      <a:pt x="299" y="11"/>
                    </a:lnTo>
                    <a:lnTo>
                      <a:pt x="289" y="15"/>
                    </a:lnTo>
                    <a:lnTo>
                      <a:pt x="280" y="17"/>
                    </a:lnTo>
                    <a:lnTo>
                      <a:pt x="268" y="19"/>
                    </a:lnTo>
                    <a:lnTo>
                      <a:pt x="259" y="23"/>
                    </a:lnTo>
                    <a:lnTo>
                      <a:pt x="249" y="27"/>
                    </a:lnTo>
                    <a:lnTo>
                      <a:pt x="242" y="30"/>
                    </a:lnTo>
                    <a:lnTo>
                      <a:pt x="230" y="34"/>
                    </a:lnTo>
                    <a:lnTo>
                      <a:pt x="221" y="38"/>
                    </a:lnTo>
                    <a:lnTo>
                      <a:pt x="211" y="42"/>
                    </a:lnTo>
                    <a:lnTo>
                      <a:pt x="203" y="46"/>
                    </a:lnTo>
                    <a:lnTo>
                      <a:pt x="194" y="49"/>
                    </a:lnTo>
                    <a:lnTo>
                      <a:pt x="186" y="53"/>
                    </a:lnTo>
                    <a:lnTo>
                      <a:pt x="179" y="57"/>
                    </a:lnTo>
                    <a:lnTo>
                      <a:pt x="171" y="63"/>
                    </a:lnTo>
                    <a:lnTo>
                      <a:pt x="162" y="67"/>
                    </a:lnTo>
                    <a:lnTo>
                      <a:pt x="154" y="72"/>
                    </a:lnTo>
                    <a:lnTo>
                      <a:pt x="146" y="76"/>
                    </a:lnTo>
                    <a:lnTo>
                      <a:pt x="141" y="82"/>
                    </a:lnTo>
                    <a:lnTo>
                      <a:pt x="133" y="86"/>
                    </a:lnTo>
                    <a:lnTo>
                      <a:pt x="126" y="91"/>
                    </a:lnTo>
                    <a:lnTo>
                      <a:pt x="120" y="95"/>
                    </a:lnTo>
                    <a:lnTo>
                      <a:pt x="114" y="101"/>
                    </a:lnTo>
                    <a:lnTo>
                      <a:pt x="107" y="106"/>
                    </a:lnTo>
                    <a:lnTo>
                      <a:pt x="101" y="110"/>
                    </a:lnTo>
                    <a:lnTo>
                      <a:pt x="95" y="116"/>
                    </a:lnTo>
                    <a:lnTo>
                      <a:pt x="89" y="120"/>
                    </a:lnTo>
                    <a:lnTo>
                      <a:pt x="78" y="131"/>
                    </a:lnTo>
                    <a:lnTo>
                      <a:pt x="69" y="143"/>
                    </a:lnTo>
                    <a:lnTo>
                      <a:pt x="59" y="152"/>
                    </a:lnTo>
                    <a:lnTo>
                      <a:pt x="51" y="163"/>
                    </a:lnTo>
                    <a:lnTo>
                      <a:pt x="48" y="169"/>
                    </a:lnTo>
                    <a:lnTo>
                      <a:pt x="44" y="175"/>
                    </a:lnTo>
                    <a:lnTo>
                      <a:pt x="40" y="181"/>
                    </a:lnTo>
                    <a:lnTo>
                      <a:pt x="38" y="186"/>
                    </a:lnTo>
                    <a:lnTo>
                      <a:pt x="30" y="198"/>
                    </a:lnTo>
                    <a:lnTo>
                      <a:pt x="25" y="209"/>
                    </a:lnTo>
                    <a:lnTo>
                      <a:pt x="21" y="215"/>
                    </a:lnTo>
                    <a:lnTo>
                      <a:pt x="19" y="221"/>
                    </a:lnTo>
                    <a:lnTo>
                      <a:pt x="17" y="226"/>
                    </a:lnTo>
                    <a:lnTo>
                      <a:pt x="15" y="232"/>
                    </a:lnTo>
                    <a:lnTo>
                      <a:pt x="11" y="238"/>
                    </a:lnTo>
                    <a:lnTo>
                      <a:pt x="11" y="243"/>
                    </a:lnTo>
                    <a:lnTo>
                      <a:pt x="10" y="249"/>
                    </a:lnTo>
                    <a:lnTo>
                      <a:pt x="8" y="257"/>
                    </a:lnTo>
                    <a:lnTo>
                      <a:pt x="6" y="262"/>
                    </a:lnTo>
                    <a:lnTo>
                      <a:pt x="4" y="268"/>
                    </a:lnTo>
                    <a:lnTo>
                      <a:pt x="4" y="276"/>
                    </a:lnTo>
                    <a:lnTo>
                      <a:pt x="4" y="281"/>
                    </a:lnTo>
                    <a:lnTo>
                      <a:pt x="2" y="287"/>
                    </a:lnTo>
                    <a:lnTo>
                      <a:pt x="2" y="293"/>
                    </a:lnTo>
                    <a:lnTo>
                      <a:pt x="0" y="298"/>
                    </a:lnTo>
                    <a:lnTo>
                      <a:pt x="0" y="304"/>
                    </a:lnTo>
                    <a:lnTo>
                      <a:pt x="0" y="312"/>
                    </a:lnTo>
                    <a:lnTo>
                      <a:pt x="0" y="318"/>
                    </a:lnTo>
                    <a:lnTo>
                      <a:pt x="0" y="323"/>
                    </a:lnTo>
                    <a:lnTo>
                      <a:pt x="2" y="331"/>
                    </a:lnTo>
                    <a:lnTo>
                      <a:pt x="2" y="335"/>
                    </a:lnTo>
                    <a:lnTo>
                      <a:pt x="2" y="342"/>
                    </a:lnTo>
                    <a:lnTo>
                      <a:pt x="2" y="348"/>
                    </a:lnTo>
                    <a:lnTo>
                      <a:pt x="4" y="354"/>
                    </a:lnTo>
                    <a:lnTo>
                      <a:pt x="4" y="361"/>
                    </a:lnTo>
                    <a:lnTo>
                      <a:pt x="6" y="367"/>
                    </a:lnTo>
                    <a:lnTo>
                      <a:pt x="8" y="373"/>
                    </a:lnTo>
                    <a:lnTo>
                      <a:pt x="10" y="380"/>
                    </a:lnTo>
                    <a:lnTo>
                      <a:pt x="11" y="390"/>
                    </a:lnTo>
                    <a:lnTo>
                      <a:pt x="13" y="401"/>
                    </a:lnTo>
                    <a:lnTo>
                      <a:pt x="17" y="411"/>
                    </a:lnTo>
                    <a:lnTo>
                      <a:pt x="23" y="420"/>
                    </a:lnTo>
                    <a:lnTo>
                      <a:pt x="27" y="428"/>
                    </a:lnTo>
                    <a:lnTo>
                      <a:pt x="32" y="437"/>
                    </a:lnTo>
                    <a:lnTo>
                      <a:pt x="38" y="445"/>
                    </a:lnTo>
                    <a:lnTo>
                      <a:pt x="46" y="453"/>
                    </a:lnTo>
                    <a:lnTo>
                      <a:pt x="50" y="456"/>
                    </a:lnTo>
                    <a:lnTo>
                      <a:pt x="57" y="464"/>
                    </a:lnTo>
                    <a:lnTo>
                      <a:pt x="63" y="468"/>
                    </a:lnTo>
                    <a:lnTo>
                      <a:pt x="70" y="473"/>
                    </a:lnTo>
                    <a:lnTo>
                      <a:pt x="76" y="477"/>
                    </a:lnTo>
                    <a:lnTo>
                      <a:pt x="84" y="481"/>
                    </a:lnTo>
                    <a:lnTo>
                      <a:pt x="89" y="483"/>
                    </a:lnTo>
                    <a:lnTo>
                      <a:pt x="97" y="487"/>
                    </a:lnTo>
                    <a:lnTo>
                      <a:pt x="105" y="489"/>
                    </a:lnTo>
                    <a:lnTo>
                      <a:pt x="110" y="491"/>
                    </a:lnTo>
                    <a:lnTo>
                      <a:pt x="116" y="491"/>
                    </a:lnTo>
                    <a:lnTo>
                      <a:pt x="124" y="492"/>
                    </a:lnTo>
                    <a:lnTo>
                      <a:pt x="127" y="492"/>
                    </a:lnTo>
                    <a:lnTo>
                      <a:pt x="135" y="494"/>
                    </a:lnTo>
                    <a:lnTo>
                      <a:pt x="141" y="496"/>
                    </a:lnTo>
                    <a:lnTo>
                      <a:pt x="145" y="496"/>
                    </a:lnTo>
                    <a:lnTo>
                      <a:pt x="154" y="496"/>
                    </a:lnTo>
                    <a:lnTo>
                      <a:pt x="160" y="496"/>
                    </a:lnTo>
                    <a:lnTo>
                      <a:pt x="164" y="496"/>
                    </a:lnTo>
                    <a:lnTo>
                      <a:pt x="167" y="496"/>
                    </a:lnTo>
                    <a:lnTo>
                      <a:pt x="165" y="494"/>
                    </a:lnTo>
                    <a:lnTo>
                      <a:pt x="164" y="492"/>
                    </a:lnTo>
                    <a:lnTo>
                      <a:pt x="160" y="489"/>
                    </a:lnTo>
                    <a:lnTo>
                      <a:pt x="158" y="483"/>
                    </a:lnTo>
                    <a:lnTo>
                      <a:pt x="154" y="475"/>
                    </a:lnTo>
                    <a:lnTo>
                      <a:pt x="152" y="468"/>
                    </a:lnTo>
                    <a:lnTo>
                      <a:pt x="148" y="458"/>
                    </a:lnTo>
                    <a:lnTo>
                      <a:pt x="146" y="451"/>
                    </a:lnTo>
                    <a:lnTo>
                      <a:pt x="143" y="437"/>
                    </a:lnTo>
                    <a:lnTo>
                      <a:pt x="143" y="428"/>
                    </a:lnTo>
                    <a:lnTo>
                      <a:pt x="143" y="420"/>
                    </a:lnTo>
                    <a:lnTo>
                      <a:pt x="143" y="414"/>
                    </a:lnTo>
                    <a:lnTo>
                      <a:pt x="143" y="409"/>
                    </a:lnTo>
                    <a:lnTo>
                      <a:pt x="145" y="403"/>
                    </a:lnTo>
                    <a:lnTo>
                      <a:pt x="145" y="397"/>
                    </a:lnTo>
                    <a:lnTo>
                      <a:pt x="148" y="390"/>
                    </a:lnTo>
                    <a:lnTo>
                      <a:pt x="150" y="384"/>
                    </a:lnTo>
                    <a:lnTo>
                      <a:pt x="152" y="378"/>
                    </a:lnTo>
                    <a:lnTo>
                      <a:pt x="156" y="371"/>
                    </a:lnTo>
                    <a:lnTo>
                      <a:pt x="160" y="365"/>
                    </a:lnTo>
                    <a:lnTo>
                      <a:pt x="165" y="359"/>
                    </a:lnTo>
                    <a:lnTo>
                      <a:pt x="171" y="352"/>
                    </a:lnTo>
                    <a:lnTo>
                      <a:pt x="177" y="346"/>
                    </a:lnTo>
                    <a:lnTo>
                      <a:pt x="184" y="340"/>
                    </a:lnTo>
                    <a:lnTo>
                      <a:pt x="190" y="333"/>
                    </a:lnTo>
                    <a:lnTo>
                      <a:pt x="200" y="327"/>
                    </a:lnTo>
                    <a:lnTo>
                      <a:pt x="209" y="321"/>
                    </a:lnTo>
                    <a:lnTo>
                      <a:pt x="219" y="314"/>
                    </a:lnTo>
                    <a:lnTo>
                      <a:pt x="230" y="308"/>
                    </a:lnTo>
                    <a:lnTo>
                      <a:pt x="242" y="302"/>
                    </a:lnTo>
                    <a:lnTo>
                      <a:pt x="253" y="297"/>
                    </a:lnTo>
                    <a:lnTo>
                      <a:pt x="264" y="291"/>
                    </a:lnTo>
                    <a:lnTo>
                      <a:pt x="270" y="287"/>
                    </a:lnTo>
                    <a:lnTo>
                      <a:pt x="276" y="285"/>
                    </a:lnTo>
                    <a:lnTo>
                      <a:pt x="283" y="283"/>
                    </a:lnTo>
                    <a:lnTo>
                      <a:pt x="289" y="281"/>
                    </a:lnTo>
                    <a:lnTo>
                      <a:pt x="295" y="278"/>
                    </a:lnTo>
                    <a:lnTo>
                      <a:pt x="302" y="276"/>
                    </a:lnTo>
                    <a:lnTo>
                      <a:pt x="308" y="274"/>
                    </a:lnTo>
                    <a:lnTo>
                      <a:pt x="316" y="270"/>
                    </a:lnTo>
                    <a:lnTo>
                      <a:pt x="321" y="268"/>
                    </a:lnTo>
                    <a:lnTo>
                      <a:pt x="329" y="266"/>
                    </a:lnTo>
                    <a:lnTo>
                      <a:pt x="337" y="264"/>
                    </a:lnTo>
                    <a:lnTo>
                      <a:pt x="342" y="264"/>
                    </a:lnTo>
                    <a:lnTo>
                      <a:pt x="350" y="260"/>
                    </a:lnTo>
                    <a:lnTo>
                      <a:pt x="356" y="259"/>
                    </a:lnTo>
                    <a:lnTo>
                      <a:pt x="361" y="257"/>
                    </a:lnTo>
                    <a:lnTo>
                      <a:pt x="369" y="257"/>
                    </a:lnTo>
                    <a:lnTo>
                      <a:pt x="377" y="253"/>
                    </a:lnTo>
                    <a:lnTo>
                      <a:pt x="384" y="253"/>
                    </a:lnTo>
                    <a:lnTo>
                      <a:pt x="390" y="251"/>
                    </a:lnTo>
                    <a:lnTo>
                      <a:pt x="397" y="251"/>
                    </a:lnTo>
                    <a:lnTo>
                      <a:pt x="403" y="249"/>
                    </a:lnTo>
                    <a:lnTo>
                      <a:pt x="411" y="247"/>
                    </a:lnTo>
                    <a:lnTo>
                      <a:pt x="416" y="247"/>
                    </a:lnTo>
                    <a:lnTo>
                      <a:pt x="424" y="247"/>
                    </a:lnTo>
                    <a:lnTo>
                      <a:pt x="432" y="245"/>
                    </a:lnTo>
                    <a:lnTo>
                      <a:pt x="437" y="243"/>
                    </a:lnTo>
                    <a:lnTo>
                      <a:pt x="443" y="243"/>
                    </a:lnTo>
                    <a:lnTo>
                      <a:pt x="451" y="243"/>
                    </a:lnTo>
                    <a:lnTo>
                      <a:pt x="456" y="243"/>
                    </a:lnTo>
                    <a:lnTo>
                      <a:pt x="462" y="243"/>
                    </a:lnTo>
                    <a:lnTo>
                      <a:pt x="470" y="243"/>
                    </a:lnTo>
                    <a:lnTo>
                      <a:pt x="475" y="243"/>
                    </a:lnTo>
                    <a:lnTo>
                      <a:pt x="481" y="243"/>
                    </a:lnTo>
                    <a:lnTo>
                      <a:pt x="487" y="243"/>
                    </a:lnTo>
                    <a:lnTo>
                      <a:pt x="492" y="243"/>
                    </a:lnTo>
                    <a:lnTo>
                      <a:pt x="500" y="245"/>
                    </a:lnTo>
                    <a:lnTo>
                      <a:pt x="510" y="247"/>
                    </a:lnTo>
                    <a:lnTo>
                      <a:pt x="521" y="249"/>
                    </a:lnTo>
                    <a:lnTo>
                      <a:pt x="530" y="253"/>
                    </a:lnTo>
                    <a:lnTo>
                      <a:pt x="540" y="257"/>
                    </a:lnTo>
                    <a:lnTo>
                      <a:pt x="550" y="260"/>
                    </a:lnTo>
                    <a:lnTo>
                      <a:pt x="559" y="266"/>
                    </a:lnTo>
                    <a:lnTo>
                      <a:pt x="569" y="272"/>
                    </a:lnTo>
                    <a:lnTo>
                      <a:pt x="580" y="279"/>
                    </a:lnTo>
                    <a:lnTo>
                      <a:pt x="589" y="287"/>
                    </a:lnTo>
                    <a:lnTo>
                      <a:pt x="601" y="295"/>
                    </a:lnTo>
                    <a:lnTo>
                      <a:pt x="607" y="298"/>
                    </a:lnTo>
                    <a:lnTo>
                      <a:pt x="612" y="304"/>
                    </a:lnTo>
                    <a:lnTo>
                      <a:pt x="620" y="308"/>
                    </a:lnTo>
                    <a:lnTo>
                      <a:pt x="626" y="316"/>
                    </a:lnTo>
                    <a:lnTo>
                      <a:pt x="631" y="319"/>
                    </a:lnTo>
                    <a:lnTo>
                      <a:pt x="637" y="325"/>
                    </a:lnTo>
                    <a:lnTo>
                      <a:pt x="643" y="329"/>
                    </a:lnTo>
                    <a:lnTo>
                      <a:pt x="648" y="335"/>
                    </a:lnTo>
                    <a:lnTo>
                      <a:pt x="654" y="340"/>
                    </a:lnTo>
                    <a:lnTo>
                      <a:pt x="660" y="346"/>
                    </a:lnTo>
                    <a:lnTo>
                      <a:pt x="667" y="352"/>
                    </a:lnTo>
                    <a:lnTo>
                      <a:pt x="673" y="359"/>
                    </a:lnTo>
                    <a:lnTo>
                      <a:pt x="679" y="363"/>
                    </a:lnTo>
                    <a:lnTo>
                      <a:pt x="684" y="369"/>
                    </a:lnTo>
                    <a:lnTo>
                      <a:pt x="690" y="375"/>
                    </a:lnTo>
                    <a:lnTo>
                      <a:pt x="696" y="380"/>
                    </a:lnTo>
                    <a:lnTo>
                      <a:pt x="702" y="386"/>
                    </a:lnTo>
                    <a:lnTo>
                      <a:pt x="707" y="392"/>
                    </a:lnTo>
                    <a:lnTo>
                      <a:pt x="713" y="399"/>
                    </a:lnTo>
                    <a:lnTo>
                      <a:pt x="721" y="405"/>
                    </a:lnTo>
                    <a:lnTo>
                      <a:pt x="730" y="416"/>
                    </a:lnTo>
                    <a:lnTo>
                      <a:pt x="742" y="426"/>
                    </a:lnTo>
                    <a:lnTo>
                      <a:pt x="751" y="437"/>
                    </a:lnTo>
                    <a:lnTo>
                      <a:pt x="761" y="449"/>
                    </a:lnTo>
                    <a:lnTo>
                      <a:pt x="770" y="458"/>
                    </a:lnTo>
                    <a:lnTo>
                      <a:pt x="780" y="470"/>
                    </a:lnTo>
                    <a:lnTo>
                      <a:pt x="787" y="477"/>
                    </a:lnTo>
                    <a:lnTo>
                      <a:pt x="797" y="487"/>
                    </a:lnTo>
                    <a:lnTo>
                      <a:pt x="802" y="494"/>
                    </a:lnTo>
                    <a:lnTo>
                      <a:pt x="808" y="502"/>
                    </a:lnTo>
                    <a:lnTo>
                      <a:pt x="814" y="508"/>
                    </a:lnTo>
                    <a:lnTo>
                      <a:pt x="819" y="513"/>
                    </a:lnTo>
                    <a:lnTo>
                      <a:pt x="825" y="521"/>
                    </a:lnTo>
                    <a:lnTo>
                      <a:pt x="829" y="525"/>
                    </a:lnTo>
                    <a:lnTo>
                      <a:pt x="875" y="633"/>
                    </a:lnTo>
                    <a:lnTo>
                      <a:pt x="873" y="635"/>
                    </a:lnTo>
                    <a:lnTo>
                      <a:pt x="865" y="643"/>
                    </a:lnTo>
                    <a:lnTo>
                      <a:pt x="861" y="646"/>
                    </a:lnTo>
                    <a:lnTo>
                      <a:pt x="856" y="654"/>
                    </a:lnTo>
                    <a:lnTo>
                      <a:pt x="848" y="662"/>
                    </a:lnTo>
                    <a:lnTo>
                      <a:pt x="842" y="671"/>
                    </a:lnTo>
                    <a:lnTo>
                      <a:pt x="835" y="681"/>
                    </a:lnTo>
                    <a:lnTo>
                      <a:pt x="827" y="692"/>
                    </a:lnTo>
                    <a:lnTo>
                      <a:pt x="821" y="696"/>
                    </a:lnTo>
                    <a:lnTo>
                      <a:pt x="818" y="702"/>
                    </a:lnTo>
                    <a:lnTo>
                      <a:pt x="812" y="707"/>
                    </a:lnTo>
                    <a:lnTo>
                      <a:pt x="808" y="715"/>
                    </a:lnTo>
                    <a:lnTo>
                      <a:pt x="802" y="721"/>
                    </a:lnTo>
                    <a:lnTo>
                      <a:pt x="797" y="726"/>
                    </a:lnTo>
                    <a:lnTo>
                      <a:pt x="791" y="734"/>
                    </a:lnTo>
                    <a:lnTo>
                      <a:pt x="787" y="742"/>
                    </a:lnTo>
                    <a:lnTo>
                      <a:pt x="781" y="747"/>
                    </a:lnTo>
                    <a:lnTo>
                      <a:pt x="778" y="755"/>
                    </a:lnTo>
                    <a:lnTo>
                      <a:pt x="772" y="762"/>
                    </a:lnTo>
                    <a:lnTo>
                      <a:pt x="768" y="770"/>
                    </a:lnTo>
                    <a:lnTo>
                      <a:pt x="761" y="778"/>
                    </a:lnTo>
                    <a:lnTo>
                      <a:pt x="755" y="785"/>
                    </a:lnTo>
                    <a:lnTo>
                      <a:pt x="751" y="793"/>
                    </a:lnTo>
                    <a:lnTo>
                      <a:pt x="745" y="802"/>
                    </a:lnTo>
                    <a:lnTo>
                      <a:pt x="740" y="808"/>
                    </a:lnTo>
                    <a:lnTo>
                      <a:pt x="734" y="818"/>
                    </a:lnTo>
                    <a:lnTo>
                      <a:pt x="728" y="825"/>
                    </a:lnTo>
                    <a:lnTo>
                      <a:pt x="723" y="835"/>
                    </a:lnTo>
                    <a:lnTo>
                      <a:pt x="717" y="842"/>
                    </a:lnTo>
                    <a:lnTo>
                      <a:pt x="711" y="850"/>
                    </a:lnTo>
                    <a:lnTo>
                      <a:pt x="705" y="859"/>
                    </a:lnTo>
                    <a:lnTo>
                      <a:pt x="702" y="869"/>
                    </a:lnTo>
                    <a:lnTo>
                      <a:pt x="694" y="877"/>
                    </a:lnTo>
                    <a:lnTo>
                      <a:pt x="688" y="886"/>
                    </a:lnTo>
                    <a:lnTo>
                      <a:pt x="684" y="894"/>
                    </a:lnTo>
                    <a:lnTo>
                      <a:pt x="679" y="903"/>
                    </a:lnTo>
                    <a:lnTo>
                      <a:pt x="673" y="911"/>
                    </a:lnTo>
                    <a:lnTo>
                      <a:pt x="667" y="920"/>
                    </a:lnTo>
                    <a:lnTo>
                      <a:pt x="662" y="928"/>
                    </a:lnTo>
                    <a:lnTo>
                      <a:pt x="658" y="937"/>
                    </a:lnTo>
                    <a:lnTo>
                      <a:pt x="652" y="947"/>
                    </a:lnTo>
                    <a:lnTo>
                      <a:pt x="648" y="955"/>
                    </a:lnTo>
                    <a:lnTo>
                      <a:pt x="643" y="964"/>
                    </a:lnTo>
                    <a:lnTo>
                      <a:pt x="639" y="974"/>
                    </a:lnTo>
                    <a:lnTo>
                      <a:pt x="633" y="981"/>
                    </a:lnTo>
                    <a:lnTo>
                      <a:pt x="629" y="991"/>
                    </a:lnTo>
                    <a:lnTo>
                      <a:pt x="626" y="998"/>
                    </a:lnTo>
                    <a:lnTo>
                      <a:pt x="622" y="1008"/>
                    </a:lnTo>
                    <a:lnTo>
                      <a:pt x="618" y="1017"/>
                    </a:lnTo>
                    <a:lnTo>
                      <a:pt x="614" y="1025"/>
                    </a:lnTo>
                    <a:lnTo>
                      <a:pt x="612" y="1034"/>
                    </a:lnTo>
                    <a:lnTo>
                      <a:pt x="608" y="1044"/>
                    </a:lnTo>
                    <a:lnTo>
                      <a:pt x="605" y="1050"/>
                    </a:lnTo>
                    <a:lnTo>
                      <a:pt x="603" y="1059"/>
                    </a:lnTo>
                    <a:lnTo>
                      <a:pt x="599" y="1067"/>
                    </a:lnTo>
                    <a:lnTo>
                      <a:pt x="595" y="1074"/>
                    </a:lnTo>
                    <a:lnTo>
                      <a:pt x="593" y="1082"/>
                    </a:lnTo>
                    <a:lnTo>
                      <a:pt x="591" y="1090"/>
                    </a:lnTo>
                    <a:lnTo>
                      <a:pt x="589" y="1095"/>
                    </a:lnTo>
                    <a:lnTo>
                      <a:pt x="586" y="1105"/>
                    </a:lnTo>
                    <a:lnTo>
                      <a:pt x="584" y="1110"/>
                    </a:lnTo>
                    <a:lnTo>
                      <a:pt x="582" y="1118"/>
                    </a:lnTo>
                    <a:lnTo>
                      <a:pt x="580" y="1124"/>
                    </a:lnTo>
                    <a:lnTo>
                      <a:pt x="580" y="1131"/>
                    </a:lnTo>
                    <a:lnTo>
                      <a:pt x="576" y="1139"/>
                    </a:lnTo>
                    <a:lnTo>
                      <a:pt x="576" y="1145"/>
                    </a:lnTo>
                    <a:lnTo>
                      <a:pt x="574" y="1150"/>
                    </a:lnTo>
                    <a:lnTo>
                      <a:pt x="574" y="1158"/>
                    </a:lnTo>
                    <a:lnTo>
                      <a:pt x="570" y="1167"/>
                    </a:lnTo>
                    <a:lnTo>
                      <a:pt x="570" y="1179"/>
                    </a:lnTo>
                    <a:lnTo>
                      <a:pt x="569" y="1190"/>
                    </a:lnTo>
                    <a:lnTo>
                      <a:pt x="569" y="1202"/>
                    </a:lnTo>
                    <a:lnTo>
                      <a:pt x="569" y="1211"/>
                    </a:lnTo>
                    <a:lnTo>
                      <a:pt x="569" y="1223"/>
                    </a:lnTo>
                    <a:lnTo>
                      <a:pt x="569" y="1232"/>
                    </a:lnTo>
                    <a:lnTo>
                      <a:pt x="570" y="1242"/>
                    </a:lnTo>
                    <a:lnTo>
                      <a:pt x="570" y="1249"/>
                    </a:lnTo>
                    <a:lnTo>
                      <a:pt x="572" y="1257"/>
                    </a:lnTo>
                    <a:lnTo>
                      <a:pt x="574" y="1264"/>
                    </a:lnTo>
                    <a:lnTo>
                      <a:pt x="576" y="1272"/>
                    </a:lnTo>
                    <a:lnTo>
                      <a:pt x="580" y="1278"/>
                    </a:lnTo>
                    <a:lnTo>
                      <a:pt x="584" y="1285"/>
                    </a:lnTo>
                    <a:lnTo>
                      <a:pt x="586" y="1291"/>
                    </a:lnTo>
                    <a:lnTo>
                      <a:pt x="591" y="1299"/>
                    </a:lnTo>
                    <a:lnTo>
                      <a:pt x="599" y="1308"/>
                    </a:lnTo>
                    <a:lnTo>
                      <a:pt x="608" y="1318"/>
                    </a:lnTo>
                    <a:lnTo>
                      <a:pt x="612" y="1323"/>
                    </a:lnTo>
                    <a:lnTo>
                      <a:pt x="618" y="1327"/>
                    </a:lnTo>
                    <a:lnTo>
                      <a:pt x="624" y="1331"/>
                    </a:lnTo>
                    <a:lnTo>
                      <a:pt x="631" y="1337"/>
                    </a:lnTo>
                    <a:lnTo>
                      <a:pt x="637" y="1340"/>
                    </a:lnTo>
                    <a:lnTo>
                      <a:pt x="641" y="1342"/>
                    </a:lnTo>
                    <a:lnTo>
                      <a:pt x="648" y="1344"/>
                    </a:lnTo>
                    <a:lnTo>
                      <a:pt x="654" y="1348"/>
                    </a:lnTo>
                    <a:lnTo>
                      <a:pt x="660" y="1350"/>
                    </a:lnTo>
                    <a:lnTo>
                      <a:pt x="667" y="1352"/>
                    </a:lnTo>
                    <a:lnTo>
                      <a:pt x="673" y="1352"/>
                    </a:lnTo>
                    <a:lnTo>
                      <a:pt x="681" y="1354"/>
                    </a:lnTo>
                    <a:lnTo>
                      <a:pt x="686" y="1354"/>
                    </a:lnTo>
                    <a:lnTo>
                      <a:pt x="694" y="1354"/>
                    </a:lnTo>
                    <a:lnTo>
                      <a:pt x="700" y="1354"/>
                    </a:lnTo>
                    <a:lnTo>
                      <a:pt x="705" y="1354"/>
                    </a:lnTo>
                    <a:lnTo>
                      <a:pt x="713" y="1354"/>
                    </a:lnTo>
                    <a:lnTo>
                      <a:pt x="719" y="1354"/>
                    </a:lnTo>
                    <a:lnTo>
                      <a:pt x="724" y="1352"/>
                    </a:lnTo>
                    <a:lnTo>
                      <a:pt x="732" y="1352"/>
                    </a:lnTo>
                    <a:lnTo>
                      <a:pt x="742" y="1350"/>
                    </a:lnTo>
                    <a:lnTo>
                      <a:pt x="753" y="1346"/>
                    </a:lnTo>
                    <a:lnTo>
                      <a:pt x="762" y="1344"/>
                    </a:lnTo>
                    <a:lnTo>
                      <a:pt x="770" y="1342"/>
                    </a:lnTo>
                    <a:lnTo>
                      <a:pt x="778" y="1339"/>
                    </a:lnTo>
                    <a:lnTo>
                      <a:pt x="781" y="1337"/>
                    </a:lnTo>
                    <a:lnTo>
                      <a:pt x="785" y="1337"/>
                    </a:lnTo>
                    <a:lnTo>
                      <a:pt x="787" y="1337"/>
                    </a:lnTo>
                    <a:lnTo>
                      <a:pt x="793" y="1181"/>
                    </a:lnTo>
                    <a:lnTo>
                      <a:pt x="793" y="1177"/>
                    </a:lnTo>
                    <a:lnTo>
                      <a:pt x="797" y="1173"/>
                    </a:lnTo>
                    <a:lnTo>
                      <a:pt x="797" y="1167"/>
                    </a:lnTo>
                    <a:lnTo>
                      <a:pt x="799" y="1164"/>
                    </a:lnTo>
                    <a:lnTo>
                      <a:pt x="802" y="1156"/>
                    </a:lnTo>
                    <a:lnTo>
                      <a:pt x="806" y="1150"/>
                    </a:lnTo>
                    <a:lnTo>
                      <a:pt x="808" y="1141"/>
                    </a:lnTo>
                    <a:lnTo>
                      <a:pt x="812" y="1133"/>
                    </a:lnTo>
                    <a:lnTo>
                      <a:pt x="816" y="1126"/>
                    </a:lnTo>
                    <a:lnTo>
                      <a:pt x="819" y="1118"/>
                    </a:lnTo>
                    <a:lnTo>
                      <a:pt x="823" y="1109"/>
                    </a:lnTo>
                    <a:lnTo>
                      <a:pt x="827" y="1099"/>
                    </a:lnTo>
                    <a:lnTo>
                      <a:pt x="833" y="1090"/>
                    </a:lnTo>
                    <a:lnTo>
                      <a:pt x="838" y="1082"/>
                    </a:lnTo>
                    <a:lnTo>
                      <a:pt x="842" y="1070"/>
                    </a:lnTo>
                    <a:lnTo>
                      <a:pt x="848" y="1059"/>
                    </a:lnTo>
                    <a:lnTo>
                      <a:pt x="852" y="1050"/>
                    </a:lnTo>
                    <a:lnTo>
                      <a:pt x="857" y="1040"/>
                    </a:lnTo>
                    <a:lnTo>
                      <a:pt x="863" y="1029"/>
                    </a:lnTo>
                    <a:lnTo>
                      <a:pt x="867" y="1019"/>
                    </a:lnTo>
                    <a:lnTo>
                      <a:pt x="873" y="1010"/>
                    </a:lnTo>
                    <a:lnTo>
                      <a:pt x="880" y="1002"/>
                    </a:lnTo>
                    <a:lnTo>
                      <a:pt x="884" y="993"/>
                    </a:lnTo>
                    <a:lnTo>
                      <a:pt x="890" y="983"/>
                    </a:lnTo>
                    <a:lnTo>
                      <a:pt x="896" y="974"/>
                    </a:lnTo>
                    <a:lnTo>
                      <a:pt x="901" y="966"/>
                    </a:lnTo>
                    <a:lnTo>
                      <a:pt x="907" y="960"/>
                    </a:lnTo>
                    <a:lnTo>
                      <a:pt x="913" y="953"/>
                    </a:lnTo>
                    <a:lnTo>
                      <a:pt x="918" y="947"/>
                    </a:lnTo>
                    <a:lnTo>
                      <a:pt x="924" y="943"/>
                    </a:lnTo>
                    <a:lnTo>
                      <a:pt x="928" y="935"/>
                    </a:lnTo>
                    <a:lnTo>
                      <a:pt x="934" y="928"/>
                    </a:lnTo>
                    <a:lnTo>
                      <a:pt x="941" y="918"/>
                    </a:lnTo>
                    <a:lnTo>
                      <a:pt x="949" y="911"/>
                    </a:lnTo>
                    <a:lnTo>
                      <a:pt x="954" y="899"/>
                    </a:lnTo>
                    <a:lnTo>
                      <a:pt x="964" y="890"/>
                    </a:lnTo>
                    <a:lnTo>
                      <a:pt x="968" y="882"/>
                    </a:lnTo>
                    <a:lnTo>
                      <a:pt x="972" y="878"/>
                    </a:lnTo>
                    <a:lnTo>
                      <a:pt x="975" y="871"/>
                    </a:lnTo>
                    <a:lnTo>
                      <a:pt x="981" y="865"/>
                    </a:lnTo>
                    <a:lnTo>
                      <a:pt x="985" y="859"/>
                    </a:lnTo>
                    <a:lnTo>
                      <a:pt x="989" y="852"/>
                    </a:lnTo>
                    <a:lnTo>
                      <a:pt x="992" y="844"/>
                    </a:lnTo>
                    <a:lnTo>
                      <a:pt x="998" y="839"/>
                    </a:lnTo>
                    <a:lnTo>
                      <a:pt x="1002" y="831"/>
                    </a:lnTo>
                    <a:lnTo>
                      <a:pt x="1008" y="825"/>
                    </a:lnTo>
                    <a:lnTo>
                      <a:pt x="1011" y="818"/>
                    </a:lnTo>
                    <a:lnTo>
                      <a:pt x="1017" y="812"/>
                    </a:lnTo>
                    <a:lnTo>
                      <a:pt x="1021" y="804"/>
                    </a:lnTo>
                    <a:lnTo>
                      <a:pt x="1027" y="797"/>
                    </a:lnTo>
                    <a:lnTo>
                      <a:pt x="1030" y="789"/>
                    </a:lnTo>
                    <a:lnTo>
                      <a:pt x="1036" y="783"/>
                    </a:lnTo>
                    <a:lnTo>
                      <a:pt x="1040" y="776"/>
                    </a:lnTo>
                    <a:lnTo>
                      <a:pt x="1046" y="768"/>
                    </a:lnTo>
                    <a:lnTo>
                      <a:pt x="1051" y="762"/>
                    </a:lnTo>
                    <a:lnTo>
                      <a:pt x="1055" y="757"/>
                    </a:lnTo>
                    <a:lnTo>
                      <a:pt x="1059" y="749"/>
                    </a:lnTo>
                    <a:lnTo>
                      <a:pt x="1065" y="742"/>
                    </a:lnTo>
                    <a:lnTo>
                      <a:pt x="1069" y="734"/>
                    </a:lnTo>
                    <a:lnTo>
                      <a:pt x="1072" y="726"/>
                    </a:lnTo>
                    <a:lnTo>
                      <a:pt x="1078" y="721"/>
                    </a:lnTo>
                    <a:lnTo>
                      <a:pt x="1082" y="713"/>
                    </a:lnTo>
                    <a:lnTo>
                      <a:pt x="1086" y="707"/>
                    </a:lnTo>
                    <a:lnTo>
                      <a:pt x="1091" y="702"/>
                    </a:lnTo>
                    <a:lnTo>
                      <a:pt x="1095" y="694"/>
                    </a:lnTo>
                    <a:lnTo>
                      <a:pt x="1099" y="688"/>
                    </a:lnTo>
                    <a:lnTo>
                      <a:pt x="1101" y="683"/>
                    </a:lnTo>
                    <a:lnTo>
                      <a:pt x="1107" y="677"/>
                    </a:lnTo>
                    <a:lnTo>
                      <a:pt x="1108" y="669"/>
                    </a:lnTo>
                    <a:lnTo>
                      <a:pt x="1114" y="665"/>
                    </a:lnTo>
                    <a:lnTo>
                      <a:pt x="1116" y="660"/>
                    </a:lnTo>
                    <a:lnTo>
                      <a:pt x="1120" y="656"/>
                    </a:lnTo>
                    <a:lnTo>
                      <a:pt x="1126" y="646"/>
                    </a:lnTo>
                    <a:lnTo>
                      <a:pt x="1131" y="637"/>
                    </a:lnTo>
                    <a:lnTo>
                      <a:pt x="1135" y="629"/>
                    </a:lnTo>
                    <a:lnTo>
                      <a:pt x="1141" y="626"/>
                    </a:lnTo>
                    <a:lnTo>
                      <a:pt x="1146" y="616"/>
                    </a:lnTo>
                    <a:lnTo>
                      <a:pt x="1148" y="612"/>
                    </a:lnTo>
                    <a:lnTo>
                      <a:pt x="1095" y="325"/>
                    </a:lnTo>
                    <a:lnTo>
                      <a:pt x="1095" y="325"/>
                    </a:lnTo>
                    <a:close/>
                  </a:path>
                </a:pathLst>
              </a:custGeom>
              <a:solidFill>
                <a:srgbClr val="599e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585400" y="1796400"/>
                <a:ext cx="1822680" cy="1451160"/>
              </a:xfrm>
              <a:custGeom>
                <a:avLst/>
                <a:gdLst/>
                <a:ahLst/>
                <a:rect l="l" t="t" r="r" b="b"/>
                <a:pathLst>
                  <a:path w="2745" h="2141">
                    <a:moveTo>
                      <a:pt x="1029" y="1000"/>
                    </a:moveTo>
                    <a:lnTo>
                      <a:pt x="1029" y="992"/>
                    </a:lnTo>
                    <a:lnTo>
                      <a:pt x="1033" y="985"/>
                    </a:lnTo>
                    <a:lnTo>
                      <a:pt x="1034" y="975"/>
                    </a:lnTo>
                    <a:lnTo>
                      <a:pt x="1040" y="964"/>
                    </a:lnTo>
                    <a:lnTo>
                      <a:pt x="1042" y="956"/>
                    </a:lnTo>
                    <a:lnTo>
                      <a:pt x="1044" y="950"/>
                    </a:lnTo>
                    <a:lnTo>
                      <a:pt x="1046" y="943"/>
                    </a:lnTo>
                    <a:lnTo>
                      <a:pt x="1048" y="937"/>
                    </a:lnTo>
                    <a:lnTo>
                      <a:pt x="1052" y="928"/>
                    </a:lnTo>
                    <a:lnTo>
                      <a:pt x="1055" y="920"/>
                    </a:lnTo>
                    <a:lnTo>
                      <a:pt x="1057" y="912"/>
                    </a:lnTo>
                    <a:lnTo>
                      <a:pt x="1061" y="905"/>
                    </a:lnTo>
                    <a:lnTo>
                      <a:pt x="1065" y="895"/>
                    </a:lnTo>
                    <a:lnTo>
                      <a:pt x="1069" y="886"/>
                    </a:lnTo>
                    <a:lnTo>
                      <a:pt x="1071" y="876"/>
                    </a:lnTo>
                    <a:lnTo>
                      <a:pt x="1074" y="867"/>
                    </a:lnTo>
                    <a:lnTo>
                      <a:pt x="1078" y="855"/>
                    </a:lnTo>
                    <a:lnTo>
                      <a:pt x="1082" y="846"/>
                    </a:lnTo>
                    <a:lnTo>
                      <a:pt x="1088" y="836"/>
                    </a:lnTo>
                    <a:lnTo>
                      <a:pt x="1091" y="825"/>
                    </a:lnTo>
                    <a:lnTo>
                      <a:pt x="1095" y="813"/>
                    </a:lnTo>
                    <a:lnTo>
                      <a:pt x="1101" y="804"/>
                    </a:lnTo>
                    <a:lnTo>
                      <a:pt x="1105" y="791"/>
                    </a:lnTo>
                    <a:lnTo>
                      <a:pt x="1110" y="781"/>
                    </a:lnTo>
                    <a:lnTo>
                      <a:pt x="1116" y="768"/>
                    </a:lnTo>
                    <a:lnTo>
                      <a:pt x="1120" y="758"/>
                    </a:lnTo>
                    <a:lnTo>
                      <a:pt x="1126" y="745"/>
                    </a:lnTo>
                    <a:lnTo>
                      <a:pt x="1131" y="734"/>
                    </a:lnTo>
                    <a:lnTo>
                      <a:pt x="1137" y="722"/>
                    </a:lnTo>
                    <a:lnTo>
                      <a:pt x="1143" y="709"/>
                    </a:lnTo>
                    <a:lnTo>
                      <a:pt x="1148" y="696"/>
                    </a:lnTo>
                    <a:lnTo>
                      <a:pt x="1154" y="684"/>
                    </a:lnTo>
                    <a:lnTo>
                      <a:pt x="1160" y="669"/>
                    </a:lnTo>
                    <a:lnTo>
                      <a:pt x="1167" y="658"/>
                    </a:lnTo>
                    <a:lnTo>
                      <a:pt x="1173" y="644"/>
                    </a:lnTo>
                    <a:lnTo>
                      <a:pt x="1181" y="631"/>
                    </a:lnTo>
                    <a:lnTo>
                      <a:pt x="1186" y="618"/>
                    </a:lnTo>
                    <a:lnTo>
                      <a:pt x="1194" y="604"/>
                    </a:lnTo>
                    <a:lnTo>
                      <a:pt x="1200" y="591"/>
                    </a:lnTo>
                    <a:lnTo>
                      <a:pt x="1209" y="578"/>
                    </a:lnTo>
                    <a:lnTo>
                      <a:pt x="1215" y="564"/>
                    </a:lnTo>
                    <a:lnTo>
                      <a:pt x="1223" y="551"/>
                    </a:lnTo>
                    <a:lnTo>
                      <a:pt x="1230" y="540"/>
                    </a:lnTo>
                    <a:lnTo>
                      <a:pt x="1240" y="526"/>
                    </a:lnTo>
                    <a:lnTo>
                      <a:pt x="1247" y="513"/>
                    </a:lnTo>
                    <a:lnTo>
                      <a:pt x="1255" y="500"/>
                    </a:lnTo>
                    <a:lnTo>
                      <a:pt x="1263" y="485"/>
                    </a:lnTo>
                    <a:lnTo>
                      <a:pt x="1270" y="473"/>
                    </a:lnTo>
                    <a:lnTo>
                      <a:pt x="1280" y="460"/>
                    </a:lnTo>
                    <a:lnTo>
                      <a:pt x="1287" y="446"/>
                    </a:lnTo>
                    <a:lnTo>
                      <a:pt x="1297" y="435"/>
                    </a:lnTo>
                    <a:lnTo>
                      <a:pt x="1306" y="422"/>
                    </a:lnTo>
                    <a:lnTo>
                      <a:pt x="1316" y="408"/>
                    </a:lnTo>
                    <a:lnTo>
                      <a:pt x="1323" y="395"/>
                    </a:lnTo>
                    <a:lnTo>
                      <a:pt x="1333" y="382"/>
                    </a:lnTo>
                    <a:lnTo>
                      <a:pt x="1344" y="370"/>
                    </a:lnTo>
                    <a:lnTo>
                      <a:pt x="1354" y="359"/>
                    </a:lnTo>
                    <a:lnTo>
                      <a:pt x="1363" y="346"/>
                    </a:lnTo>
                    <a:lnTo>
                      <a:pt x="1373" y="334"/>
                    </a:lnTo>
                    <a:lnTo>
                      <a:pt x="1384" y="323"/>
                    </a:lnTo>
                    <a:lnTo>
                      <a:pt x="1394" y="310"/>
                    </a:lnTo>
                    <a:lnTo>
                      <a:pt x="1403" y="298"/>
                    </a:lnTo>
                    <a:lnTo>
                      <a:pt x="1415" y="287"/>
                    </a:lnTo>
                    <a:lnTo>
                      <a:pt x="1426" y="277"/>
                    </a:lnTo>
                    <a:lnTo>
                      <a:pt x="1436" y="264"/>
                    </a:lnTo>
                    <a:lnTo>
                      <a:pt x="1447" y="254"/>
                    </a:lnTo>
                    <a:lnTo>
                      <a:pt x="1458" y="245"/>
                    </a:lnTo>
                    <a:lnTo>
                      <a:pt x="1470" y="235"/>
                    </a:lnTo>
                    <a:lnTo>
                      <a:pt x="1481" y="224"/>
                    </a:lnTo>
                    <a:lnTo>
                      <a:pt x="1493" y="215"/>
                    </a:lnTo>
                    <a:lnTo>
                      <a:pt x="1504" y="205"/>
                    </a:lnTo>
                    <a:lnTo>
                      <a:pt x="1517" y="197"/>
                    </a:lnTo>
                    <a:lnTo>
                      <a:pt x="1529" y="188"/>
                    </a:lnTo>
                    <a:lnTo>
                      <a:pt x="1542" y="178"/>
                    </a:lnTo>
                    <a:lnTo>
                      <a:pt x="1553" y="171"/>
                    </a:lnTo>
                    <a:lnTo>
                      <a:pt x="1567" y="163"/>
                    </a:lnTo>
                    <a:lnTo>
                      <a:pt x="1578" y="156"/>
                    </a:lnTo>
                    <a:lnTo>
                      <a:pt x="1591" y="148"/>
                    </a:lnTo>
                    <a:lnTo>
                      <a:pt x="1603" y="138"/>
                    </a:lnTo>
                    <a:lnTo>
                      <a:pt x="1616" y="133"/>
                    </a:lnTo>
                    <a:lnTo>
                      <a:pt x="1628" y="125"/>
                    </a:lnTo>
                    <a:lnTo>
                      <a:pt x="1641" y="119"/>
                    </a:lnTo>
                    <a:lnTo>
                      <a:pt x="1652" y="112"/>
                    </a:lnTo>
                    <a:lnTo>
                      <a:pt x="1666" y="106"/>
                    </a:lnTo>
                    <a:lnTo>
                      <a:pt x="1677" y="100"/>
                    </a:lnTo>
                    <a:lnTo>
                      <a:pt x="1690" y="93"/>
                    </a:lnTo>
                    <a:lnTo>
                      <a:pt x="1702" y="87"/>
                    </a:lnTo>
                    <a:lnTo>
                      <a:pt x="1715" y="81"/>
                    </a:lnTo>
                    <a:lnTo>
                      <a:pt x="1726" y="76"/>
                    </a:lnTo>
                    <a:lnTo>
                      <a:pt x="1740" y="72"/>
                    </a:lnTo>
                    <a:lnTo>
                      <a:pt x="1753" y="66"/>
                    </a:lnTo>
                    <a:lnTo>
                      <a:pt x="1764" y="62"/>
                    </a:lnTo>
                    <a:lnTo>
                      <a:pt x="1776" y="57"/>
                    </a:lnTo>
                    <a:lnTo>
                      <a:pt x="1787" y="53"/>
                    </a:lnTo>
                    <a:lnTo>
                      <a:pt x="1801" y="47"/>
                    </a:lnTo>
                    <a:lnTo>
                      <a:pt x="1812" y="45"/>
                    </a:lnTo>
                    <a:lnTo>
                      <a:pt x="1823" y="40"/>
                    </a:lnTo>
                    <a:lnTo>
                      <a:pt x="1835" y="36"/>
                    </a:lnTo>
                    <a:lnTo>
                      <a:pt x="1846" y="32"/>
                    </a:lnTo>
                    <a:lnTo>
                      <a:pt x="1859" y="30"/>
                    </a:lnTo>
                    <a:lnTo>
                      <a:pt x="1869" y="26"/>
                    </a:lnTo>
                    <a:lnTo>
                      <a:pt x="1880" y="22"/>
                    </a:lnTo>
                    <a:lnTo>
                      <a:pt x="1890" y="21"/>
                    </a:lnTo>
                    <a:lnTo>
                      <a:pt x="1903" y="19"/>
                    </a:lnTo>
                    <a:lnTo>
                      <a:pt x="1913" y="15"/>
                    </a:lnTo>
                    <a:lnTo>
                      <a:pt x="1924" y="13"/>
                    </a:lnTo>
                    <a:lnTo>
                      <a:pt x="1934" y="11"/>
                    </a:lnTo>
                    <a:lnTo>
                      <a:pt x="1945" y="9"/>
                    </a:lnTo>
                    <a:lnTo>
                      <a:pt x="1953" y="7"/>
                    </a:lnTo>
                    <a:lnTo>
                      <a:pt x="1962" y="5"/>
                    </a:lnTo>
                    <a:lnTo>
                      <a:pt x="1972" y="3"/>
                    </a:lnTo>
                    <a:lnTo>
                      <a:pt x="1981" y="3"/>
                    </a:lnTo>
                    <a:lnTo>
                      <a:pt x="1991" y="2"/>
                    </a:lnTo>
                    <a:lnTo>
                      <a:pt x="2000" y="0"/>
                    </a:lnTo>
                    <a:lnTo>
                      <a:pt x="2008" y="0"/>
                    </a:lnTo>
                    <a:lnTo>
                      <a:pt x="2017" y="0"/>
                    </a:lnTo>
                    <a:lnTo>
                      <a:pt x="2025" y="0"/>
                    </a:lnTo>
                    <a:lnTo>
                      <a:pt x="2031" y="0"/>
                    </a:lnTo>
                    <a:lnTo>
                      <a:pt x="2038" y="0"/>
                    </a:lnTo>
                    <a:lnTo>
                      <a:pt x="2048" y="0"/>
                    </a:lnTo>
                    <a:lnTo>
                      <a:pt x="2053" y="0"/>
                    </a:lnTo>
                    <a:lnTo>
                      <a:pt x="2059" y="0"/>
                    </a:lnTo>
                    <a:lnTo>
                      <a:pt x="2067" y="2"/>
                    </a:lnTo>
                    <a:lnTo>
                      <a:pt x="2074" y="2"/>
                    </a:lnTo>
                    <a:lnTo>
                      <a:pt x="2084" y="2"/>
                    </a:lnTo>
                    <a:lnTo>
                      <a:pt x="2095" y="3"/>
                    </a:lnTo>
                    <a:lnTo>
                      <a:pt x="2105" y="3"/>
                    </a:lnTo>
                    <a:lnTo>
                      <a:pt x="2114" y="5"/>
                    </a:lnTo>
                    <a:lnTo>
                      <a:pt x="2124" y="5"/>
                    </a:lnTo>
                    <a:lnTo>
                      <a:pt x="2131" y="7"/>
                    </a:lnTo>
                    <a:lnTo>
                      <a:pt x="2139" y="7"/>
                    </a:lnTo>
                    <a:lnTo>
                      <a:pt x="2148" y="9"/>
                    </a:lnTo>
                    <a:lnTo>
                      <a:pt x="2154" y="9"/>
                    </a:lnTo>
                    <a:lnTo>
                      <a:pt x="2160" y="11"/>
                    </a:lnTo>
                    <a:lnTo>
                      <a:pt x="2166" y="13"/>
                    </a:lnTo>
                    <a:lnTo>
                      <a:pt x="2171" y="15"/>
                    </a:lnTo>
                    <a:lnTo>
                      <a:pt x="2181" y="19"/>
                    </a:lnTo>
                    <a:lnTo>
                      <a:pt x="2188" y="26"/>
                    </a:lnTo>
                    <a:lnTo>
                      <a:pt x="2190" y="30"/>
                    </a:lnTo>
                    <a:lnTo>
                      <a:pt x="2194" y="40"/>
                    </a:lnTo>
                    <a:lnTo>
                      <a:pt x="2192" y="43"/>
                    </a:lnTo>
                    <a:lnTo>
                      <a:pt x="2192" y="49"/>
                    </a:lnTo>
                    <a:lnTo>
                      <a:pt x="2190" y="55"/>
                    </a:lnTo>
                    <a:lnTo>
                      <a:pt x="2188" y="62"/>
                    </a:lnTo>
                    <a:lnTo>
                      <a:pt x="2186" y="68"/>
                    </a:lnTo>
                    <a:lnTo>
                      <a:pt x="2183" y="76"/>
                    </a:lnTo>
                    <a:lnTo>
                      <a:pt x="2179" y="85"/>
                    </a:lnTo>
                    <a:lnTo>
                      <a:pt x="2175" y="95"/>
                    </a:lnTo>
                    <a:lnTo>
                      <a:pt x="2167" y="104"/>
                    </a:lnTo>
                    <a:lnTo>
                      <a:pt x="2162" y="114"/>
                    </a:lnTo>
                    <a:lnTo>
                      <a:pt x="2160" y="119"/>
                    </a:lnTo>
                    <a:lnTo>
                      <a:pt x="2156" y="125"/>
                    </a:lnTo>
                    <a:lnTo>
                      <a:pt x="2152" y="131"/>
                    </a:lnTo>
                    <a:lnTo>
                      <a:pt x="2150" y="138"/>
                    </a:lnTo>
                    <a:lnTo>
                      <a:pt x="2145" y="142"/>
                    </a:lnTo>
                    <a:lnTo>
                      <a:pt x="2141" y="150"/>
                    </a:lnTo>
                    <a:lnTo>
                      <a:pt x="2133" y="157"/>
                    </a:lnTo>
                    <a:lnTo>
                      <a:pt x="2129" y="165"/>
                    </a:lnTo>
                    <a:lnTo>
                      <a:pt x="2122" y="175"/>
                    </a:lnTo>
                    <a:lnTo>
                      <a:pt x="2114" y="182"/>
                    </a:lnTo>
                    <a:lnTo>
                      <a:pt x="2107" y="192"/>
                    </a:lnTo>
                    <a:lnTo>
                      <a:pt x="2101" y="203"/>
                    </a:lnTo>
                    <a:lnTo>
                      <a:pt x="2091" y="213"/>
                    </a:lnTo>
                    <a:lnTo>
                      <a:pt x="2082" y="222"/>
                    </a:lnTo>
                    <a:lnTo>
                      <a:pt x="2072" y="234"/>
                    </a:lnTo>
                    <a:lnTo>
                      <a:pt x="2065" y="245"/>
                    </a:lnTo>
                    <a:lnTo>
                      <a:pt x="2053" y="256"/>
                    </a:lnTo>
                    <a:lnTo>
                      <a:pt x="2044" y="270"/>
                    </a:lnTo>
                    <a:lnTo>
                      <a:pt x="2034" y="281"/>
                    </a:lnTo>
                    <a:lnTo>
                      <a:pt x="2025" y="296"/>
                    </a:lnTo>
                    <a:lnTo>
                      <a:pt x="2012" y="308"/>
                    </a:lnTo>
                    <a:lnTo>
                      <a:pt x="2000" y="321"/>
                    </a:lnTo>
                    <a:lnTo>
                      <a:pt x="1989" y="334"/>
                    </a:lnTo>
                    <a:lnTo>
                      <a:pt x="1977" y="350"/>
                    </a:lnTo>
                    <a:lnTo>
                      <a:pt x="1964" y="361"/>
                    </a:lnTo>
                    <a:lnTo>
                      <a:pt x="1953" y="376"/>
                    </a:lnTo>
                    <a:lnTo>
                      <a:pt x="1941" y="389"/>
                    </a:lnTo>
                    <a:lnTo>
                      <a:pt x="1930" y="405"/>
                    </a:lnTo>
                    <a:lnTo>
                      <a:pt x="1917" y="418"/>
                    </a:lnTo>
                    <a:lnTo>
                      <a:pt x="1905" y="433"/>
                    </a:lnTo>
                    <a:lnTo>
                      <a:pt x="1892" y="446"/>
                    </a:lnTo>
                    <a:lnTo>
                      <a:pt x="1879" y="464"/>
                    </a:lnTo>
                    <a:lnTo>
                      <a:pt x="1867" y="477"/>
                    </a:lnTo>
                    <a:lnTo>
                      <a:pt x="1854" y="492"/>
                    </a:lnTo>
                    <a:lnTo>
                      <a:pt x="1840" y="507"/>
                    </a:lnTo>
                    <a:lnTo>
                      <a:pt x="1829" y="523"/>
                    </a:lnTo>
                    <a:lnTo>
                      <a:pt x="1816" y="536"/>
                    </a:lnTo>
                    <a:lnTo>
                      <a:pt x="1804" y="549"/>
                    </a:lnTo>
                    <a:lnTo>
                      <a:pt x="1791" y="564"/>
                    </a:lnTo>
                    <a:lnTo>
                      <a:pt x="1778" y="578"/>
                    </a:lnTo>
                    <a:lnTo>
                      <a:pt x="1766" y="593"/>
                    </a:lnTo>
                    <a:lnTo>
                      <a:pt x="1755" y="606"/>
                    </a:lnTo>
                    <a:lnTo>
                      <a:pt x="1742" y="620"/>
                    </a:lnTo>
                    <a:lnTo>
                      <a:pt x="1732" y="633"/>
                    </a:lnTo>
                    <a:lnTo>
                      <a:pt x="1719" y="646"/>
                    </a:lnTo>
                    <a:lnTo>
                      <a:pt x="1709" y="659"/>
                    </a:lnTo>
                    <a:lnTo>
                      <a:pt x="1698" y="671"/>
                    </a:lnTo>
                    <a:lnTo>
                      <a:pt x="1688" y="686"/>
                    </a:lnTo>
                    <a:lnTo>
                      <a:pt x="1679" y="697"/>
                    </a:lnTo>
                    <a:lnTo>
                      <a:pt x="1669" y="709"/>
                    </a:lnTo>
                    <a:lnTo>
                      <a:pt x="1660" y="722"/>
                    </a:lnTo>
                    <a:lnTo>
                      <a:pt x="1650" y="734"/>
                    </a:lnTo>
                    <a:lnTo>
                      <a:pt x="1641" y="743"/>
                    </a:lnTo>
                    <a:lnTo>
                      <a:pt x="1633" y="755"/>
                    </a:lnTo>
                    <a:lnTo>
                      <a:pt x="1626" y="764"/>
                    </a:lnTo>
                    <a:lnTo>
                      <a:pt x="1618" y="774"/>
                    </a:lnTo>
                    <a:lnTo>
                      <a:pt x="1612" y="781"/>
                    </a:lnTo>
                    <a:lnTo>
                      <a:pt x="1605" y="791"/>
                    </a:lnTo>
                    <a:lnTo>
                      <a:pt x="1599" y="800"/>
                    </a:lnTo>
                    <a:lnTo>
                      <a:pt x="1595" y="808"/>
                    </a:lnTo>
                    <a:lnTo>
                      <a:pt x="1590" y="815"/>
                    </a:lnTo>
                    <a:lnTo>
                      <a:pt x="1586" y="821"/>
                    </a:lnTo>
                    <a:lnTo>
                      <a:pt x="1582" y="827"/>
                    </a:lnTo>
                    <a:lnTo>
                      <a:pt x="1580" y="834"/>
                    </a:lnTo>
                    <a:lnTo>
                      <a:pt x="1576" y="842"/>
                    </a:lnTo>
                    <a:lnTo>
                      <a:pt x="1576" y="850"/>
                    </a:lnTo>
                    <a:lnTo>
                      <a:pt x="1578" y="853"/>
                    </a:lnTo>
                    <a:lnTo>
                      <a:pt x="1588" y="855"/>
                    </a:lnTo>
                    <a:lnTo>
                      <a:pt x="1591" y="855"/>
                    </a:lnTo>
                    <a:lnTo>
                      <a:pt x="1599" y="855"/>
                    </a:lnTo>
                    <a:lnTo>
                      <a:pt x="1609" y="855"/>
                    </a:lnTo>
                    <a:lnTo>
                      <a:pt x="1618" y="855"/>
                    </a:lnTo>
                    <a:lnTo>
                      <a:pt x="1628" y="853"/>
                    </a:lnTo>
                    <a:lnTo>
                      <a:pt x="1641" y="851"/>
                    </a:lnTo>
                    <a:lnTo>
                      <a:pt x="1652" y="850"/>
                    </a:lnTo>
                    <a:lnTo>
                      <a:pt x="1667" y="848"/>
                    </a:lnTo>
                    <a:lnTo>
                      <a:pt x="1681" y="846"/>
                    </a:lnTo>
                    <a:lnTo>
                      <a:pt x="1698" y="842"/>
                    </a:lnTo>
                    <a:lnTo>
                      <a:pt x="1713" y="838"/>
                    </a:lnTo>
                    <a:lnTo>
                      <a:pt x="1730" y="836"/>
                    </a:lnTo>
                    <a:lnTo>
                      <a:pt x="1747" y="832"/>
                    </a:lnTo>
                    <a:lnTo>
                      <a:pt x="1766" y="829"/>
                    </a:lnTo>
                    <a:lnTo>
                      <a:pt x="1785" y="825"/>
                    </a:lnTo>
                    <a:lnTo>
                      <a:pt x="1804" y="819"/>
                    </a:lnTo>
                    <a:lnTo>
                      <a:pt x="1825" y="815"/>
                    </a:lnTo>
                    <a:lnTo>
                      <a:pt x="1846" y="810"/>
                    </a:lnTo>
                    <a:lnTo>
                      <a:pt x="1867" y="806"/>
                    </a:lnTo>
                    <a:lnTo>
                      <a:pt x="1890" y="800"/>
                    </a:lnTo>
                    <a:lnTo>
                      <a:pt x="1913" y="794"/>
                    </a:lnTo>
                    <a:lnTo>
                      <a:pt x="1934" y="789"/>
                    </a:lnTo>
                    <a:lnTo>
                      <a:pt x="1956" y="783"/>
                    </a:lnTo>
                    <a:lnTo>
                      <a:pt x="1981" y="779"/>
                    </a:lnTo>
                    <a:lnTo>
                      <a:pt x="2004" y="774"/>
                    </a:lnTo>
                    <a:lnTo>
                      <a:pt x="2029" y="768"/>
                    </a:lnTo>
                    <a:lnTo>
                      <a:pt x="2052" y="762"/>
                    </a:lnTo>
                    <a:lnTo>
                      <a:pt x="2076" y="758"/>
                    </a:lnTo>
                    <a:lnTo>
                      <a:pt x="2101" y="751"/>
                    </a:lnTo>
                    <a:lnTo>
                      <a:pt x="2124" y="745"/>
                    </a:lnTo>
                    <a:lnTo>
                      <a:pt x="2148" y="737"/>
                    </a:lnTo>
                    <a:lnTo>
                      <a:pt x="2171" y="734"/>
                    </a:lnTo>
                    <a:lnTo>
                      <a:pt x="2196" y="726"/>
                    </a:lnTo>
                    <a:lnTo>
                      <a:pt x="2219" y="720"/>
                    </a:lnTo>
                    <a:lnTo>
                      <a:pt x="2244" y="715"/>
                    </a:lnTo>
                    <a:lnTo>
                      <a:pt x="2268" y="709"/>
                    </a:lnTo>
                    <a:lnTo>
                      <a:pt x="2291" y="703"/>
                    </a:lnTo>
                    <a:lnTo>
                      <a:pt x="2314" y="697"/>
                    </a:lnTo>
                    <a:lnTo>
                      <a:pt x="2337" y="692"/>
                    </a:lnTo>
                    <a:lnTo>
                      <a:pt x="2359" y="686"/>
                    </a:lnTo>
                    <a:lnTo>
                      <a:pt x="2380" y="680"/>
                    </a:lnTo>
                    <a:lnTo>
                      <a:pt x="2403" y="677"/>
                    </a:lnTo>
                    <a:lnTo>
                      <a:pt x="2424" y="671"/>
                    </a:lnTo>
                    <a:lnTo>
                      <a:pt x="2447" y="667"/>
                    </a:lnTo>
                    <a:lnTo>
                      <a:pt x="2466" y="661"/>
                    </a:lnTo>
                    <a:lnTo>
                      <a:pt x="2485" y="658"/>
                    </a:lnTo>
                    <a:lnTo>
                      <a:pt x="2504" y="652"/>
                    </a:lnTo>
                    <a:lnTo>
                      <a:pt x="2523" y="648"/>
                    </a:lnTo>
                    <a:lnTo>
                      <a:pt x="2540" y="644"/>
                    </a:lnTo>
                    <a:lnTo>
                      <a:pt x="2555" y="640"/>
                    </a:lnTo>
                    <a:lnTo>
                      <a:pt x="2572" y="639"/>
                    </a:lnTo>
                    <a:lnTo>
                      <a:pt x="2588" y="637"/>
                    </a:lnTo>
                    <a:lnTo>
                      <a:pt x="2601" y="633"/>
                    </a:lnTo>
                    <a:lnTo>
                      <a:pt x="2616" y="629"/>
                    </a:lnTo>
                    <a:lnTo>
                      <a:pt x="2628" y="627"/>
                    </a:lnTo>
                    <a:lnTo>
                      <a:pt x="2639" y="625"/>
                    </a:lnTo>
                    <a:lnTo>
                      <a:pt x="2648" y="625"/>
                    </a:lnTo>
                    <a:lnTo>
                      <a:pt x="2658" y="623"/>
                    </a:lnTo>
                    <a:lnTo>
                      <a:pt x="2667" y="623"/>
                    </a:lnTo>
                    <a:lnTo>
                      <a:pt x="2675" y="623"/>
                    </a:lnTo>
                    <a:lnTo>
                      <a:pt x="2681" y="623"/>
                    </a:lnTo>
                    <a:lnTo>
                      <a:pt x="2686" y="623"/>
                    </a:lnTo>
                    <a:lnTo>
                      <a:pt x="2692" y="623"/>
                    </a:lnTo>
                    <a:lnTo>
                      <a:pt x="2698" y="625"/>
                    </a:lnTo>
                    <a:lnTo>
                      <a:pt x="2707" y="627"/>
                    </a:lnTo>
                    <a:lnTo>
                      <a:pt x="2717" y="631"/>
                    </a:lnTo>
                    <a:lnTo>
                      <a:pt x="2725" y="635"/>
                    </a:lnTo>
                    <a:lnTo>
                      <a:pt x="2730" y="640"/>
                    </a:lnTo>
                    <a:lnTo>
                      <a:pt x="2736" y="646"/>
                    </a:lnTo>
                    <a:lnTo>
                      <a:pt x="2742" y="656"/>
                    </a:lnTo>
                    <a:lnTo>
                      <a:pt x="2744" y="661"/>
                    </a:lnTo>
                    <a:lnTo>
                      <a:pt x="2745" y="671"/>
                    </a:lnTo>
                    <a:lnTo>
                      <a:pt x="2745" y="680"/>
                    </a:lnTo>
                    <a:lnTo>
                      <a:pt x="2745" y="690"/>
                    </a:lnTo>
                    <a:lnTo>
                      <a:pt x="2744" y="696"/>
                    </a:lnTo>
                    <a:lnTo>
                      <a:pt x="2742" y="699"/>
                    </a:lnTo>
                    <a:lnTo>
                      <a:pt x="2742" y="707"/>
                    </a:lnTo>
                    <a:lnTo>
                      <a:pt x="2740" y="713"/>
                    </a:lnTo>
                    <a:lnTo>
                      <a:pt x="2738" y="718"/>
                    </a:lnTo>
                    <a:lnTo>
                      <a:pt x="2736" y="724"/>
                    </a:lnTo>
                    <a:lnTo>
                      <a:pt x="2732" y="732"/>
                    </a:lnTo>
                    <a:lnTo>
                      <a:pt x="2730" y="737"/>
                    </a:lnTo>
                    <a:lnTo>
                      <a:pt x="2726" y="745"/>
                    </a:lnTo>
                    <a:lnTo>
                      <a:pt x="2723" y="751"/>
                    </a:lnTo>
                    <a:lnTo>
                      <a:pt x="2719" y="758"/>
                    </a:lnTo>
                    <a:lnTo>
                      <a:pt x="2715" y="764"/>
                    </a:lnTo>
                    <a:lnTo>
                      <a:pt x="2709" y="770"/>
                    </a:lnTo>
                    <a:lnTo>
                      <a:pt x="2704" y="777"/>
                    </a:lnTo>
                    <a:lnTo>
                      <a:pt x="2700" y="785"/>
                    </a:lnTo>
                    <a:lnTo>
                      <a:pt x="2694" y="793"/>
                    </a:lnTo>
                    <a:lnTo>
                      <a:pt x="2686" y="798"/>
                    </a:lnTo>
                    <a:lnTo>
                      <a:pt x="2681" y="808"/>
                    </a:lnTo>
                    <a:lnTo>
                      <a:pt x="2673" y="813"/>
                    </a:lnTo>
                    <a:lnTo>
                      <a:pt x="2667" y="823"/>
                    </a:lnTo>
                    <a:lnTo>
                      <a:pt x="2658" y="829"/>
                    </a:lnTo>
                    <a:lnTo>
                      <a:pt x="2652" y="838"/>
                    </a:lnTo>
                    <a:lnTo>
                      <a:pt x="2645" y="846"/>
                    </a:lnTo>
                    <a:lnTo>
                      <a:pt x="2637" y="853"/>
                    </a:lnTo>
                    <a:lnTo>
                      <a:pt x="2628" y="861"/>
                    </a:lnTo>
                    <a:lnTo>
                      <a:pt x="2618" y="871"/>
                    </a:lnTo>
                    <a:lnTo>
                      <a:pt x="2609" y="876"/>
                    </a:lnTo>
                    <a:lnTo>
                      <a:pt x="2599" y="886"/>
                    </a:lnTo>
                    <a:lnTo>
                      <a:pt x="2588" y="893"/>
                    </a:lnTo>
                    <a:lnTo>
                      <a:pt x="2576" y="901"/>
                    </a:lnTo>
                    <a:lnTo>
                      <a:pt x="2565" y="909"/>
                    </a:lnTo>
                    <a:lnTo>
                      <a:pt x="2555" y="918"/>
                    </a:lnTo>
                    <a:lnTo>
                      <a:pt x="2542" y="926"/>
                    </a:lnTo>
                    <a:lnTo>
                      <a:pt x="2531" y="935"/>
                    </a:lnTo>
                    <a:lnTo>
                      <a:pt x="2517" y="943"/>
                    </a:lnTo>
                    <a:lnTo>
                      <a:pt x="2506" y="952"/>
                    </a:lnTo>
                    <a:lnTo>
                      <a:pt x="2493" y="960"/>
                    </a:lnTo>
                    <a:lnTo>
                      <a:pt x="2477" y="967"/>
                    </a:lnTo>
                    <a:lnTo>
                      <a:pt x="2464" y="977"/>
                    </a:lnTo>
                    <a:lnTo>
                      <a:pt x="2451" y="986"/>
                    </a:lnTo>
                    <a:lnTo>
                      <a:pt x="2434" y="994"/>
                    </a:lnTo>
                    <a:lnTo>
                      <a:pt x="2418" y="1002"/>
                    </a:lnTo>
                    <a:lnTo>
                      <a:pt x="2403" y="1009"/>
                    </a:lnTo>
                    <a:lnTo>
                      <a:pt x="2386" y="1019"/>
                    </a:lnTo>
                    <a:lnTo>
                      <a:pt x="2371" y="1026"/>
                    </a:lnTo>
                    <a:lnTo>
                      <a:pt x="2354" y="1034"/>
                    </a:lnTo>
                    <a:lnTo>
                      <a:pt x="2337" y="1042"/>
                    </a:lnTo>
                    <a:lnTo>
                      <a:pt x="2321" y="1051"/>
                    </a:lnTo>
                    <a:lnTo>
                      <a:pt x="2302" y="1059"/>
                    </a:lnTo>
                    <a:lnTo>
                      <a:pt x="2287" y="1066"/>
                    </a:lnTo>
                    <a:lnTo>
                      <a:pt x="2270" y="1074"/>
                    </a:lnTo>
                    <a:lnTo>
                      <a:pt x="2253" y="1082"/>
                    </a:lnTo>
                    <a:lnTo>
                      <a:pt x="2234" y="1089"/>
                    </a:lnTo>
                    <a:lnTo>
                      <a:pt x="2217" y="1097"/>
                    </a:lnTo>
                    <a:lnTo>
                      <a:pt x="2198" y="1104"/>
                    </a:lnTo>
                    <a:lnTo>
                      <a:pt x="2181" y="1112"/>
                    </a:lnTo>
                    <a:lnTo>
                      <a:pt x="2162" y="1120"/>
                    </a:lnTo>
                    <a:lnTo>
                      <a:pt x="2143" y="1125"/>
                    </a:lnTo>
                    <a:lnTo>
                      <a:pt x="2124" y="1133"/>
                    </a:lnTo>
                    <a:lnTo>
                      <a:pt x="2105" y="1141"/>
                    </a:lnTo>
                    <a:lnTo>
                      <a:pt x="2086" y="1148"/>
                    </a:lnTo>
                    <a:lnTo>
                      <a:pt x="2067" y="1156"/>
                    </a:lnTo>
                    <a:lnTo>
                      <a:pt x="2048" y="1161"/>
                    </a:lnTo>
                    <a:lnTo>
                      <a:pt x="2031" y="1169"/>
                    </a:lnTo>
                    <a:lnTo>
                      <a:pt x="2012" y="1177"/>
                    </a:lnTo>
                    <a:lnTo>
                      <a:pt x="1993" y="1182"/>
                    </a:lnTo>
                    <a:lnTo>
                      <a:pt x="1974" y="1188"/>
                    </a:lnTo>
                    <a:lnTo>
                      <a:pt x="1955" y="1196"/>
                    </a:lnTo>
                    <a:lnTo>
                      <a:pt x="1936" y="1203"/>
                    </a:lnTo>
                    <a:lnTo>
                      <a:pt x="1918" y="1209"/>
                    </a:lnTo>
                    <a:lnTo>
                      <a:pt x="1899" y="1215"/>
                    </a:lnTo>
                    <a:lnTo>
                      <a:pt x="1882" y="1222"/>
                    </a:lnTo>
                    <a:lnTo>
                      <a:pt x="1863" y="1226"/>
                    </a:lnTo>
                    <a:lnTo>
                      <a:pt x="1844" y="1232"/>
                    </a:lnTo>
                    <a:lnTo>
                      <a:pt x="1825" y="1237"/>
                    </a:lnTo>
                    <a:lnTo>
                      <a:pt x="1810" y="1243"/>
                    </a:lnTo>
                    <a:lnTo>
                      <a:pt x="1791" y="1247"/>
                    </a:lnTo>
                    <a:lnTo>
                      <a:pt x="1774" y="1253"/>
                    </a:lnTo>
                    <a:lnTo>
                      <a:pt x="1755" y="1258"/>
                    </a:lnTo>
                    <a:lnTo>
                      <a:pt x="1740" y="1264"/>
                    </a:lnTo>
                    <a:lnTo>
                      <a:pt x="1721" y="1268"/>
                    </a:lnTo>
                    <a:lnTo>
                      <a:pt x="1704" y="1272"/>
                    </a:lnTo>
                    <a:lnTo>
                      <a:pt x="1688" y="1277"/>
                    </a:lnTo>
                    <a:lnTo>
                      <a:pt x="1673" y="1281"/>
                    </a:lnTo>
                    <a:lnTo>
                      <a:pt x="1656" y="1285"/>
                    </a:lnTo>
                    <a:lnTo>
                      <a:pt x="1641" y="1289"/>
                    </a:lnTo>
                    <a:lnTo>
                      <a:pt x="1626" y="1295"/>
                    </a:lnTo>
                    <a:lnTo>
                      <a:pt x="1612" y="1298"/>
                    </a:lnTo>
                    <a:lnTo>
                      <a:pt x="1597" y="1300"/>
                    </a:lnTo>
                    <a:lnTo>
                      <a:pt x="1582" y="1304"/>
                    </a:lnTo>
                    <a:lnTo>
                      <a:pt x="1569" y="1308"/>
                    </a:lnTo>
                    <a:lnTo>
                      <a:pt x="1557" y="1310"/>
                    </a:lnTo>
                    <a:lnTo>
                      <a:pt x="1544" y="1314"/>
                    </a:lnTo>
                    <a:lnTo>
                      <a:pt x="1531" y="1315"/>
                    </a:lnTo>
                    <a:lnTo>
                      <a:pt x="1519" y="1319"/>
                    </a:lnTo>
                    <a:lnTo>
                      <a:pt x="1508" y="1323"/>
                    </a:lnTo>
                    <a:lnTo>
                      <a:pt x="1494" y="1323"/>
                    </a:lnTo>
                    <a:lnTo>
                      <a:pt x="1485" y="1325"/>
                    </a:lnTo>
                    <a:lnTo>
                      <a:pt x="1475" y="1327"/>
                    </a:lnTo>
                    <a:lnTo>
                      <a:pt x="1466" y="1329"/>
                    </a:lnTo>
                    <a:lnTo>
                      <a:pt x="1456" y="1329"/>
                    </a:lnTo>
                    <a:lnTo>
                      <a:pt x="1447" y="1331"/>
                    </a:lnTo>
                    <a:lnTo>
                      <a:pt x="1439" y="1333"/>
                    </a:lnTo>
                    <a:lnTo>
                      <a:pt x="1432" y="1334"/>
                    </a:lnTo>
                    <a:lnTo>
                      <a:pt x="1424" y="1334"/>
                    </a:lnTo>
                    <a:lnTo>
                      <a:pt x="1417" y="1334"/>
                    </a:lnTo>
                    <a:lnTo>
                      <a:pt x="1409" y="1334"/>
                    </a:lnTo>
                    <a:lnTo>
                      <a:pt x="1403" y="1334"/>
                    </a:lnTo>
                    <a:lnTo>
                      <a:pt x="1398" y="1334"/>
                    </a:lnTo>
                    <a:lnTo>
                      <a:pt x="1390" y="1334"/>
                    </a:lnTo>
                    <a:lnTo>
                      <a:pt x="1384" y="1334"/>
                    </a:lnTo>
                    <a:lnTo>
                      <a:pt x="1379" y="1334"/>
                    </a:lnTo>
                    <a:lnTo>
                      <a:pt x="1371" y="1334"/>
                    </a:lnTo>
                    <a:lnTo>
                      <a:pt x="1365" y="1334"/>
                    </a:lnTo>
                    <a:lnTo>
                      <a:pt x="1359" y="1334"/>
                    </a:lnTo>
                    <a:lnTo>
                      <a:pt x="1354" y="1334"/>
                    </a:lnTo>
                    <a:lnTo>
                      <a:pt x="1342" y="1334"/>
                    </a:lnTo>
                    <a:lnTo>
                      <a:pt x="1333" y="1334"/>
                    </a:lnTo>
                    <a:lnTo>
                      <a:pt x="1321" y="1333"/>
                    </a:lnTo>
                    <a:lnTo>
                      <a:pt x="1312" y="1333"/>
                    </a:lnTo>
                    <a:lnTo>
                      <a:pt x="1302" y="1329"/>
                    </a:lnTo>
                    <a:lnTo>
                      <a:pt x="1295" y="1329"/>
                    </a:lnTo>
                    <a:lnTo>
                      <a:pt x="1285" y="1329"/>
                    </a:lnTo>
                    <a:lnTo>
                      <a:pt x="1278" y="1327"/>
                    </a:lnTo>
                    <a:lnTo>
                      <a:pt x="1272" y="1327"/>
                    </a:lnTo>
                    <a:lnTo>
                      <a:pt x="1266" y="1327"/>
                    </a:lnTo>
                    <a:lnTo>
                      <a:pt x="1261" y="1325"/>
                    </a:lnTo>
                    <a:lnTo>
                      <a:pt x="1253" y="1325"/>
                    </a:lnTo>
                    <a:lnTo>
                      <a:pt x="1249" y="1325"/>
                    </a:lnTo>
                    <a:lnTo>
                      <a:pt x="1245" y="1325"/>
                    </a:lnTo>
                    <a:lnTo>
                      <a:pt x="1238" y="1325"/>
                    </a:lnTo>
                    <a:lnTo>
                      <a:pt x="1234" y="1329"/>
                    </a:lnTo>
                    <a:lnTo>
                      <a:pt x="1230" y="1334"/>
                    </a:lnTo>
                    <a:lnTo>
                      <a:pt x="1230" y="1340"/>
                    </a:lnTo>
                    <a:lnTo>
                      <a:pt x="1230" y="1344"/>
                    </a:lnTo>
                    <a:lnTo>
                      <a:pt x="1230" y="1348"/>
                    </a:lnTo>
                    <a:lnTo>
                      <a:pt x="1232" y="1355"/>
                    </a:lnTo>
                    <a:lnTo>
                      <a:pt x="1234" y="1361"/>
                    </a:lnTo>
                    <a:lnTo>
                      <a:pt x="1236" y="1367"/>
                    </a:lnTo>
                    <a:lnTo>
                      <a:pt x="1238" y="1372"/>
                    </a:lnTo>
                    <a:lnTo>
                      <a:pt x="1242" y="1380"/>
                    </a:lnTo>
                    <a:lnTo>
                      <a:pt x="1244" y="1386"/>
                    </a:lnTo>
                    <a:lnTo>
                      <a:pt x="1247" y="1392"/>
                    </a:lnTo>
                    <a:lnTo>
                      <a:pt x="1251" y="1399"/>
                    </a:lnTo>
                    <a:lnTo>
                      <a:pt x="1257" y="1405"/>
                    </a:lnTo>
                    <a:lnTo>
                      <a:pt x="1261" y="1412"/>
                    </a:lnTo>
                    <a:lnTo>
                      <a:pt x="1264" y="1418"/>
                    </a:lnTo>
                    <a:lnTo>
                      <a:pt x="1270" y="1426"/>
                    </a:lnTo>
                    <a:lnTo>
                      <a:pt x="1272" y="1433"/>
                    </a:lnTo>
                    <a:lnTo>
                      <a:pt x="1278" y="1443"/>
                    </a:lnTo>
                    <a:lnTo>
                      <a:pt x="1282" y="1450"/>
                    </a:lnTo>
                    <a:lnTo>
                      <a:pt x="1287" y="1460"/>
                    </a:lnTo>
                    <a:lnTo>
                      <a:pt x="1291" y="1469"/>
                    </a:lnTo>
                    <a:lnTo>
                      <a:pt x="1295" y="1481"/>
                    </a:lnTo>
                    <a:lnTo>
                      <a:pt x="1297" y="1490"/>
                    </a:lnTo>
                    <a:lnTo>
                      <a:pt x="1301" y="1500"/>
                    </a:lnTo>
                    <a:lnTo>
                      <a:pt x="1301" y="1506"/>
                    </a:lnTo>
                    <a:lnTo>
                      <a:pt x="1302" y="1511"/>
                    </a:lnTo>
                    <a:lnTo>
                      <a:pt x="1304" y="1519"/>
                    </a:lnTo>
                    <a:lnTo>
                      <a:pt x="1306" y="1525"/>
                    </a:lnTo>
                    <a:lnTo>
                      <a:pt x="1306" y="1532"/>
                    </a:lnTo>
                    <a:lnTo>
                      <a:pt x="1306" y="1538"/>
                    </a:lnTo>
                    <a:lnTo>
                      <a:pt x="1308" y="1544"/>
                    </a:lnTo>
                    <a:lnTo>
                      <a:pt x="1308" y="1551"/>
                    </a:lnTo>
                    <a:lnTo>
                      <a:pt x="1308" y="1559"/>
                    </a:lnTo>
                    <a:lnTo>
                      <a:pt x="1308" y="1566"/>
                    </a:lnTo>
                    <a:lnTo>
                      <a:pt x="1308" y="1574"/>
                    </a:lnTo>
                    <a:lnTo>
                      <a:pt x="1308" y="1584"/>
                    </a:lnTo>
                    <a:lnTo>
                      <a:pt x="1308" y="1591"/>
                    </a:lnTo>
                    <a:lnTo>
                      <a:pt x="1306" y="1599"/>
                    </a:lnTo>
                    <a:lnTo>
                      <a:pt x="1306" y="1610"/>
                    </a:lnTo>
                    <a:lnTo>
                      <a:pt x="1306" y="1620"/>
                    </a:lnTo>
                    <a:lnTo>
                      <a:pt x="1304" y="1627"/>
                    </a:lnTo>
                    <a:lnTo>
                      <a:pt x="1302" y="1637"/>
                    </a:lnTo>
                    <a:lnTo>
                      <a:pt x="1301" y="1648"/>
                    </a:lnTo>
                    <a:lnTo>
                      <a:pt x="1301" y="1658"/>
                    </a:lnTo>
                    <a:lnTo>
                      <a:pt x="1297" y="1667"/>
                    </a:lnTo>
                    <a:lnTo>
                      <a:pt x="1295" y="1679"/>
                    </a:lnTo>
                    <a:lnTo>
                      <a:pt x="1291" y="1690"/>
                    </a:lnTo>
                    <a:lnTo>
                      <a:pt x="1289" y="1703"/>
                    </a:lnTo>
                    <a:lnTo>
                      <a:pt x="1285" y="1715"/>
                    </a:lnTo>
                    <a:lnTo>
                      <a:pt x="1282" y="1726"/>
                    </a:lnTo>
                    <a:lnTo>
                      <a:pt x="1280" y="1738"/>
                    </a:lnTo>
                    <a:lnTo>
                      <a:pt x="1276" y="1753"/>
                    </a:lnTo>
                    <a:lnTo>
                      <a:pt x="1270" y="1764"/>
                    </a:lnTo>
                    <a:lnTo>
                      <a:pt x="1266" y="1778"/>
                    </a:lnTo>
                    <a:lnTo>
                      <a:pt x="1263" y="1789"/>
                    </a:lnTo>
                    <a:lnTo>
                      <a:pt x="1259" y="1800"/>
                    </a:lnTo>
                    <a:lnTo>
                      <a:pt x="1253" y="1812"/>
                    </a:lnTo>
                    <a:lnTo>
                      <a:pt x="1249" y="1823"/>
                    </a:lnTo>
                    <a:lnTo>
                      <a:pt x="1245" y="1835"/>
                    </a:lnTo>
                    <a:lnTo>
                      <a:pt x="1242" y="1846"/>
                    </a:lnTo>
                    <a:lnTo>
                      <a:pt x="1238" y="1855"/>
                    </a:lnTo>
                    <a:lnTo>
                      <a:pt x="1232" y="1867"/>
                    </a:lnTo>
                    <a:lnTo>
                      <a:pt x="1228" y="1876"/>
                    </a:lnTo>
                    <a:lnTo>
                      <a:pt x="1225" y="1888"/>
                    </a:lnTo>
                    <a:lnTo>
                      <a:pt x="1221" y="1897"/>
                    </a:lnTo>
                    <a:lnTo>
                      <a:pt x="1217" y="1907"/>
                    </a:lnTo>
                    <a:lnTo>
                      <a:pt x="1213" y="1916"/>
                    </a:lnTo>
                    <a:lnTo>
                      <a:pt x="1209" y="1928"/>
                    </a:lnTo>
                    <a:lnTo>
                      <a:pt x="1204" y="1935"/>
                    </a:lnTo>
                    <a:lnTo>
                      <a:pt x="1200" y="1945"/>
                    </a:lnTo>
                    <a:lnTo>
                      <a:pt x="1196" y="1952"/>
                    </a:lnTo>
                    <a:lnTo>
                      <a:pt x="1192" y="1962"/>
                    </a:lnTo>
                    <a:lnTo>
                      <a:pt x="1186" y="1970"/>
                    </a:lnTo>
                    <a:lnTo>
                      <a:pt x="1183" y="1977"/>
                    </a:lnTo>
                    <a:lnTo>
                      <a:pt x="1177" y="1985"/>
                    </a:lnTo>
                    <a:lnTo>
                      <a:pt x="1175" y="1994"/>
                    </a:lnTo>
                    <a:lnTo>
                      <a:pt x="1169" y="2000"/>
                    </a:lnTo>
                    <a:lnTo>
                      <a:pt x="1166" y="2008"/>
                    </a:lnTo>
                    <a:lnTo>
                      <a:pt x="1160" y="2015"/>
                    </a:lnTo>
                    <a:lnTo>
                      <a:pt x="1156" y="2023"/>
                    </a:lnTo>
                    <a:lnTo>
                      <a:pt x="1150" y="2028"/>
                    </a:lnTo>
                    <a:lnTo>
                      <a:pt x="1148" y="2034"/>
                    </a:lnTo>
                    <a:lnTo>
                      <a:pt x="1143" y="2042"/>
                    </a:lnTo>
                    <a:lnTo>
                      <a:pt x="1139" y="2048"/>
                    </a:lnTo>
                    <a:lnTo>
                      <a:pt x="1129" y="2059"/>
                    </a:lnTo>
                    <a:lnTo>
                      <a:pt x="1120" y="2070"/>
                    </a:lnTo>
                    <a:lnTo>
                      <a:pt x="1109" y="2080"/>
                    </a:lnTo>
                    <a:lnTo>
                      <a:pt x="1099" y="2089"/>
                    </a:lnTo>
                    <a:lnTo>
                      <a:pt x="1088" y="2097"/>
                    </a:lnTo>
                    <a:lnTo>
                      <a:pt x="1078" y="2105"/>
                    </a:lnTo>
                    <a:lnTo>
                      <a:pt x="1065" y="2112"/>
                    </a:lnTo>
                    <a:lnTo>
                      <a:pt x="1055" y="2118"/>
                    </a:lnTo>
                    <a:lnTo>
                      <a:pt x="1048" y="2120"/>
                    </a:lnTo>
                    <a:lnTo>
                      <a:pt x="1042" y="2122"/>
                    </a:lnTo>
                    <a:lnTo>
                      <a:pt x="1036" y="2124"/>
                    </a:lnTo>
                    <a:lnTo>
                      <a:pt x="1029" y="2127"/>
                    </a:lnTo>
                    <a:lnTo>
                      <a:pt x="1023" y="2129"/>
                    </a:lnTo>
                    <a:lnTo>
                      <a:pt x="1017" y="2131"/>
                    </a:lnTo>
                    <a:lnTo>
                      <a:pt x="1010" y="2133"/>
                    </a:lnTo>
                    <a:lnTo>
                      <a:pt x="1004" y="2135"/>
                    </a:lnTo>
                    <a:lnTo>
                      <a:pt x="996" y="2135"/>
                    </a:lnTo>
                    <a:lnTo>
                      <a:pt x="989" y="2137"/>
                    </a:lnTo>
                    <a:lnTo>
                      <a:pt x="981" y="2139"/>
                    </a:lnTo>
                    <a:lnTo>
                      <a:pt x="975" y="2139"/>
                    </a:lnTo>
                    <a:lnTo>
                      <a:pt x="968" y="2139"/>
                    </a:lnTo>
                    <a:lnTo>
                      <a:pt x="960" y="2141"/>
                    </a:lnTo>
                    <a:lnTo>
                      <a:pt x="953" y="2141"/>
                    </a:lnTo>
                    <a:lnTo>
                      <a:pt x="947" y="2141"/>
                    </a:lnTo>
                    <a:lnTo>
                      <a:pt x="939" y="2141"/>
                    </a:lnTo>
                    <a:lnTo>
                      <a:pt x="932" y="2141"/>
                    </a:lnTo>
                    <a:lnTo>
                      <a:pt x="922" y="2141"/>
                    </a:lnTo>
                    <a:lnTo>
                      <a:pt x="915" y="2141"/>
                    </a:lnTo>
                    <a:lnTo>
                      <a:pt x="907" y="2139"/>
                    </a:lnTo>
                    <a:lnTo>
                      <a:pt x="901" y="2139"/>
                    </a:lnTo>
                    <a:lnTo>
                      <a:pt x="894" y="2139"/>
                    </a:lnTo>
                    <a:lnTo>
                      <a:pt x="886" y="2139"/>
                    </a:lnTo>
                    <a:lnTo>
                      <a:pt x="879" y="2139"/>
                    </a:lnTo>
                    <a:lnTo>
                      <a:pt x="873" y="2139"/>
                    </a:lnTo>
                    <a:lnTo>
                      <a:pt x="865" y="2137"/>
                    </a:lnTo>
                    <a:lnTo>
                      <a:pt x="859" y="2137"/>
                    </a:lnTo>
                    <a:lnTo>
                      <a:pt x="854" y="2135"/>
                    </a:lnTo>
                    <a:lnTo>
                      <a:pt x="846" y="2135"/>
                    </a:lnTo>
                    <a:lnTo>
                      <a:pt x="840" y="2135"/>
                    </a:lnTo>
                    <a:lnTo>
                      <a:pt x="835" y="2135"/>
                    </a:lnTo>
                    <a:lnTo>
                      <a:pt x="827" y="2135"/>
                    </a:lnTo>
                    <a:lnTo>
                      <a:pt x="821" y="2133"/>
                    </a:lnTo>
                    <a:lnTo>
                      <a:pt x="816" y="2133"/>
                    </a:lnTo>
                    <a:lnTo>
                      <a:pt x="808" y="2133"/>
                    </a:lnTo>
                    <a:lnTo>
                      <a:pt x="802" y="2131"/>
                    </a:lnTo>
                    <a:lnTo>
                      <a:pt x="795" y="2131"/>
                    </a:lnTo>
                    <a:lnTo>
                      <a:pt x="791" y="2129"/>
                    </a:lnTo>
                    <a:lnTo>
                      <a:pt x="785" y="2129"/>
                    </a:lnTo>
                    <a:lnTo>
                      <a:pt x="774" y="2127"/>
                    </a:lnTo>
                    <a:lnTo>
                      <a:pt x="763" y="2125"/>
                    </a:lnTo>
                    <a:lnTo>
                      <a:pt x="753" y="2124"/>
                    </a:lnTo>
                    <a:lnTo>
                      <a:pt x="744" y="2122"/>
                    </a:lnTo>
                    <a:lnTo>
                      <a:pt x="732" y="2116"/>
                    </a:lnTo>
                    <a:lnTo>
                      <a:pt x="723" y="2114"/>
                    </a:lnTo>
                    <a:lnTo>
                      <a:pt x="715" y="2110"/>
                    </a:lnTo>
                    <a:lnTo>
                      <a:pt x="706" y="2106"/>
                    </a:lnTo>
                    <a:lnTo>
                      <a:pt x="698" y="2103"/>
                    </a:lnTo>
                    <a:lnTo>
                      <a:pt x="690" y="2097"/>
                    </a:lnTo>
                    <a:lnTo>
                      <a:pt x="683" y="2093"/>
                    </a:lnTo>
                    <a:lnTo>
                      <a:pt x="677" y="2089"/>
                    </a:lnTo>
                    <a:lnTo>
                      <a:pt x="669" y="2082"/>
                    </a:lnTo>
                    <a:lnTo>
                      <a:pt x="664" y="2078"/>
                    </a:lnTo>
                    <a:lnTo>
                      <a:pt x="658" y="2070"/>
                    </a:lnTo>
                    <a:lnTo>
                      <a:pt x="654" y="2067"/>
                    </a:lnTo>
                    <a:lnTo>
                      <a:pt x="648" y="2059"/>
                    </a:lnTo>
                    <a:lnTo>
                      <a:pt x="645" y="2051"/>
                    </a:lnTo>
                    <a:lnTo>
                      <a:pt x="643" y="2044"/>
                    </a:lnTo>
                    <a:lnTo>
                      <a:pt x="641" y="2038"/>
                    </a:lnTo>
                    <a:lnTo>
                      <a:pt x="637" y="2028"/>
                    </a:lnTo>
                    <a:lnTo>
                      <a:pt x="635" y="2021"/>
                    </a:lnTo>
                    <a:lnTo>
                      <a:pt x="635" y="2011"/>
                    </a:lnTo>
                    <a:lnTo>
                      <a:pt x="635" y="2002"/>
                    </a:lnTo>
                    <a:lnTo>
                      <a:pt x="635" y="1992"/>
                    </a:lnTo>
                    <a:lnTo>
                      <a:pt x="639" y="1981"/>
                    </a:lnTo>
                    <a:lnTo>
                      <a:pt x="641" y="1971"/>
                    </a:lnTo>
                    <a:lnTo>
                      <a:pt x="645" y="1960"/>
                    </a:lnTo>
                    <a:lnTo>
                      <a:pt x="645" y="1954"/>
                    </a:lnTo>
                    <a:lnTo>
                      <a:pt x="648" y="1949"/>
                    </a:lnTo>
                    <a:lnTo>
                      <a:pt x="648" y="1941"/>
                    </a:lnTo>
                    <a:lnTo>
                      <a:pt x="652" y="1937"/>
                    </a:lnTo>
                    <a:lnTo>
                      <a:pt x="656" y="1924"/>
                    </a:lnTo>
                    <a:lnTo>
                      <a:pt x="662" y="1914"/>
                    </a:lnTo>
                    <a:lnTo>
                      <a:pt x="667" y="1903"/>
                    </a:lnTo>
                    <a:lnTo>
                      <a:pt x="671" y="1893"/>
                    </a:lnTo>
                    <a:lnTo>
                      <a:pt x="679" y="1882"/>
                    </a:lnTo>
                    <a:lnTo>
                      <a:pt x="685" y="1873"/>
                    </a:lnTo>
                    <a:lnTo>
                      <a:pt x="690" y="1863"/>
                    </a:lnTo>
                    <a:lnTo>
                      <a:pt x="696" y="1854"/>
                    </a:lnTo>
                    <a:lnTo>
                      <a:pt x="704" y="1844"/>
                    </a:lnTo>
                    <a:lnTo>
                      <a:pt x="709" y="1836"/>
                    </a:lnTo>
                    <a:lnTo>
                      <a:pt x="715" y="1829"/>
                    </a:lnTo>
                    <a:lnTo>
                      <a:pt x="723" y="1823"/>
                    </a:lnTo>
                    <a:lnTo>
                      <a:pt x="728" y="1817"/>
                    </a:lnTo>
                    <a:lnTo>
                      <a:pt x="734" y="1814"/>
                    </a:lnTo>
                    <a:lnTo>
                      <a:pt x="745" y="1808"/>
                    </a:lnTo>
                    <a:lnTo>
                      <a:pt x="755" y="1806"/>
                    </a:lnTo>
                    <a:lnTo>
                      <a:pt x="759" y="1806"/>
                    </a:lnTo>
                    <a:lnTo>
                      <a:pt x="763" y="1810"/>
                    </a:lnTo>
                    <a:lnTo>
                      <a:pt x="766" y="1814"/>
                    </a:lnTo>
                    <a:lnTo>
                      <a:pt x="770" y="1819"/>
                    </a:lnTo>
                    <a:lnTo>
                      <a:pt x="772" y="1825"/>
                    </a:lnTo>
                    <a:lnTo>
                      <a:pt x="776" y="1833"/>
                    </a:lnTo>
                    <a:lnTo>
                      <a:pt x="780" y="1838"/>
                    </a:lnTo>
                    <a:lnTo>
                      <a:pt x="785" y="1844"/>
                    </a:lnTo>
                    <a:lnTo>
                      <a:pt x="789" y="1850"/>
                    </a:lnTo>
                    <a:lnTo>
                      <a:pt x="795" y="1855"/>
                    </a:lnTo>
                    <a:lnTo>
                      <a:pt x="802" y="1861"/>
                    </a:lnTo>
                    <a:lnTo>
                      <a:pt x="810" y="1867"/>
                    </a:lnTo>
                    <a:lnTo>
                      <a:pt x="816" y="1871"/>
                    </a:lnTo>
                    <a:lnTo>
                      <a:pt x="823" y="1874"/>
                    </a:lnTo>
                    <a:lnTo>
                      <a:pt x="831" y="1880"/>
                    </a:lnTo>
                    <a:lnTo>
                      <a:pt x="839" y="1884"/>
                    </a:lnTo>
                    <a:lnTo>
                      <a:pt x="846" y="1890"/>
                    </a:lnTo>
                    <a:lnTo>
                      <a:pt x="856" y="1893"/>
                    </a:lnTo>
                    <a:lnTo>
                      <a:pt x="865" y="1895"/>
                    </a:lnTo>
                    <a:lnTo>
                      <a:pt x="875" y="1901"/>
                    </a:lnTo>
                    <a:lnTo>
                      <a:pt x="882" y="1903"/>
                    </a:lnTo>
                    <a:lnTo>
                      <a:pt x="892" y="1905"/>
                    </a:lnTo>
                    <a:lnTo>
                      <a:pt x="901" y="1909"/>
                    </a:lnTo>
                    <a:lnTo>
                      <a:pt x="911" y="1911"/>
                    </a:lnTo>
                    <a:lnTo>
                      <a:pt x="918" y="1911"/>
                    </a:lnTo>
                    <a:lnTo>
                      <a:pt x="928" y="1913"/>
                    </a:lnTo>
                    <a:lnTo>
                      <a:pt x="937" y="1913"/>
                    </a:lnTo>
                    <a:lnTo>
                      <a:pt x="947" y="1913"/>
                    </a:lnTo>
                    <a:lnTo>
                      <a:pt x="955" y="1913"/>
                    </a:lnTo>
                    <a:lnTo>
                      <a:pt x="962" y="1911"/>
                    </a:lnTo>
                    <a:lnTo>
                      <a:pt x="972" y="1911"/>
                    </a:lnTo>
                    <a:lnTo>
                      <a:pt x="979" y="1909"/>
                    </a:lnTo>
                    <a:lnTo>
                      <a:pt x="987" y="1905"/>
                    </a:lnTo>
                    <a:lnTo>
                      <a:pt x="994" y="1903"/>
                    </a:lnTo>
                    <a:lnTo>
                      <a:pt x="1002" y="1899"/>
                    </a:lnTo>
                    <a:lnTo>
                      <a:pt x="1010" y="1895"/>
                    </a:lnTo>
                    <a:lnTo>
                      <a:pt x="1015" y="1890"/>
                    </a:lnTo>
                    <a:lnTo>
                      <a:pt x="1021" y="1884"/>
                    </a:lnTo>
                    <a:lnTo>
                      <a:pt x="1027" y="1876"/>
                    </a:lnTo>
                    <a:lnTo>
                      <a:pt x="1034" y="1869"/>
                    </a:lnTo>
                    <a:lnTo>
                      <a:pt x="1038" y="1859"/>
                    </a:lnTo>
                    <a:lnTo>
                      <a:pt x="1046" y="1850"/>
                    </a:lnTo>
                    <a:lnTo>
                      <a:pt x="1052" y="1838"/>
                    </a:lnTo>
                    <a:lnTo>
                      <a:pt x="1057" y="1829"/>
                    </a:lnTo>
                    <a:lnTo>
                      <a:pt x="1059" y="1823"/>
                    </a:lnTo>
                    <a:lnTo>
                      <a:pt x="1061" y="1817"/>
                    </a:lnTo>
                    <a:lnTo>
                      <a:pt x="1063" y="1810"/>
                    </a:lnTo>
                    <a:lnTo>
                      <a:pt x="1067" y="1804"/>
                    </a:lnTo>
                    <a:lnTo>
                      <a:pt x="1069" y="1798"/>
                    </a:lnTo>
                    <a:lnTo>
                      <a:pt x="1071" y="1791"/>
                    </a:lnTo>
                    <a:lnTo>
                      <a:pt x="1072" y="1785"/>
                    </a:lnTo>
                    <a:lnTo>
                      <a:pt x="1076" y="1779"/>
                    </a:lnTo>
                    <a:lnTo>
                      <a:pt x="1078" y="1772"/>
                    </a:lnTo>
                    <a:lnTo>
                      <a:pt x="1080" y="1766"/>
                    </a:lnTo>
                    <a:lnTo>
                      <a:pt x="1082" y="1760"/>
                    </a:lnTo>
                    <a:lnTo>
                      <a:pt x="1084" y="1753"/>
                    </a:lnTo>
                    <a:lnTo>
                      <a:pt x="1086" y="1745"/>
                    </a:lnTo>
                    <a:lnTo>
                      <a:pt x="1088" y="1739"/>
                    </a:lnTo>
                    <a:lnTo>
                      <a:pt x="1090" y="1734"/>
                    </a:lnTo>
                    <a:lnTo>
                      <a:pt x="1091" y="1726"/>
                    </a:lnTo>
                    <a:lnTo>
                      <a:pt x="1093" y="1719"/>
                    </a:lnTo>
                    <a:lnTo>
                      <a:pt x="1093" y="1713"/>
                    </a:lnTo>
                    <a:lnTo>
                      <a:pt x="1095" y="1705"/>
                    </a:lnTo>
                    <a:lnTo>
                      <a:pt x="1097" y="1698"/>
                    </a:lnTo>
                    <a:lnTo>
                      <a:pt x="1097" y="1690"/>
                    </a:lnTo>
                    <a:lnTo>
                      <a:pt x="1099" y="1684"/>
                    </a:lnTo>
                    <a:lnTo>
                      <a:pt x="1099" y="1679"/>
                    </a:lnTo>
                    <a:lnTo>
                      <a:pt x="1101" y="1671"/>
                    </a:lnTo>
                    <a:lnTo>
                      <a:pt x="1101" y="1665"/>
                    </a:lnTo>
                    <a:lnTo>
                      <a:pt x="1103" y="1660"/>
                    </a:lnTo>
                    <a:lnTo>
                      <a:pt x="1103" y="1652"/>
                    </a:lnTo>
                    <a:lnTo>
                      <a:pt x="1103" y="1646"/>
                    </a:lnTo>
                    <a:lnTo>
                      <a:pt x="1103" y="1641"/>
                    </a:lnTo>
                    <a:lnTo>
                      <a:pt x="1103" y="1633"/>
                    </a:lnTo>
                    <a:lnTo>
                      <a:pt x="1103" y="1629"/>
                    </a:lnTo>
                    <a:lnTo>
                      <a:pt x="1105" y="1623"/>
                    </a:lnTo>
                    <a:lnTo>
                      <a:pt x="1103" y="1616"/>
                    </a:lnTo>
                    <a:lnTo>
                      <a:pt x="1103" y="1610"/>
                    </a:lnTo>
                    <a:lnTo>
                      <a:pt x="1101" y="1604"/>
                    </a:lnTo>
                    <a:lnTo>
                      <a:pt x="1101" y="1601"/>
                    </a:lnTo>
                    <a:lnTo>
                      <a:pt x="1099" y="1589"/>
                    </a:lnTo>
                    <a:lnTo>
                      <a:pt x="1099" y="1582"/>
                    </a:lnTo>
                    <a:lnTo>
                      <a:pt x="1095" y="1572"/>
                    </a:lnTo>
                    <a:lnTo>
                      <a:pt x="1091" y="1566"/>
                    </a:lnTo>
                    <a:lnTo>
                      <a:pt x="1088" y="1559"/>
                    </a:lnTo>
                    <a:lnTo>
                      <a:pt x="1084" y="1553"/>
                    </a:lnTo>
                    <a:lnTo>
                      <a:pt x="1078" y="1547"/>
                    </a:lnTo>
                    <a:lnTo>
                      <a:pt x="1072" y="1544"/>
                    </a:lnTo>
                    <a:lnTo>
                      <a:pt x="1065" y="1542"/>
                    </a:lnTo>
                    <a:lnTo>
                      <a:pt x="1061" y="1540"/>
                    </a:lnTo>
                    <a:lnTo>
                      <a:pt x="1053" y="1538"/>
                    </a:lnTo>
                    <a:lnTo>
                      <a:pt x="1046" y="1538"/>
                    </a:lnTo>
                    <a:lnTo>
                      <a:pt x="1040" y="1538"/>
                    </a:lnTo>
                    <a:lnTo>
                      <a:pt x="1034" y="1538"/>
                    </a:lnTo>
                    <a:lnTo>
                      <a:pt x="1027" y="1538"/>
                    </a:lnTo>
                    <a:lnTo>
                      <a:pt x="1019" y="1540"/>
                    </a:lnTo>
                    <a:lnTo>
                      <a:pt x="1013" y="1542"/>
                    </a:lnTo>
                    <a:lnTo>
                      <a:pt x="1006" y="1544"/>
                    </a:lnTo>
                    <a:lnTo>
                      <a:pt x="998" y="1546"/>
                    </a:lnTo>
                    <a:lnTo>
                      <a:pt x="991" y="1547"/>
                    </a:lnTo>
                    <a:lnTo>
                      <a:pt x="985" y="1549"/>
                    </a:lnTo>
                    <a:lnTo>
                      <a:pt x="979" y="1553"/>
                    </a:lnTo>
                    <a:lnTo>
                      <a:pt x="972" y="1553"/>
                    </a:lnTo>
                    <a:lnTo>
                      <a:pt x="964" y="1557"/>
                    </a:lnTo>
                    <a:lnTo>
                      <a:pt x="958" y="1557"/>
                    </a:lnTo>
                    <a:lnTo>
                      <a:pt x="951" y="1559"/>
                    </a:lnTo>
                    <a:lnTo>
                      <a:pt x="945" y="1561"/>
                    </a:lnTo>
                    <a:lnTo>
                      <a:pt x="939" y="1561"/>
                    </a:lnTo>
                    <a:lnTo>
                      <a:pt x="934" y="1561"/>
                    </a:lnTo>
                    <a:lnTo>
                      <a:pt x="930" y="1561"/>
                    </a:lnTo>
                    <a:lnTo>
                      <a:pt x="918" y="1559"/>
                    </a:lnTo>
                    <a:lnTo>
                      <a:pt x="911" y="1553"/>
                    </a:lnTo>
                    <a:lnTo>
                      <a:pt x="907" y="1549"/>
                    </a:lnTo>
                    <a:lnTo>
                      <a:pt x="903" y="1544"/>
                    </a:lnTo>
                    <a:lnTo>
                      <a:pt x="901" y="1538"/>
                    </a:lnTo>
                    <a:lnTo>
                      <a:pt x="901" y="1532"/>
                    </a:lnTo>
                    <a:lnTo>
                      <a:pt x="898" y="1525"/>
                    </a:lnTo>
                    <a:lnTo>
                      <a:pt x="896" y="1517"/>
                    </a:lnTo>
                    <a:lnTo>
                      <a:pt x="896" y="1509"/>
                    </a:lnTo>
                    <a:lnTo>
                      <a:pt x="896" y="1502"/>
                    </a:lnTo>
                    <a:lnTo>
                      <a:pt x="896" y="1494"/>
                    </a:lnTo>
                    <a:lnTo>
                      <a:pt x="896" y="1487"/>
                    </a:lnTo>
                    <a:lnTo>
                      <a:pt x="896" y="1479"/>
                    </a:lnTo>
                    <a:lnTo>
                      <a:pt x="898" y="1473"/>
                    </a:lnTo>
                    <a:lnTo>
                      <a:pt x="898" y="1466"/>
                    </a:lnTo>
                    <a:lnTo>
                      <a:pt x="899" y="1458"/>
                    </a:lnTo>
                    <a:lnTo>
                      <a:pt x="901" y="1452"/>
                    </a:lnTo>
                    <a:lnTo>
                      <a:pt x="903" y="1445"/>
                    </a:lnTo>
                    <a:lnTo>
                      <a:pt x="903" y="1439"/>
                    </a:lnTo>
                    <a:lnTo>
                      <a:pt x="905" y="1431"/>
                    </a:lnTo>
                    <a:lnTo>
                      <a:pt x="905" y="1428"/>
                    </a:lnTo>
                    <a:lnTo>
                      <a:pt x="907" y="1422"/>
                    </a:lnTo>
                    <a:lnTo>
                      <a:pt x="907" y="1414"/>
                    </a:lnTo>
                    <a:lnTo>
                      <a:pt x="907" y="1409"/>
                    </a:lnTo>
                    <a:lnTo>
                      <a:pt x="907" y="1403"/>
                    </a:lnTo>
                    <a:lnTo>
                      <a:pt x="909" y="1399"/>
                    </a:lnTo>
                    <a:lnTo>
                      <a:pt x="907" y="1390"/>
                    </a:lnTo>
                    <a:lnTo>
                      <a:pt x="905" y="1382"/>
                    </a:lnTo>
                    <a:lnTo>
                      <a:pt x="898" y="1374"/>
                    </a:lnTo>
                    <a:lnTo>
                      <a:pt x="892" y="1367"/>
                    </a:lnTo>
                    <a:lnTo>
                      <a:pt x="884" y="1365"/>
                    </a:lnTo>
                    <a:lnTo>
                      <a:pt x="879" y="1363"/>
                    </a:lnTo>
                    <a:lnTo>
                      <a:pt x="873" y="1361"/>
                    </a:lnTo>
                    <a:lnTo>
                      <a:pt x="865" y="1361"/>
                    </a:lnTo>
                    <a:lnTo>
                      <a:pt x="859" y="1361"/>
                    </a:lnTo>
                    <a:lnTo>
                      <a:pt x="856" y="1359"/>
                    </a:lnTo>
                    <a:lnTo>
                      <a:pt x="848" y="1359"/>
                    </a:lnTo>
                    <a:lnTo>
                      <a:pt x="844" y="1359"/>
                    </a:lnTo>
                    <a:lnTo>
                      <a:pt x="837" y="1359"/>
                    </a:lnTo>
                    <a:lnTo>
                      <a:pt x="829" y="1359"/>
                    </a:lnTo>
                    <a:lnTo>
                      <a:pt x="821" y="1359"/>
                    </a:lnTo>
                    <a:lnTo>
                      <a:pt x="814" y="1361"/>
                    </a:lnTo>
                    <a:lnTo>
                      <a:pt x="804" y="1361"/>
                    </a:lnTo>
                    <a:lnTo>
                      <a:pt x="795" y="1361"/>
                    </a:lnTo>
                    <a:lnTo>
                      <a:pt x="785" y="1361"/>
                    </a:lnTo>
                    <a:lnTo>
                      <a:pt x="776" y="1363"/>
                    </a:lnTo>
                    <a:lnTo>
                      <a:pt x="764" y="1363"/>
                    </a:lnTo>
                    <a:lnTo>
                      <a:pt x="753" y="1365"/>
                    </a:lnTo>
                    <a:lnTo>
                      <a:pt x="744" y="1365"/>
                    </a:lnTo>
                    <a:lnTo>
                      <a:pt x="732" y="1367"/>
                    </a:lnTo>
                    <a:lnTo>
                      <a:pt x="719" y="1367"/>
                    </a:lnTo>
                    <a:lnTo>
                      <a:pt x="707" y="1369"/>
                    </a:lnTo>
                    <a:lnTo>
                      <a:pt x="694" y="1371"/>
                    </a:lnTo>
                    <a:lnTo>
                      <a:pt x="683" y="1371"/>
                    </a:lnTo>
                    <a:lnTo>
                      <a:pt x="669" y="1372"/>
                    </a:lnTo>
                    <a:lnTo>
                      <a:pt x="656" y="1372"/>
                    </a:lnTo>
                    <a:lnTo>
                      <a:pt x="643" y="1374"/>
                    </a:lnTo>
                    <a:lnTo>
                      <a:pt x="629" y="1376"/>
                    </a:lnTo>
                    <a:lnTo>
                      <a:pt x="614" y="1376"/>
                    </a:lnTo>
                    <a:lnTo>
                      <a:pt x="601" y="1378"/>
                    </a:lnTo>
                    <a:lnTo>
                      <a:pt x="586" y="1378"/>
                    </a:lnTo>
                    <a:lnTo>
                      <a:pt x="572" y="1380"/>
                    </a:lnTo>
                    <a:lnTo>
                      <a:pt x="557" y="1380"/>
                    </a:lnTo>
                    <a:lnTo>
                      <a:pt x="544" y="1382"/>
                    </a:lnTo>
                    <a:lnTo>
                      <a:pt x="529" y="1382"/>
                    </a:lnTo>
                    <a:lnTo>
                      <a:pt x="515" y="1384"/>
                    </a:lnTo>
                    <a:lnTo>
                      <a:pt x="500" y="1384"/>
                    </a:lnTo>
                    <a:lnTo>
                      <a:pt x="485" y="1384"/>
                    </a:lnTo>
                    <a:lnTo>
                      <a:pt x="470" y="1384"/>
                    </a:lnTo>
                    <a:lnTo>
                      <a:pt x="456" y="1384"/>
                    </a:lnTo>
                    <a:lnTo>
                      <a:pt x="441" y="1384"/>
                    </a:lnTo>
                    <a:lnTo>
                      <a:pt x="426" y="1384"/>
                    </a:lnTo>
                    <a:lnTo>
                      <a:pt x="413" y="1384"/>
                    </a:lnTo>
                    <a:lnTo>
                      <a:pt x="398" y="1384"/>
                    </a:lnTo>
                    <a:lnTo>
                      <a:pt x="382" y="1382"/>
                    </a:lnTo>
                    <a:lnTo>
                      <a:pt x="369" y="1382"/>
                    </a:lnTo>
                    <a:lnTo>
                      <a:pt x="354" y="1380"/>
                    </a:lnTo>
                    <a:lnTo>
                      <a:pt x="340" y="1380"/>
                    </a:lnTo>
                    <a:lnTo>
                      <a:pt x="327" y="1378"/>
                    </a:lnTo>
                    <a:lnTo>
                      <a:pt x="314" y="1376"/>
                    </a:lnTo>
                    <a:lnTo>
                      <a:pt x="301" y="1374"/>
                    </a:lnTo>
                    <a:lnTo>
                      <a:pt x="287" y="1374"/>
                    </a:lnTo>
                    <a:lnTo>
                      <a:pt x="274" y="1371"/>
                    </a:lnTo>
                    <a:lnTo>
                      <a:pt x="263" y="1367"/>
                    </a:lnTo>
                    <a:lnTo>
                      <a:pt x="249" y="1365"/>
                    </a:lnTo>
                    <a:lnTo>
                      <a:pt x="238" y="1363"/>
                    </a:lnTo>
                    <a:lnTo>
                      <a:pt x="225" y="1357"/>
                    </a:lnTo>
                    <a:lnTo>
                      <a:pt x="213" y="1355"/>
                    </a:lnTo>
                    <a:lnTo>
                      <a:pt x="202" y="1352"/>
                    </a:lnTo>
                    <a:lnTo>
                      <a:pt x="192" y="1348"/>
                    </a:lnTo>
                    <a:lnTo>
                      <a:pt x="181" y="1342"/>
                    </a:lnTo>
                    <a:lnTo>
                      <a:pt x="171" y="1336"/>
                    </a:lnTo>
                    <a:lnTo>
                      <a:pt x="162" y="1333"/>
                    </a:lnTo>
                    <a:lnTo>
                      <a:pt x="152" y="1327"/>
                    </a:lnTo>
                    <a:lnTo>
                      <a:pt x="143" y="1319"/>
                    </a:lnTo>
                    <a:lnTo>
                      <a:pt x="135" y="1314"/>
                    </a:lnTo>
                    <a:lnTo>
                      <a:pt x="128" y="1308"/>
                    </a:lnTo>
                    <a:lnTo>
                      <a:pt x="122" y="1300"/>
                    </a:lnTo>
                    <a:lnTo>
                      <a:pt x="114" y="1293"/>
                    </a:lnTo>
                    <a:lnTo>
                      <a:pt x="107" y="1285"/>
                    </a:lnTo>
                    <a:lnTo>
                      <a:pt x="101" y="1277"/>
                    </a:lnTo>
                    <a:lnTo>
                      <a:pt x="95" y="1272"/>
                    </a:lnTo>
                    <a:lnTo>
                      <a:pt x="88" y="1264"/>
                    </a:lnTo>
                    <a:lnTo>
                      <a:pt x="82" y="1257"/>
                    </a:lnTo>
                    <a:lnTo>
                      <a:pt x="76" y="1249"/>
                    </a:lnTo>
                    <a:lnTo>
                      <a:pt x="71" y="1243"/>
                    </a:lnTo>
                    <a:lnTo>
                      <a:pt x="65" y="1236"/>
                    </a:lnTo>
                    <a:lnTo>
                      <a:pt x="61" y="1228"/>
                    </a:lnTo>
                    <a:lnTo>
                      <a:pt x="55" y="1220"/>
                    </a:lnTo>
                    <a:lnTo>
                      <a:pt x="52" y="1215"/>
                    </a:lnTo>
                    <a:lnTo>
                      <a:pt x="48" y="1207"/>
                    </a:lnTo>
                    <a:lnTo>
                      <a:pt x="42" y="1201"/>
                    </a:lnTo>
                    <a:lnTo>
                      <a:pt x="40" y="1196"/>
                    </a:lnTo>
                    <a:lnTo>
                      <a:pt x="36" y="1188"/>
                    </a:lnTo>
                    <a:lnTo>
                      <a:pt x="33" y="1180"/>
                    </a:lnTo>
                    <a:lnTo>
                      <a:pt x="29" y="1175"/>
                    </a:lnTo>
                    <a:lnTo>
                      <a:pt x="25" y="1169"/>
                    </a:lnTo>
                    <a:lnTo>
                      <a:pt x="23" y="1161"/>
                    </a:lnTo>
                    <a:lnTo>
                      <a:pt x="19" y="1156"/>
                    </a:lnTo>
                    <a:lnTo>
                      <a:pt x="15" y="1150"/>
                    </a:lnTo>
                    <a:lnTo>
                      <a:pt x="13" y="1144"/>
                    </a:lnTo>
                    <a:lnTo>
                      <a:pt x="13" y="1139"/>
                    </a:lnTo>
                    <a:lnTo>
                      <a:pt x="10" y="1133"/>
                    </a:lnTo>
                    <a:lnTo>
                      <a:pt x="8" y="1125"/>
                    </a:lnTo>
                    <a:lnTo>
                      <a:pt x="6" y="1122"/>
                    </a:lnTo>
                    <a:lnTo>
                      <a:pt x="6" y="1116"/>
                    </a:lnTo>
                    <a:lnTo>
                      <a:pt x="2" y="1106"/>
                    </a:lnTo>
                    <a:lnTo>
                      <a:pt x="2" y="1097"/>
                    </a:lnTo>
                    <a:lnTo>
                      <a:pt x="0" y="1085"/>
                    </a:lnTo>
                    <a:lnTo>
                      <a:pt x="0" y="1078"/>
                    </a:lnTo>
                    <a:lnTo>
                      <a:pt x="0" y="1068"/>
                    </a:lnTo>
                    <a:lnTo>
                      <a:pt x="2" y="1061"/>
                    </a:lnTo>
                    <a:lnTo>
                      <a:pt x="2" y="1053"/>
                    </a:lnTo>
                    <a:lnTo>
                      <a:pt x="4" y="1047"/>
                    </a:lnTo>
                    <a:lnTo>
                      <a:pt x="6" y="1040"/>
                    </a:lnTo>
                    <a:lnTo>
                      <a:pt x="12" y="1036"/>
                    </a:lnTo>
                    <a:lnTo>
                      <a:pt x="19" y="1028"/>
                    </a:lnTo>
                    <a:lnTo>
                      <a:pt x="29" y="1023"/>
                    </a:lnTo>
                    <a:lnTo>
                      <a:pt x="34" y="1019"/>
                    </a:lnTo>
                    <a:lnTo>
                      <a:pt x="40" y="1019"/>
                    </a:lnTo>
                    <a:lnTo>
                      <a:pt x="48" y="1019"/>
                    </a:lnTo>
                    <a:lnTo>
                      <a:pt x="53" y="1021"/>
                    </a:lnTo>
                    <a:lnTo>
                      <a:pt x="61" y="1021"/>
                    </a:lnTo>
                    <a:lnTo>
                      <a:pt x="67" y="1025"/>
                    </a:lnTo>
                    <a:lnTo>
                      <a:pt x="74" y="1028"/>
                    </a:lnTo>
                    <a:lnTo>
                      <a:pt x="82" y="1032"/>
                    </a:lnTo>
                    <a:lnTo>
                      <a:pt x="88" y="1036"/>
                    </a:lnTo>
                    <a:lnTo>
                      <a:pt x="95" y="1040"/>
                    </a:lnTo>
                    <a:lnTo>
                      <a:pt x="103" y="1045"/>
                    </a:lnTo>
                    <a:lnTo>
                      <a:pt x="110" y="1051"/>
                    </a:lnTo>
                    <a:lnTo>
                      <a:pt x="118" y="1057"/>
                    </a:lnTo>
                    <a:lnTo>
                      <a:pt x="126" y="1064"/>
                    </a:lnTo>
                    <a:lnTo>
                      <a:pt x="133" y="1070"/>
                    </a:lnTo>
                    <a:lnTo>
                      <a:pt x="143" y="1078"/>
                    </a:lnTo>
                    <a:lnTo>
                      <a:pt x="150" y="1085"/>
                    </a:lnTo>
                    <a:lnTo>
                      <a:pt x="158" y="1093"/>
                    </a:lnTo>
                    <a:lnTo>
                      <a:pt x="166" y="1099"/>
                    </a:lnTo>
                    <a:lnTo>
                      <a:pt x="173" y="1108"/>
                    </a:lnTo>
                    <a:lnTo>
                      <a:pt x="181" y="1114"/>
                    </a:lnTo>
                    <a:lnTo>
                      <a:pt x="190" y="1122"/>
                    </a:lnTo>
                    <a:lnTo>
                      <a:pt x="198" y="1129"/>
                    </a:lnTo>
                    <a:lnTo>
                      <a:pt x="206" y="1137"/>
                    </a:lnTo>
                    <a:lnTo>
                      <a:pt x="213" y="1142"/>
                    </a:lnTo>
                    <a:lnTo>
                      <a:pt x="223" y="1150"/>
                    </a:lnTo>
                    <a:lnTo>
                      <a:pt x="230" y="1156"/>
                    </a:lnTo>
                    <a:lnTo>
                      <a:pt x="240" y="1163"/>
                    </a:lnTo>
                    <a:lnTo>
                      <a:pt x="247" y="1167"/>
                    </a:lnTo>
                    <a:lnTo>
                      <a:pt x="255" y="1173"/>
                    </a:lnTo>
                    <a:lnTo>
                      <a:pt x="264" y="1177"/>
                    </a:lnTo>
                    <a:lnTo>
                      <a:pt x="272" y="1182"/>
                    </a:lnTo>
                    <a:lnTo>
                      <a:pt x="280" y="1184"/>
                    </a:lnTo>
                    <a:lnTo>
                      <a:pt x="289" y="1188"/>
                    </a:lnTo>
                    <a:lnTo>
                      <a:pt x="297" y="1190"/>
                    </a:lnTo>
                    <a:lnTo>
                      <a:pt x="306" y="1192"/>
                    </a:lnTo>
                    <a:lnTo>
                      <a:pt x="314" y="1192"/>
                    </a:lnTo>
                    <a:lnTo>
                      <a:pt x="323" y="1192"/>
                    </a:lnTo>
                    <a:lnTo>
                      <a:pt x="329" y="1192"/>
                    </a:lnTo>
                    <a:lnTo>
                      <a:pt x="335" y="1194"/>
                    </a:lnTo>
                    <a:lnTo>
                      <a:pt x="340" y="1194"/>
                    </a:lnTo>
                    <a:lnTo>
                      <a:pt x="348" y="1194"/>
                    </a:lnTo>
                    <a:lnTo>
                      <a:pt x="352" y="1194"/>
                    </a:lnTo>
                    <a:lnTo>
                      <a:pt x="360" y="1194"/>
                    </a:lnTo>
                    <a:lnTo>
                      <a:pt x="367" y="1194"/>
                    </a:lnTo>
                    <a:lnTo>
                      <a:pt x="373" y="1196"/>
                    </a:lnTo>
                    <a:lnTo>
                      <a:pt x="380" y="1196"/>
                    </a:lnTo>
                    <a:lnTo>
                      <a:pt x="388" y="1196"/>
                    </a:lnTo>
                    <a:lnTo>
                      <a:pt x="396" y="1196"/>
                    </a:lnTo>
                    <a:lnTo>
                      <a:pt x="405" y="1198"/>
                    </a:lnTo>
                    <a:lnTo>
                      <a:pt x="411" y="1198"/>
                    </a:lnTo>
                    <a:lnTo>
                      <a:pt x="418" y="1198"/>
                    </a:lnTo>
                    <a:lnTo>
                      <a:pt x="426" y="1198"/>
                    </a:lnTo>
                    <a:lnTo>
                      <a:pt x="436" y="1198"/>
                    </a:lnTo>
                    <a:lnTo>
                      <a:pt x="443" y="1198"/>
                    </a:lnTo>
                    <a:lnTo>
                      <a:pt x="453" y="1198"/>
                    </a:lnTo>
                    <a:lnTo>
                      <a:pt x="460" y="1198"/>
                    </a:lnTo>
                    <a:lnTo>
                      <a:pt x="470" y="1199"/>
                    </a:lnTo>
                    <a:lnTo>
                      <a:pt x="479" y="1199"/>
                    </a:lnTo>
                    <a:lnTo>
                      <a:pt x="489" y="1199"/>
                    </a:lnTo>
                    <a:lnTo>
                      <a:pt x="496" y="1199"/>
                    </a:lnTo>
                    <a:lnTo>
                      <a:pt x="506" y="1199"/>
                    </a:lnTo>
                    <a:lnTo>
                      <a:pt x="513" y="1199"/>
                    </a:lnTo>
                    <a:lnTo>
                      <a:pt x="523" y="1199"/>
                    </a:lnTo>
                    <a:lnTo>
                      <a:pt x="534" y="1199"/>
                    </a:lnTo>
                    <a:lnTo>
                      <a:pt x="544" y="1199"/>
                    </a:lnTo>
                    <a:lnTo>
                      <a:pt x="552" y="1199"/>
                    </a:lnTo>
                    <a:lnTo>
                      <a:pt x="559" y="1199"/>
                    </a:lnTo>
                    <a:lnTo>
                      <a:pt x="569" y="1198"/>
                    </a:lnTo>
                    <a:lnTo>
                      <a:pt x="578" y="1198"/>
                    </a:lnTo>
                    <a:lnTo>
                      <a:pt x="586" y="1198"/>
                    </a:lnTo>
                    <a:lnTo>
                      <a:pt x="595" y="1198"/>
                    </a:lnTo>
                    <a:lnTo>
                      <a:pt x="605" y="1198"/>
                    </a:lnTo>
                    <a:lnTo>
                      <a:pt x="614" y="1198"/>
                    </a:lnTo>
                    <a:lnTo>
                      <a:pt x="622" y="1196"/>
                    </a:lnTo>
                    <a:lnTo>
                      <a:pt x="631" y="1196"/>
                    </a:lnTo>
                    <a:lnTo>
                      <a:pt x="639" y="1194"/>
                    </a:lnTo>
                    <a:lnTo>
                      <a:pt x="648" y="1194"/>
                    </a:lnTo>
                    <a:lnTo>
                      <a:pt x="654" y="1194"/>
                    </a:lnTo>
                    <a:lnTo>
                      <a:pt x="664" y="1192"/>
                    </a:lnTo>
                    <a:lnTo>
                      <a:pt x="671" y="1190"/>
                    </a:lnTo>
                    <a:lnTo>
                      <a:pt x="681" y="1190"/>
                    </a:lnTo>
                    <a:lnTo>
                      <a:pt x="686" y="1188"/>
                    </a:lnTo>
                    <a:lnTo>
                      <a:pt x="694" y="1188"/>
                    </a:lnTo>
                    <a:lnTo>
                      <a:pt x="702" y="1186"/>
                    </a:lnTo>
                    <a:lnTo>
                      <a:pt x="709" y="1186"/>
                    </a:lnTo>
                    <a:lnTo>
                      <a:pt x="715" y="1184"/>
                    </a:lnTo>
                    <a:lnTo>
                      <a:pt x="723" y="1182"/>
                    </a:lnTo>
                    <a:lnTo>
                      <a:pt x="728" y="1180"/>
                    </a:lnTo>
                    <a:lnTo>
                      <a:pt x="736" y="1180"/>
                    </a:lnTo>
                    <a:lnTo>
                      <a:pt x="742" y="1177"/>
                    </a:lnTo>
                    <a:lnTo>
                      <a:pt x="747" y="1177"/>
                    </a:lnTo>
                    <a:lnTo>
                      <a:pt x="753" y="1173"/>
                    </a:lnTo>
                    <a:lnTo>
                      <a:pt x="757" y="1171"/>
                    </a:lnTo>
                    <a:lnTo>
                      <a:pt x="766" y="1167"/>
                    </a:lnTo>
                    <a:lnTo>
                      <a:pt x="776" y="1163"/>
                    </a:lnTo>
                    <a:lnTo>
                      <a:pt x="783" y="1158"/>
                    </a:lnTo>
                    <a:lnTo>
                      <a:pt x="791" y="1152"/>
                    </a:lnTo>
                    <a:lnTo>
                      <a:pt x="797" y="1144"/>
                    </a:lnTo>
                    <a:lnTo>
                      <a:pt x="804" y="1141"/>
                    </a:lnTo>
                    <a:lnTo>
                      <a:pt x="810" y="1133"/>
                    </a:lnTo>
                    <a:lnTo>
                      <a:pt x="818" y="1125"/>
                    </a:lnTo>
                    <a:lnTo>
                      <a:pt x="823" y="1120"/>
                    </a:lnTo>
                    <a:lnTo>
                      <a:pt x="829" y="1114"/>
                    </a:lnTo>
                    <a:lnTo>
                      <a:pt x="835" y="1106"/>
                    </a:lnTo>
                    <a:lnTo>
                      <a:pt x="840" y="1099"/>
                    </a:lnTo>
                    <a:lnTo>
                      <a:pt x="846" y="1091"/>
                    </a:lnTo>
                    <a:lnTo>
                      <a:pt x="854" y="1085"/>
                    </a:lnTo>
                    <a:lnTo>
                      <a:pt x="858" y="1078"/>
                    </a:lnTo>
                    <a:lnTo>
                      <a:pt x="863" y="1070"/>
                    </a:lnTo>
                    <a:lnTo>
                      <a:pt x="867" y="1064"/>
                    </a:lnTo>
                    <a:lnTo>
                      <a:pt x="875" y="1059"/>
                    </a:lnTo>
                    <a:lnTo>
                      <a:pt x="879" y="1051"/>
                    </a:lnTo>
                    <a:lnTo>
                      <a:pt x="882" y="1045"/>
                    </a:lnTo>
                    <a:lnTo>
                      <a:pt x="886" y="1038"/>
                    </a:lnTo>
                    <a:lnTo>
                      <a:pt x="892" y="1032"/>
                    </a:lnTo>
                    <a:lnTo>
                      <a:pt x="901" y="1023"/>
                    </a:lnTo>
                    <a:lnTo>
                      <a:pt x="909" y="1015"/>
                    </a:lnTo>
                    <a:lnTo>
                      <a:pt x="917" y="1007"/>
                    </a:lnTo>
                    <a:lnTo>
                      <a:pt x="924" y="1002"/>
                    </a:lnTo>
                    <a:lnTo>
                      <a:pt x="934" y="1000"/>
                    </a:lnTo>
                    <a:lnTo>
                      <a:pt x="941" y="1000"/>
                    </a:lnTo>
                    <a:lnTo>
                      <a:pt x="949" y="1000"/>
                    </a:lnTo>
                    <a:lnTo>
                      <a:pt x="956" y="1002"/>
                    </a:lnTo>
                    <a:lnTo>
                      <a:pt x="962" y="1006"/>
                    </a:lnTo>
                    <a:lnTo>
                      <a:pt x="970" y="1009"/>
                    </a:lnTo>
                    <a:lnTo>
                      <a:pt x="975" y="1011"/>
                    </a:lnTo>
                    <a:lnTo>
                      <a:pt x="981" y="1013"/>
                    </a:lnTo>
                    <a:lnTo>
                      <a:pt x="989" y="1015"/>
                    </a:lnTo>
                    <a:lnTo>
                      <a:pt x="994" y="1017"/>
                    </a:lnTo>
                    <a:lnTo>
                      <a:pt x="1006" y="1019"/>
                    </a:lnTo>
                    <a:lnTo>
                      <a:pt x="1015" y="1017"/>
                    </a:lnTo>
                    <a:lnTo>
                      <a:pt x="1017" y="1013"/>
                    </a:lnTo>
                    <a:lnTo>
                      <a:pt x="1023" y="1011"/>
                    </a:lnTo>
                    <a:lnTo>
                      <a:pt x="1025" y="1006"/>
                    </a:lnTo>
                    <a:lnTo>
                      <a:pt x="1029" y="1000"/>
                    </a:lnTo>
                    <a:lnTo>
                      <a:pt x="1029" y="1000"/>
                    </a:lnTo>
                    <a:close/>
                  </a:path>
                </a:pathLst>
              </a:custGeom>
              <a:solidFill>
                <a:srgbClr val="599e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444360" y="1819440"/>
                <a:ext cx="968760" cy="705960"/>
              </a:xfrm>
              <a:custGeom>
                <a:avLst/>
                <a:gdLst/>
                <a:ahLst/>
                <a:rect l="l" t="t" r="r" b="b"/>
                <a:pathLst>
                  <a:path w="1458" h="1042">
                    <a:moveTo>
                      <a:pt x="0" y="979"/>
                    </a:moveTo>
                    <a:lnTo>
                      <a:pt x="0" y="975"/>
                    </a:lnTo>
                    <a:lnTo>
                      <a:pt x="4" y="972"/>
                    </a:lnTo>
                    <a:lnTo>
                      <a:pt x="6" y="968"/>
                    </a:lnTo>
                    <a:lnTo>
                      <a:pt x="9" y="962"/>
                    </a:lnTo>
                    <a:lnTo>
                      <a:pt x="13" y="956"/>
                    </a:lnTo>
                    <a:lnTo>
                      <a:pt x="19" y="949"/>
                    </a:lnTo>
                    <a:lnTo>
                      <a:pt x="23" y="941"/>
                    </a:lnTo>
                    <a:lnTo>
                      <a:pt x="30" y="933"/>
                    </a:lnTo>
                    <a:lnTo>
                      <a:pt x="34" y="924"/>
                    </a:lnTo>
                    <a:lnTo>
                      <a:pt x="42" y="914"/>
                    </a:lnTo>
                    <a:lnTo>
                      <a:pt x="49" y="903"/>
                    </a:lnTo>
                    <a:lnTo>
                      <a:pt x="57" y="894"/>
                    </a:lnTo>
                    <a:lnTo>
                      <a:pt x="64" y="882"/>
                    </a:lnTo>
                    <a:lnTo>
                      <a:pt x="74" y="871"/>
                    </a:lnTo>
                    <a:lnTo>
                      <a:pt x="84" y="857"/>
                    </a:lnTo>
                    <a:lnTo>
                      <a:pt x="93" y="846"/>
                    </a:lnTo>
                    <a:lnTo>
                      <a:pt x="103" y="833"/>
                    </a:lnTo>
                    <a:lnTo>
                      <a:pt x="112" y="819"/>
                    </a:lnTo>
                    <a:lnTo>
                      <a:pt x="123" y="804"/>
                    </a:lnTo>
                    <a:lnTo>
                      <a:pt x="133" y="791"/>
                    </a:lnTo>
                    <a:lnTo>
                      <a:pt x="144" y="776"/>
                    </a:lnTo>
                    <a:lnTo>
                      <a:pt x="156" y="760"/>
                    </a:lnTo>
                    <a:lnTo>
                      <a:pt x="167" y="745"/>
                    </a:lnTo>
                    <a:lnTo>
                      <a:pt x="180" y="730"/>
                    </a:lnTo>
                    <a:lnTo>
                      <a:pt x="190" y="713"/>
                    </a:lnTo>
                    <a:lnTo>
                      <a:pt x="201" y="698"/>
                    </a:lnTo>
                    <a:lnTo>
                      <a:pt x="215" y="681"/>
                    </a:lnTo>
                    <a:lnTo>
                      <a:pt x="228" y="663"/>
                    </a:lnTo>
                    <a:lnTo>
                      <a:pt x="239" y="646"/>
                    </a:lnTo>
                    <a:lnTo>
                      <a:pt x="253" y="631"/>
                    </a:lnTo>
                    <a:lnTo>
                      <a:pt x="266" y="614"/>
                    </a:lnTo>
                    <a:lnTo>
                      <a:pt x="279" y="599"/>
                    </a:lnTo>
                    <a:lnTo>
                      <a:pt x="293" y="580"/>
                    </a:lnTo>
                    <a:lnTo>
                      <a:pt x="304" y="563"/>
                    </a:lnTo>
                    <a:lnTo>
                      <a:pt x="317" y="546"/>
                    </a:lnTo>
                    <a:lnTo>
                      <a:pt x="331" y="530"/>
                    </a:lnTo>
                    <a:lnTo>
                      <a:pt x="342" y="511"/>
                    </a:lnTo>
                    <a:lnTo>
                      <a:pt x="355" y="494"/>
                    </a:lnTo>
                    <a:lnTo>
                      <a:pt x="369" y="477"/>
                    </a:lnTo>
                    <a:lnTo>
                      <a:pt x="380" y="462"/>
                    </a:lnTo>
                    <a:lnTo>
                      <a:pt x="393" y="445"/>
                    </a:lnTo>
                    <a:lnTo>
                      <a:pt x="405" y="428"/>
                    </a:lnTo>
                    <a:lnTo>
                      <a:pt x="416" y="412"/>
                    </a:lnTo>
                    <a:lnTo>
                      <a:pt x="430" y="395"/>
                    </a:lnTo>
                    <a:lnTo>
                      <a:pt x="441" y="380"/>
                    </a:lnTo>
                    <a:lnTo>
                      <a:pt x="452" y="365"/>
                    </a:lnTo>
                    <a:lnTo>
                      <a:pt x="464" y="350"/>
                    </a:lnTo>
                    <a:lnTo>
                      <a:pt x="477" y="336"/>
                    </a:lnTo>
                    <a:lnTo>
                      <a:pt x="487" y="319"/>
                    </a:lnTo>
                    <a:lnTo>
                      <a:pt x="496" y="306"/>
                    </a:lnTo>
                    <a:lnTo>
                      <a:pt x="506" y="293"/>
                    </a:lnTo>
                    <a:lnTo>
                      <a:pt x="517" y="279"/>
                    </a:lnTo>
                    <a:lnTo>
                      <a:pt x="526" y="266"/>
                    </a:lnTo>
                    <a:lnTo>
                      <a:pt x="536" y="253"/>
                    </a:lnTo>
                    <a:lnTo>
                      <a:pt x="544" y="241"/>
                    </a:lnTo>
                    <a:lnTo>
                      <a:pt x="553" y="230"/>
                    </a:lnTo>
                    <a:lnTo>
                      <a:pt x="561" y="219"/>
                    </a:lnTo>
                    <a:lnTo>
                      <a:pt x="568" y="209"/>
                    </a:lnTo>
                    <a:lnTo>
                      <a:pt x="576" y="200"/>
                    </a:lnTo>
                    <a:lnTo>
                      <a:pt x="584" y="190"/>
                    </a:lnTo>
                    <a:lnTo>
                      <a:pt x="589" y="181"/>
                    </a:lnTo>
                    <a:lnTo>
                      <a:pt x="595" y="175"/>
                    </a:lnTo>
                    <a:lnTo>
                      <a:pt x="601" y="167"/>
                    </a:lnTo>
                    <a:lnTo>
                      <a:pt x="606" y="161"/>
                    </a:lnTo>
                    <a:lnTo>
                      <a:pt x="610" y="156"/>
                    </a:lnTo>
                    <a:lnTo>
                      <a:pt x="614" y="150"/>
                    </a:lnTo>
                    <a:lnTo>
                      <a:pt x="618" y="142"/>
                    </a:lnTo>
                    <a:lnTo>
                      <a:pt x="623" y="137"/>
                    </a:lnTo>
                    <a:lnTo>
                      <a:pt x="633" y="125"/>
                    </a:lnTo>
                    <a:lnTo>
                      <a:pt x="642" y="114"/>
                    </a:lnTo>
                    <a:lnTo>
                      <a:pt x="652" y="104"/>
                    </a:lnTo>
                    <a:lnTo>
                      <a:pt x="661" y="93"/>
                    </a:lnTo>
                    <a:lnTo>
                      <a:pt x="671" y="84"/>
                    </a:lnTo>
                    <a:lnTo>
                      <a:pt x="680" y="74"/>
                    </a:lnTo>
                    <a:lnTo>
                      <a:pt x="690" y="65"/>
                    </a:lnTo>
                    <a:lnTo>
                      <a:pt x="701" y="57"/>
                    </a:lnTo>
                    <a:lnTo>
                      <a:pt x="711" y="47"/>
                    </a:lnTo>
                    <a:lnTo>
                      <a:pt x="722" y="42"/>
                    </a:lnTo>
                    <a:lnTo>
                      <a:pt x="732" y="34"/>
                    </a:lnTo>
                    <a:lnTo>
                      <a:pt x="741" y="26"/>
                    </a:lnTo>
                    <a:lnTo>
                      <a:pt x="751" y="23"/>
                    </a:lnTo>
                    <a:lnTo>
                      <a:pt x="760" y="17"/>
                    </a:lnTo>
                    <a:lnTo>
                      <a:pt x="768" y="13"/>
                    </a:lnTo>
                    <a:lnTo>
                      <a:pt x="776" y="7"/>
                    </a:lnTo>
                    <a:lnTo>
                      <a:pt x="783" y="6"/>
                    </a:lnTo>
                    <a:lnTo>
                      <a:pt x="791" y="4"/>
                    </a:lnTo>
                    <a:lnTo>
                      <a:pt x="798" y="2"/>
                    </a:lnTo>
                    <a:lnTo>
                      <a:pt x="806" y="2"/>
                    </a:lnTo>
                    <a:lnTo>
                      <a:pt x="810" y="0"/>
                    </a:lnTo>
                    <a:lnTo>
                      <a:pt x="817" y="2"/>
                    </a:lnTo>
                    <a:lnTo>
                      <a:pt x="825" y="6"/>
                    </a:lnTo>
                    <a:lnTo>
                      <a:pt x="831" y="13"/>
                    </a:lnTo>
                    <a:lnTo>
                      <a:pt x="833" y="17"/>
                    </a:lnTo>
                    <a:lnTo>
                      <a:pt x="834" y="25"/>
                    </a:lnTo>
                    <a:lnTo>
                      <a:pt x="834" y="30"/>
                    </a:lnTo>
                    <a:lnTo>
                      <a:pt x="834" y="40"/>
                    </a:lnTo>
                    <a:lnTo>
                      <a:pt x="831" y="44"/>
                    </a:lnTo>
                    <a:lnTo>
                      <a:pt x="831" y="49"/>
                    </a:lnTo>
                    <a:lnTo>
                      <a:pt x="827" y="53"/>
                    </a:lnTo>
                    <a:lnTo>
                      <a:pt x="825" y="61"/>
                    </a:lnTo>
                    <a:lnTo>
                      <a:pt x="819" y="68"/>
                    </a:lnTo>
                    <a:lnTo>
                      <a:pt x="815" y="76"/>
                    </a:lnTo>
                    <a:lnTo>
                      <a:pt x="810" y="82"/>
                    </a:lnTo>
                    <a:lnTo>
                      <a:pt x="806" y="91"/>
                    </a:lnTo>
                    <a:lnTo>
                      <a:pt x="800" y="101"/>
                    </a:lnTo>
                    <a:lnTo>
                      <a:pt x="793" y="110"/>
                    </a:lnTo>
                    <a:lnTo>
                      <a:pt x="787" y="120"/>
                    </a:lnTo>
                    <a:lnTo>
                      <a:pt x="779" y="131"/>
                    </a:lnTo>
                    <a:lnTo>
                      <a:pt x="772" y="141"/>
                    </a:lnTo>
                    <a:lnTo>
                      <a:pt x="764" y="152"/>
                    </a:lnTo>
                    <a:lnTo>
                      <a:pt x="755" y="161"/>
                    </a:lnTo>
                    <a:lnTo>
                      <a:pt x="749" y="175"/>
                    </a:lnTo>
                    <a:lnTo>
                      <a:pt x="737" y="186"/>
                    </a:lnTo>
                    <a:lnTo>
                      <a:pt x="728" y="198"/>
                    </a:lnTo>
                    <a:lnTo>
                      <a:pt x="718" y="211"/>
                    </a:lnTo>
                    <a:lnTo>
                      <a:pt x="709" y="224"/>
                    </a:lnTo>
                    <a:lnTo>
                      <a:pt x="698" y="238"/>
                    </a:lnTo>
                    <a:lnTo>
                      <a:pt x="688" y="249"/>
                    </a:lnTo>
                    <a:lnTo>
                      <a:pt x="677" y="264"/>
                    </a:lnTo>
                    <a:lnTo>
                      <a:pt x="667" y="277"/>
                    </a:lnTo>
                    <a:lnTo>
                      <a:pt x="656" y="291"/>
                    </a:lnTo>
                    <a:lnTo>
                      <a:pt x="642" y="304"/>
                    </a:lnTo>
                    <a:lnTo>
                      <a:pt x="631" y="317"/>
                    </a:lnTo>
                    <a:lnTo>
                      <a:pt x="620" y="333"/>
                    </a:lnTo>
                    <a:lnTo>
                      <a:pt x="608" y="346"/>
                    </a:lnTo>
                    <a:lnTo>
                      <a:pt x="597" y="361"/>
                    </a:lnTo>
                    <a:lnTo>
                      <a:pt x="585" y="374"/>
                    </a:lnTo>
                    <a:lnTo>
                      <a:pt x="574" y="390"/>
                    </a:lnTo>
                    <a:lnTo>
                      <a:pt x="561" y="403"/>
                    </a:lnTo>
                    <a:lnTo>
                      <a:pt x="547" y="416"/>
                    </a:lnTo>
                    <a:lnTo>
                      <a:pt x="536" y="430"/>
                    </a:lnTo>
                    <a:lnTo>
                      <a:pt x="525" y="445"/>
                    </a:lnTo>
                    <a:lnTo>
                      <a:pt x="511" y="458"/>
                    </a:lnTo>
                    <a:lnTo>
                      <a:pt x="500" y="473"/>
                    </a:lnTo>
                    <a:lnTo>
                      <a:pt x="488" y="487"/>
                    </a:lnTo>
                    <a:lnTo>
                      <a:pt x="477" y="500"/>
                    </a:lnTo>
                    <a:lnTo>
                      <a:pt x="464" y="513"/>
                    </a:lnTo>
                    <a:lnTo>
                      <a:pt x="454" y="525"/>
                    </a:lnTo>
                    <a:lnTo>
                      <a:pt x="443" y="538"/>
                    </a:lnTo>
                    <a:lnTo>
                      <a:pt x="431" y="551"/>
                    </a:lnTo>
                    <a:lnTo>
                      <a:pt x="420" y="563"/>
                    </a:lnTo>
                    <a:lnTo>
                      <a:pt x="409" y="576"/>
                    </a:lnTo>
                    <a:lnTo>
                      <a:pt x="399" y="587"/>
                    </a:lnTo>
                    <a:lnTo>
                      <a:pt x="390" y="599"/>
                    </a:lnTo>
                    <a:lnTo>
                      <a:pt x="380" y="610"/>
                    </a:lnTo>
                    <a:lnTo>
                      <a:pt x="371" y="622"/>
                    </a:lnTo>
                    <a:lnTo>
                      <a:pt x="361" y="631"/>
                    </a:lnTo>
                    <a:lnTo>
                      <a:pt x="353" y="641"/>
                    </a:lnTo>
                    <a:lnTo>
                      <a:pt x="346" y="650"/>
                    </a:lnTo>
                    <a:lnTo>
                      <a:pt x="338" y="660"/>
                    </a:lnTo>
                    <a:lnTo>
                      <a:pt x="331" y="667"/>
                    </a:lnTo>
                    <a:lnTo>
                      <a:pt x="323" y="675"/>
                    </a:lnTo>
                    <a:lnTo>
                      <a:pt x="317" y="682"/>
                    </a:lnTo>
                    <a:lnTo>
                      <a:pt x="310" y="690"/>
                    </a:lnTo>
                    <a:lnTo>
                      <a:pt x="304" y="696"/>
                    </a:lnTo>
                    <a:lnTo>
                      <a:pt x="300" y="702"/>
                    </a:lnTo>
                    <a:lnTo>
                      <a:pt x="293" y="711"/>
                    </a:lnTo>
                    <a:lnTo>
                      <a:pt x="287" y="721"/>
                    </a:lnTo>
                    <a:lnTo>
                      <a:pt x="277" y="730"/>
                    </a:lnTo>
                    <a:lnTo>
                      <a:pt x="272" y="741"/>
                    </a:lnTo>
                    <a:lnTo>
                      <a:pt x="264" y="753"/>
                    </a:lnTo>
                    <a:lnTo>
                      <a:pt x="258" y="762"/>
                    </a:lnTo>
                    <a:lnTo>
                      <a:pt x="255" y="772"/>
                    </a:lnTo>
                    <a:lnTo>
                      <a:pt x="255" y="781"/>
                    </a:lnTo>
                    <a:lnTo>
                      <a:pt x="255" y="791"/>
                    </a:lnTo>
                    <a:lnTo>
                      <a:pt x="257" y="798"/>
                    </a:lnTo>
                    <a:lnTo>
                      <a:pt x="258" y="804"/>
                    </a:lnTo>
                    <a:lnTo>
                      <a:pt x="264" y="810"/>
                    </a:lnTo>
                    <a:lnTo>
                      <a:pt x="270" y="814"/>
                    </a:lnTo>
                    <a:lnTo>
                      <a:pt x="281" y="817"/>
                    </a:lnTo>
                    <a:lnTo>
                      <a:pt x="285" y="817"/>
                    </a:lnTo>
                    <a:lnTo>
                      <a:pt x="291" y="817"/>
                    </a:lnTo>
                    <a:lnTo>
                      <a:pt x="296" y="817"/>
                    </a:lnTo>
                    <a:lnTo>
                      <a:pt x="304" y="817"/>
                    </a:lnTo>
                    <a:lnTo>
                      <a:pt x="310" y="817"/>
                    </a:lnTo>
                    <a:lnTo>
                      <a:pt x="319" y="816"/>
                    </a:lnTo>
                    <a:lnTo>
                      <a:pt x="329" y="814"/>
                    </a:lnTo>
                    <a:lnTo>
                      <a:pt x="338" y="812"/>
                    </a:lnTo>
                    <a:lnTo>
                      <a:pt x="342" y="810"/>
                    </a:lnTo>
                    <a:lnTo>
                      <a:pt x="348" y="808"/>
                    </a:lnTo>
                    <a:lnTo>
                      <a:pt x="355" y="806"/>
                    </a:lnTo>
                    <a:lnTo>
                      <a:pt x="365" y="804"/>
                    </a:lnTo>
                    <a:lnTo>
                      <a:pt x="372" y="800"/>
                    </a:lnTo>
                    <a:lnTo>
                      <a:pt x="384" y="798"/>
                    </a:lnTo>
                    <a:lnTo>
                      <a:pt x="393" y="797"/>
                    </a:lnTo>
                    <a:lnTo>
                      <a:pt x="407" y="795"/>
                    </a:lnTo>
                    <a:lnTo>
                      <a:pt x="418" y="791"/>
                    </a:lnTo>
                    <a:lnTo>
                      <a:pt x="431" y="789"/>
                    </a:lnTo>
                    <a:lnTo>
                      <a:pt x="445" y="785"/>
                    </a:lnTo>
                    <a:lnTo>
                      <a:pt x="462" y="781"/>
                    </a:lnTo>
                    <a:lnTo>
                      <a:pt x="477" y="778"/>
                    </a:lnTo>
                    <a:lnTo>
                      <a:pt x="494" y="774"/>
                    </a:lnTo>
                    <a:lnTo>
                      <a:pt x="511" y="772"/>
                    </a:lnTo>
                    <a:lnTo>
                      <a:pt x="530" y="768"/>
                    </a:lnTo>
                    <a:lnTo>
                      <a:pt x="547" y="762"/>
                    </a:lnTo>
                    <a:lnTo>
                      <a:pt x="566" y="760"/>
                    </a:lnTo>
                    <a:lnTo>
                      <a:pt x="585" y="755"/>
                    </a:lnTo>
                    <a:lnTo>
                      <a:pt x="604" y="751"/>
                    </a:lnTo>
                    <a:lnTo>
                      <a:pt x="623" y="745"/>
                    </a:lnTo>
                    <a:lnTo>
                      <a:pt x="646" y="743"/>
                    </a:lnTo>
                    <a:lnTo>
                      <a:pt x="665" y="738"/>
                    </a:lnTo>
                    <a:lnTo>
                      <a:pt x="688" y="734"/>
                    </a:lnTo>
                    <a:lnTo>
                      <a:pt x="709" y="728"/>
                    </a:lnTo>
                    <a:lnTo>
                      <a:pt x="730" y="724"/>
                    </a:lnTo>
                    <a:lnTo>
                      <a:pt x="753" y="721"/>
                    </a:lnTo>
                    <a:lnTo>
                      <a:pt x="774" y="717"/>
                    </a:lnTo>
                    <a:lnTo>
                      <a:pt x="796" y="711"/>
                    </a:lnTo>
                    <a:lnTo>
                      <a:pt x="819" y="707"/>
                    </a:lnTo>
                    <a:lnTo>
                      <a:pt x="840" y="702"/>
                    </a:lnTo>
                    <a:lnTo>
                      <a:pt x="865" y="700"/>
                    </a:lnTo>
                    <a:lnTo>
                      <a:pt x="886" y="694"/>
                    </a:lnTo>
                    <a:lnTo>
                      <a:pt x="909" y="690"/>
                    </a:lnTo>
                    <a:lnTo>
                      <a:pt x="930" y="684"/>
                    </a:lnTo>
                    <a:lnTo>
                      <a:pt x="952" y="681"/>
                    </a:lnTo>
                    <a:lnTo>
                      <a:pt x="973" y="677"/>
                    </a:lnTo>
                    <a:lnTo>
                      <a:pt x="996" y="673"/>
                    </a:lnTo>
                    <a:lnTo>
                      <a:pt x="1017" y="669"/>
                    </a:lnTo>
                    <a:lnTo>
                      <a:pt x="1040" y="665"/>
                    </a:lnTo>
                    <a:lnTo>
                      <a:pt x="1059" y="662"/>
                    </a:lnTo>
                    <a:lnTo>
                      <a:pt x="1080" y="658"/>
                    </a:lnTo>
                    <a:lnTo>
                      <a:pt x="1099" y="654"/>
                    </a:lnTo>
                    <a:lnTo>
                      <a:pt x="1120" y="652"/>
                    </a:lnTo>
                    <a:lnTo>
                      <a:pt x="1139" y="648"/>
                    </a:lnTo>
                    <a:lnTo>
                      <a:pt x="1158" y="644"/>
                    </a:lnTo>
                    <a:lnTo>
                      <a:pt x="1177" y="643"/>
                    </a:lnTo>
                    <a:lnTo>
                      <a:pt x="1196" y="641"/>
                    </a:lnTo>
                    <a:lnTo>
                      <a:pt x="1211" y="637"/>
                    </a:lnTo>
                    <a:lnTo>
                      <a:pt x="1228" y="633"/>
                    </a:lnTo>
                    <a:lnTo>
                      <a:pt x="1245" y="631"/>
                    </a:lnTo>
                    <a:lnTo>
                      <a:pt x="1260" y="629"/>
                    </a:lnTo>
                    <a:lnTo>
                      <a:pt x="1274" y="625"/>
                    </a:lnTo>
                    <a:lnTo>
                      <a:pt x="1289" y="625"/>
                    </a:lnTo>
                    <a:lnTo>
                      <a:pt x="1302" y="624"/>
                    </a:lnTo>
                    <a:lnTo>
                      <a:pt x="1315" y="624"/>
                    </a:lnTo>
                    <a:lnTo>
                      <a:pt x="1325" y="622"/>
                    </a:lnTo>
                    <a:lnTo>
                      <a:pt x="1336" y="620"/>
                    </a:lnTo>
                    <a:lnTo>
                      <a:pt x="1346" y="620"/>
                    </a:lnTo>
                    <a:lnTo>
                      <a:pt x="1355" y="620"/>
                    </a:lnTo>
                    <a:lnTo>
                      <a:pt x="1363" y="620"/>
                    </a:lnTo>
                    <a:lnTo>
                      <a:pt x="1371" y="620"/>
                    </a:lnTo>
                    <a:lnTo>
                      <a:pt x="1376" y="620"/>
                    </a:lnTo>
                    <a:lnTo>
                      <a:pt x="1380" y="622"/>
                    </a:lnTo>
                    <a:lnTo>
                      <a:pt x="1388" y="622"/>
                    </a:lnTo>
                    <a:lnTo>
                      <a:pt x="1395" y="624"/>
                    </a:lnTo>
                    <a:lnTo>
                      <a:pt x="1401" y="625"/>
                    </a:lnTo>
                    <a:lnTo>
                      <a:pt x="1409" y="627"/>
                    </a:lnTo>
                    <a:lnTo>
                      <a:pt x="1414" y="627"/>
                    </a:lnTo>
                    <a:lnTo>
                      <a:pt x="1422" y="631"/>
                    </a:lnTo>
                    <a:lnTo>
                      <a:pt x="1426" y="631"/>
                    </a:lnTo>
                    <a:lnTo>
                      <a:pt x="1433" y="635"/>
                    </a:lnTo>
                    <a:lnTo>
                      <a:pt x="1441" y="637"/>
                    </a:lnTo>
                    <a:lnTo>
                      <a:pt x="1449" y="643"/>
                    </a:lnTo>
                    <a:lnTo>
                      <a:pt x="1454" y="646"/>
                    </a:lnTo>
                    <a:lnTo>
                      <a:pt x="1458" y="652"/>
                    </a:lnTo>
                    <a:lnTo>
                      <a:pt x="1458" y="656"/>
                    </a:lnTo>
                    <a:lnTo>
                      <a:pt x="1456" y="662"/>
                    </a:lnTo>
                    <a:lnTo>
                      <a:pt x="1452" y="669"/>
                    </a:lnTo>
                    <a:lnTo>
                      <a:pt x="1447" y="675"/>
                    </a:lnTo>
                    <a:lnTo>
                      <a:pt x="1441" y="679"/>
                    </a:lnTo>
                    <a:lnTo>
                      <a:pt x="1435" y="681"/>
                    </a:lnTo>
                    <a:lnTo>
                      <a:pt x="1430" y="684"/>
                    </a:lnTo>
                    <a:lnTo>
                      <a:pt x="1424" y="688"/>
                    </a:lnTo>
                    <a:lnTo>
                      <a:pt x="1414" y="690"/>
                    </a:lnTo>
                    <a:lnTo>
                      <a:pt x="1407" y="694"/>
                    </a:lnTo>
                    <a:lnTo>
                      <a:pt x="1397" y="700"/>
                    </a:lnTo>
                    <a:lnTo>
                      <a:pt x="1388" y="703"/>
                    </a:lnTo>
                    <a:lnTo>
                      <a:pt x="1380" y="703"/>
                    </a:lnTo>
                    <a:lnTo>
                      <a:pt x="1372" y="707"/>
                    </a:lnTo>
                    <a:lnTo>
                      <a:pt x="1365" y="707"/>
                    </a:lnTo>
                    <a:lnTo>
                      <a:pt x="1357" y="711"/>
                    </a:lnTo>
                    <a:lnTo>
                      <a:pt x="1346" y="713"/>
                    </a:lnTo>
                    <a:lnTo>
                      <a:pt x="1334" y="715"/>
                    </a:lnTo>
                    <a:lnTo>
                      <a:pt x="1323" y="719"/>
                    </a:lnTo>
                    <a:lnTo>
                      <a:pt x="1312" y="721"/>
                    </a:lnTo>
                    <a:lnTo>
                      <a:pt x="1298" y="724"/>
                    </a:lnTo>
                    <a:lnTo>
                      <a:pt x="1285" y="726"/>
                    </a:lnTo>
                    <a:lnTo>
                      <a:pt x="1270" y="730"/>
                    </a:lnTo>
                    <a:lnTo>
                      <a:pt x="1255" y="734"/>
                    </a:lnTo>
                    <a:lnTo>
                      <a:pt x="1237" y="736"/>
                    </a:lnTo>
                    <a:lnTo>
                      <a:pt x="1222" y="740"/>
                    </a:lnTo>
                    <a:lnTo>
                      <a:pt x="1205" y="745"/>
                    </a:lnTo>
                    <a:lnTo>
                      <a:pt x="1188" y="749"/>
                    </a:lnTo>
                    <a:lnTo>
                      <a:pt x="1169" y="753"/>
                    </a:lnTo>
                    <a:lnTo>
                      <a:pt x="1150" y="755"/>
                    </a:lnTo>
                    <a:lnTo>
                      <a:pt x="1131" y="760"/>
                    </a:lnTo>
                    <a:lnTo>
                      <a:pt x="1112" y="764"/>
                    </a:lnTo>
                    <a:lnTo>
                      <a:pt x="1091" y="768"/>
                    </a:lnTo>
                    <a:lnTo>
                      <a:pt x="1070" y="772"/>
                    </a:lnTo>
                    <a:lnTo>
                      <a:pt x="1051" y="776"/>
                    </a:lnTo>
                    <a:lnTo>
                      <a:pt x="1030" y="781"/>
                    </a:lnTo>
                    <a:lnTo>
                      <a:pt x="1007" y="785"/>
                    </a:lnTo>
                    <a:lnTo>
                      <a:pt x="987" y="791"/>
                    </a:lnTo>
                    <a:lnTo>
                      <a:pt x="964" y="793"/>
                    </a:lnTo>
                    <a:lnTo>
                      <a:pt x="943" y="798"/>
                    </a:lnTo>
                    <a:lnTo>
                      <a:pt x="920" y="802"/>
                    </a:lnTo>
                    <a:lnTo>
                      <a:pt x="899" y="808"/>
                    </a:lnTo>
                    <a:lnTo>
                      <a:pt x="876" y="812"/>
                    </a:lnTo>
                    <a:lnTo>
                      <a:pt x="855" y="817"/>
                    </a:lnTo>
                    <a:lnTo>
                      <a:pt x="831" y="821"/>
                    </a:lnTo>
                    <a:lnTo>
                      <a:pt x="810" y="827"/>
                    </a:lnTo>
                    <a:lnTo>
                      <a:pt x="787" y="829"/>
                    </a:lnTo>
                    <a:lnTo>
                      <a:pt x="764" y="835"/>
                    </a:lnTo>
                    <a:lnTo>
                      <a:pt x="743" y="838"/>
                    </a:lnTo>
                    <a:lnTo>
                      <a:pt x="720" y="842"/>
                    </a:lnTo>
                    <a:lnTo>
                      <a:pt x="698" y="848"/>
                    </a:lnTo>
                    <a:lnTo>
                      <a:pt x="677" y="854"/>
                    </a:lnTo>
                    <a:lnTo>
                      <a:pt x="656" y="856"/>
                    </a:lnTo>
                    <a:lnTo>
                      <a:pt x="633" y="859"/>
                    </a:lnTo>
                    <a:lnTo>
                      <a:pt x="612" y="865"/>
                    </a:lnTo>
                    <a:lnTo>
                      <a:pt x="593" y="869"/>
                    </a:lnTo>
                    <a:lnTo>
                      <a:pt x="574" y="873"/>
                    </a:lnTo>
                    <a:lnTo>
                      <a:pt x="553" y="876"/>
                    </a:lnTo>
                    <a:lnTo>
                      <a:pt x="534" y="880"/>
                    </a:lnTo>
                    <a:lnTo>
                      <a:pt x="517" y="884"/>
                    </a:lnTo>
                    <a:lnTo>
                      <a:pt x="498" y="888"/>
                    </a:lnTo>
                    <a:lnTo>
                      <a:pt x="479" y="892"/>
                    </a:lnTo>
                    <a:lnTo>
                      <a:pt x="462" y="894"/>
                    </a:lnTo>
                    <a:lnTo>
                      <a:pt x="445" y="897"/>
                    </a:lnTo>
                    <a:lnTo>
                      <a:pt x="428" y="901"/>
                    </a:lnTo>
                    <a:lnTo>
                      <a:pt x="414" y="905"/>
                    </a:lnTo>
                    <a:lnTo>
                      <a:pt x="397" y="907"/>
                    </a:lnTo>
                    <a:lnTo>
                      <a:pt x="386" y="911"/>
                    </a:lnTo>
                    <a:lnTo>
                      <a:pt x="371" y="913"/>
                    </a:lnTo>
                    <a:lnTo>
                      <a:pt x="359" y="914"/>
                    </a:lnTo>
                    <a:lnTo>
                      <a:pt x="346" y="918"/>
                    </a:lnTo>
                    <a:lnTo>
                      <a:pt x="336" y="920"/>
                    </a:lnTo>
                    <a:lnTo>
                      <a:pt x="325" y="922"/>
                    </a:lnTo>
                    <a:lnTo>
                      <a:pt x="317" y="924"/>
                    </a:lnTo>
                    <a:lnTo>
                      <a:pt x="308" y="928"/>
                    </a:lnTo>
                    <a:lnTo>
                      <a:pt x="302" y="930"/>
                    </a:lnTo>
                    <a:lnTo>
                      <a:pt x="295" y="930"/>
                    </a:lnTo>
                    <a:lnTo>
                      <a:pt x="287" y="932"/>
                    </a:lnTo>
                    <a:lnTo>
                      <a:pt x="281" y="932"/>
                    </a:lnTo>
                    <a:lnTo>
                      <a:pt x="274" y="933"/>
                    </a:lnTo>
                    <a:lnTo>
                      <a:pt x="268" y="935"/>
                    </a:lnTo>
                    <a:lnTo>
                      <a:pt x="262" y="939"/>
                    </a:lnTo>
                    <a:lnTo>
                      <a:pt x="255" y="939"/>
                    </a:lnTo>
                    <a:lnTo>
                      <a:pt x="249" y="943"/>
                    </a:lnTo>
                    <a:lnTo>
                      <a:pt x="243" y="943"/>
                    </a:lnTo>
                    <a:lnTo>
                      <a:pt x="236" y="947"/>
                    </a:lnTo>
                    <a:lnTo>
                      <a:pt x="230" y="949"/>
                    </a:lnTo>
                    <a:lnTo>
                      <a:pt x="224" y="951"/>
                    </a:lnTo>
                    <a:lnTo>
                      <a:pt x="211" y="956"/>
                    </a:lnTo>
                    <a:lnTo>
                      <a:pt x="201" y="962"/>
                    </a:lnTo>
                    <a:lnTo>
                      <a:pt x="190" y="966"/>
                    </a:lnTo>
                    <a:lnTo>
                      <a:pt x="179" y="972"/>
                    </a:lnTo>
                    <a:lnTo>
                      <a:pt x="169" y="977"/>
                    </a:lnTo>
                    <a:lnTo>
                      <a:pt x="160" y="983"/>
                    </a:lnTo>
                    <a:lnTo>
                      <a:pt x="150" y="987"/>
                    </a:lnTo>
                    <a:lnTo>
                      <a:pt x="141" y="992"/>
                    </a:lnTo>
                    <a:lnTo>
                      <a:pt x="131" y="998"/>
                    </a:lnTo>
                    <a:lnTo>
                      <a:pt x="123" y="1004"/>
                    </a:lnTo>
                    <a:lnTo>
                      <a:pt x="114" y="1008"/>
                    </a:lnTo>
                    <a:lnTo>
                      <a:pt x="106" y="1013"/>
                    </a:lnTo>
                    <a:lnTo>
                      <a:pt x="97" y="1017"/>
                    </a:lnTo>
                    <a:lnTo>
                      <a:pt x="91" y="1023"/>
                    </a:lnTo>
                    <a:lnTo>
                      <a:pt x="84" y="1025"/>
                    </a:lnTo>
                    <a:lnTo>
                      <a:pt x="78" y="1030"/>
                    </a:lnTo>
                    <a:lnTo>
                      <a:pt x="70" y="1032"/>
                    </a:lnTo>
                    <a:lnTo>
                      <a:pt x="66" y="1036"/>
                    </a:lnTo>
                    <a:lnTo>
                      <a:pt x="59" y="1036"/>
                    </a:lnTo>
                    <a:lnTo>
                      <a:pt x="55" y="1040"/>
                    </a:lnTo>
                    <a:lnTo>
                      <a:pt x="49" y="1040"/>
                    </a:lnTo>
                    <a:lnTo>
                      <a:pt x="45" y="1042"/>
                    </a:lnTo>
                    <a:lnTo>
                      <a:pt x="36" y="1042"/>
                    </a:lnTo>
                    <a:lnTo>
                      <a:pt x="30" y="1038"/>
                    </a:lnTo>
                    <a:lnTo>
                      <a:pt x="25" y="1032"/>
                    </a:lnTo>
                    <a:lnTo>
                      <a:pt x="19" y="1027"/>
                    </a:lnTo>
                    <a:lnTo>
                      <a:pt x="15" y="1021"/>
                    </a:lnTo>
                    <a:lnTo>
                      <a:pt x="11" y="1017"/>
                    </a:lnTo>
                    <a:lnTo>
                      <a:pt x="6" y="1006"/>
                    </a:lnTo>
                    <a:lnTo>
                      <a:pt x="4" y="998"/>
                    </a:lnTo>
                    <a:lnTo>
                      <a:pt x="0" y="989"/>
                    </a:lnTo>
                    <a:lnTo>
                      <a:pt x="0" y="985"/>
                    </a:lnTo>
                    <a:lnTo>
                      <a:pt x="0" y="979"/>
                    </a:lnTo>
                    <a:lnTo>
                      <a:pt x="0" y="979"/>
                    </a:lnTo>
                    <a:close/>
                  </a:path>
                </a:pathLst>
              </a:custGeom>
              <a:solidFill>
                <a:srgbClr val="2b6b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270840" y="2536560"/>
                <a:ext cx="84600" cy="92160"/>
              </a:xfrm>
              <a:custGeom>
                <a:avLst/>
                <a:gdLst/>
                <a:ahLst/>
                <a:rect l="l" t="t" r="r" b="b"/>
                <a:pathLst>
                  <a:path w="127" h="135">
                    <a:moveTo>
                      <a:pt x="28" y="13"/>
                    </a:moveTo>
                    <a:lnTo>
                      <a:pt x="30" y="11"/>
                    </a:lnTo>
                    <a:lnTo>
                      <a:pt x="38" y="8"/>
                    </a:lnTo>
                    <a:lnTo>
                      <a:pt x="41" y="6"/>
                    </a:lnTo>
                    <a:lnTo>
                      <a:pt x="49" y="4"/>
                    </a:lnTo>
                    <a:lnTo>
                      <a:pt x="57" y="2"/>
                    </a:lnTo>
                    <a:lnTo>
                      <a:pt x="64" y="2"/>
                    </a:lnTo>
                    <a:lnTo>
                      <a:pt x="72" y="0"/>
                    </a:lnTo>
                    <a:lnTo>
                      <a:pt x="79" y="2"/>
                    </a:lnTo>
                    <a:lnTo>
                      <a:pt x="87" y="2"/>
                    </a:lnTo>
                    <a:lnTo>
                      <a:pt x="95" y="6"/>
                    </a:lnTo>
                    <a:lnTo>
                      <a:pt x="102" y="11"/>
                    </a:lnTo>
                    <a:lnTo>
                      <a:pt x="108" y="17"/>
                    </a:lnTo>
                    <a:lnTo>
                      <a:pt x="112" y="21"/>
                    </a:lnTo>
                    <a:lnTo>
                      <a:pt x="114" y="25"/>
                    </a:lnTo>
                    <a:lnTo>
                      <a:pt x="117" y="31"/>
                    </a:lnTo>
                    <a:lnTo>
                      <a:pt x="121" y="38"/>
                    </a:lnTo>
                    <a:lnTo>
                      <a:pt x="123" y="48"/>
                    </a:lnTo>
                    <a:lnTo>
                      <a:pt x="125" y="59"/>
                    </a:lnTo>
                    <a:lnTo>
                      <a:pt x="127" y="69"/>
                    </a:lnTo>
                    <a:lnTo>
                      <a:pt x="127" y="78"/>
                    </a:lnTo>
                    <a:lnTo>
                      <a:pt x="127" y="86"/>
                    </a:lnTo>
                    <a:lnTo>
                      <a:pt x="125" y="95"/>
                    </a:lnTo>
                    <a:lnTo>
                      <a:pt x="123" y="101"/>
                    </a:lnTo>
                    <a:lnTo>
                      <a:pt x="121" y="108"/>
                    </a:lnTo>
                    <a:lnTo>
                      <a:pt x="117" y="114"/>
                    </a:lnTo>
                    <a:lnTo>
                      <a:pt x="114" y="118"/>
                    </a:lnTo>
                    <a:lnTo>
                      <a:pt x="108" y="124"/>
                    </a:lnTo>
                    <a:lnTo>
                      <a:pt x="102" y="127"/>
                    </a:lnTo>
                    <a:lnTo>
                      <a:pt x="95" y="129"/>
                    </a:lnTo>
                    <a:lnTo>
                      <a:pt x="89" y="133"/>
                    </a:lnTo>
                    <a:lnTo>
                      <a:pt x="81" y="133"/>
                    </a:lnTo>
                    <a:lnTo>
                      <a:pt x="74" y="135"/>
                    </a:lnTo>
                    <a:lnTo>
                      <a:pt x="64" y="135"/>
                    </a:lnTo>
                    <a:lnTo>
                      <a:pt x="57" y="135"/>
                    </a:lnTo>
                    <a:lnTo>
                      <a:pt x="49" y="135"/>
                    </a:lnTo>
                    <a:lnTo>
                      <a:pt x="43" y="133"/>
                    </a:lnTo>
                    <a:lnTo>
                      <a:pt x="38" y="131"/>
                    </a:lnTo>
                    <a:lnTo>
                      <a:pt x="30" y="129"/>
                    </a:lnTo>
                    <a:lnTo>
                      <a:pt x="24" y="126"/>
                    </a:lnTo>
                    <a:lnTo>
                      <a:pt x="20" y="124"/>
                    </a:lnTo>
                    <a:lnTo>
                      <a:pt x="11" y="116"/>
                    </a:lnTo>
                    <a:lnTo>
                      <a:pt x="5" y="108"/>
                    </a:lnTo>
                    <a:lnTo>
                      <a:pt x="1" y="101"/>
                    </a:lnTo>
                    <a:lnTo>
                      <a:pt x="0" y="93"/>
                    </a:lnTo>
                    <a:lnTo>
                      <a:pt x="0" y="88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0" y="67"/>
                    </a:lnTo>
                    <a:lnTo>
                      <a:pt x="1" y="61"/>
                    </a:lnTo>
                    <a:lnTo>
                      <a:pt x="3" y="53"/>
                    </a:lnTo>
                    <a:lnTo>
                      <a:pt x="5" y="50"/>
                    </a:lnTo>
                    <a:lnTo>
                      <a:pt x="5" y="42"/>
                    </a:lnTo>
                    <a:lnTo>
                      <a:pt x="9" y="36"/>
                    </a:lnTo>
                    <a:lnTo>
                      <a:pt x="11" y="31"/>
                    </a:lnTo>
                    <a:lnTo>
                      <a:pt x="15" y="27"/>
                    </a:lnTo>
                    <a:lnTo>
                      <a:pt x="20" y="17"/>
                    </a:lnTo>
                    <a:lnTo>
                      <a:pt x="28" y="13"/>
                    </a:lnTo>
                    <a:lnTo>
                      <a:pt x="28" y="13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071400" y="2477880"/>
                <a:ext cx="204120" cy="228960"/>
              </a:xfrm>
              <a:custGeom>
                <a:avLst/>
                <a:gdLst/>
                <a:ahLst/>
                <a:rect l="l" t="t" r="r" b="b"/>
                <a:pathLst>
                  <a:path w="308" h="336">
                    <a:moveTo>
                      <a:pt x="308" y="20"/>
                    </a:moveTo>
                    <a:lnTo>
                      <a:pt x="306" y="19"/>
                    </a:lnTo>
                    <a:lnTo>
                      <a:pt x="302" y="15"/>
                    </a:lnTo>
                    <a:lnTo>
                      <a:pt x="295" y="11"/>
                    </a:lnTo>
                    <a:lnTo>
                      <a:pt x="285" y="7"/>
                    </a:lnTo>
                    <a:lnTo>
                      <a:pt x="276" y="3"/>
                    </a:lnTo>
                    <a:lnTo>
                      <a:pt x="266" y="1"/>
                    </a:lnTo>
                    <a:lnTo>
                      <a:pt x="257" y="0"/>
                    </a:lnTo>
                    <a:lnTo>
                      <a:pt x="249" y="3"/>
                    </a:lnTo>
                    <a:lnTo>
                      <a:pt x="245" y="5"/>
                    </a:lnTo>
                    <a:lnTo>
                      <a:pt x="243" y="11"/>
                    </a:lnTo>
                    <a:lnTo>
                      <a:pt x="240" y="15"/>
                    </a:lnTo>
                    <a:lnTo>
                      <a:pt x="238" y="24"/>
                    </a:lnTo>
                    <a:lnTo>
                      <a:pt x="236" y="32"/>
                    </a:lnTo>
                    <a:lnTo>
                      <a:pt x="236" y="41"/>
                    </a:lnTo>
                    <a:lnTo>
                      <a:pt x="234" y="51"/>
                    </a:lnTo>
                    <a:lnTo>
                      <a:pt x="232" y="62"/>
                    </a:lnTo>
                    <a:lnTo>
                      <a:pt x="228" y="74"/>
                    </a:lnTo>
                    <a:lnTo>
                      <a:pt x="226" y="85"/>
                    </a:lnTo>
                    <a:lnTo>
                      <a:pt x="224" y="91"/>
                    </a:lnTo>
                    <a:lnTo>
                      <a:pt x="224" y="96"/>
                    </a:lnTo>
                    <a:lnTo>
                      <a:pt x="221" y="102"/>
                    </a:lnTo>
                    <a:lnTo>
                      <a:pt x="221" y="108"/>
                    </a:lnTo>
                    <a:lnTo>
                      <a:pt x="215" y="119"/>
                    </a:lnTo>
                    <a:lnTo>
                      <a:pt x="209" y="129"/>
                    </a:lnTo>
                    <a:lnTo>
                      <a:pt x="204" y="140"/>
                    </a:lnTo>
                    <a:lnTo>
                      <a:pt x="196" y="152"/>
                    </a:lnTo>
                    <a:lnTo>
                      <a:pt x="190" y="154"/>
                    </a:lnTo>
                    <a:lnTo>
                      <a:pt x="185" y="159"/>
                    </a:lnTo>
                    <a:lnTo>
                      <a:pt x="179" y="165"/>
                    </a:lnTo>
                    <a:lnTo>
                      <a:pt x="173" y="173"/>
                    </a:lnTo>
                    <a:lnTo>
                      <a:pt x="166" y="178"/>
                    </a:lnTo>
                    <a:lnTo>
                      <a:pt x="160" y="184"/>
                    </a:lnTo>
                    <a:lnTo>
                      <a:pt x="152" y="192"/>
                    </a:lnTo>
                    <a:lnTo>
                      <a:pt x="145" y="199"/>
                    </a:lnTo>
                    <a:lnTo>
                      <a:pt x="135" y="207"/>
                    </a:lnTo>
                    <a:lnTo>
                      <a:pt x="127" y="212"/>
                    </a:lnTo>
                    <a:lnTo>
                      <a:pt x="118" y="220"/>
                    </a:lnTo>
                    <a:lnTo>
                      <a:pt x="112" y="230"/>
                    </a:lnTo>
                    <a:lnTo>
                      <a:pt x="103" y="237"/>
                    </a:lnTo>
                    <a:lnTo>
                      <a:pt x="95" y="245"/>
                    </a:lnTo>
                    <a:lnTo>
                      <a:pt x="88" y="252"/>
                    </a:lnTo>
                    <a:lnTo>
                      <a:pt x="80" y="260"/>
                    </a:lnTo>
                    <a:lnTo>
                      <a:pt x="70" y="268"/>
                    </a:lnTo>
                    <a:lnTo>
                      <a:pt x="63" y="275"/>
                    </a:lnTo>
                    <a:lnTo>
                      <a:pt x="53" y="281"/>
                    </a:lnTo>
                    <a:lnTo>
                      <a:pt x="48" y="289"/>
                    </a:lnTo>
                    <a:lnTo>
                      <a:pt x="40" y="294"/>
                    </a:lnTo>
                    <a:lnTo>
                      <a:pt x="34" y="302"/>
                    </a:lnTo>
                    <a:lnTo>
                      <a:pt x="29" y="308"/>
                    </a:lnTo>
                    <a:lnTo>
                      <a:pt x="23" y="313"/>
                    </a:lnTo>
                    <a:lnTo>
                      <a:pt x="13" y="321"/>
                    </a:lnTo>
                    <a:lnTo>
                      <a:pt x="6" y="328"/>
                    </a:lnTo>
                    <a:lnTo>
                      <a:pt x="2" y="334"/>
                    </a:lnTo>
                    <a:lnTo>
                      <a:pt x="0" y="336"/>
                    </a:lnTo>
                    <a:lnTo>
                      <a:pt x="152" y="336"/>
                    </a:lnTo>
                    <a:lnTo>
                      <a:pt x="152" y="334"/>
                    </a:lnTo>
                    <a:lnTo>
                      <a:pt x="154" y="330"/>
                    </a:lnTo>
                    <a:lnTo>
                      <a:pt x="156" y="327"/>
                    </a:lnTo>
                    <a:lnTo>
                      <a:pt x="164" y="321"/>
                    </a:lnTo>
                    <a:lnTo>
                      <a:pt x="169" y="311"/>
                    </a:lnTo>
                    <a:lnTo>
                      <a:pt x="177" y="302"/>
                    </a:lnTo>
                    <a:lnTo>
                      <a:pt x="185" y="292"/>
                    </a:lnTo>
                    <a:lnTo>
                      <a:pt x="194" y="281"/>
                    </a:lnTo>
                    <a:lnTo>
                      <a:pt x="198" y="275"/>
                    </a:lnTo>
                    <a:lnTo>
                      <a:pt x="204" y="268"/>
                    </a:lnTo>
                    <a:lnTo>
                      <a:pt x="207" y="262"/>
                    </a:lnTo>
                    <a:lnTo>
                      <a:pt x="213" y="256"/>
                    </a:lnTo>
                    <a:lnTo>
                      <a:pt x="217" y="249"/>
                    </a:lnTo>
                    <a:lnTo>
                      <a:pt x="223" y="241"/>
                    </a:lnTo>
                    <a:lnTo>
                      <a:pt x="228" y="235"/>
                    </a:lnTo>
                    <a:lnTo>
                      <a:pt x="234" y="228"/>
                    </a:lnTo>
                    <a:lnTo>
                      <a:pt x="238" y="220"/>
                    </a:lnTo>
                    <a:lnTo>
                      <a:pt x="243" y="212"/>
                    </a:lnTo>
                    <a:lnTo>
                      <a:pt x="247" y="207"/>
                    </a:lnTo>
                    <a:lnTo>
                      <a:pt x="253" y="201"/>
                    </a:lnTo>
                    <a:lnTo>
                      <a:pt x="257" y="193"/>
                    </a:lnTo>
                    <a:lnTo>
                      <a:pt x="261" y="186"/>
                    </a:lnTo>
                    <a:lnTo>
                      <a:pt x="264" y="180"/>
                    </a:lnTo>
                    <a:lnTo>
                      <a:pt x="270" y="173"/>
                    </a:lnTo>
                    <a:lnTo>
                      <a:pt x="274" y="165"/>
                    </a:lnTo>
                    <a:lnTo>
                      <a:pt x="276" y="159"/>
                    </a:lnTo>
                    <a:lnTo>
                      <a:pt x="280" y="152"/>
                    </a:lnTo>
                    <a:lnTo>
                      <a:pt x="283" y="144"/>
                    </a:lnTo>
                    <a:lnTo>
                      <a:pt x="285" y="136"/>
                    </a:lnTo>
                    <a:lnTo>
                      <a:pt x="287" y="129"/>
                    </a:lnTo>
                    <a:lnTo>
                      <a:pt x="289" y="123"/>
                    </a:lnTo>
                    <a:lnTo>
                      <a:pt x="293" y="117"/>
                    </a:lnTo>
                    <a:lnTo>
                      <a:pt x="293" y="110"/>
                    </a:lnTo>
                    <a:lnTo>
                      <a:pt x="295" y="102"/>
                    </a:lnTo>
                    <a:lnTo>
                      <a:pt x="297" y="96"/>
                    </a:lnTo>
                    <a:lnTo>
                      <a:pt x="299" y="91"/>
                    </a:lnTo>
                    <a:lnTo>
                      <a:pt x="301" y="83"/>
                    </a:lnTo>
                    <a:lnTo>
                      <a:pt x="301" y="77"/>
                    </a:lnTo>
                    <a:lnTo>
                      <a:pt x="302" y="72"/>
                    </a:lnTo>
                    <a:lnTo>
                      <a:pt x="304" y="68"/>
                    </a:lnTo>
                    <a:lnTo>
                      <a:pt x="304" y="57"/>
                    </a:lnTo>
                    <a:lnTo>
                      <a:pt x="306" y="49"/>
                    </a:lnTo>
                    <a:lnTo>
                      <a:pt x="306" y="39"/>
                    </a:lnTo>
                    <a:lnTo>
                      <a:pt x="306" y="34"/>
                    </a:lnTo>
                    <a:lnTo>
                      <a:pt x="306" y="26"/>
                    </a:lnTo>
                    <a:lnTo>
                      <a:pt x="306" y="24"/>
                    </a:lnTo>
                    <a:lnTo>
                      <a:pt x="306" y="20"/>
                    </a:lnTo>
                    <a:lnTo>
                      <a:pt x="308" y="20"/>
                    </a:lnTo>
                    <a:lnTo>
                      <a:pt x="308" y="20"/>
                    </a:lnTo>
                    <a:close/>
                  </a:path>
                </a:pathLst>
              </a:custGeom>
              <a:solidFill>
                <a:srgbClr val="2b6b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574960" y="1810080"/>
                <a:ext cx="1863720" cy="1440360"/>
              </a:xfrm>
              <a:custGeom>
                <a:avLst/>
                <a:gdLst/>
                <a:ahLst/>
                <a:rect l="l" t="t" r="r" b="b"/>
                <a:pathLst>
                  <a:path w="2810" h="2125">
                    <a:moveTo>
                      <a:pt x="1004" y="975"/>
                    </a:moveTo>
                    <a:lnTo>
                      <a:pt x="1000" y="971"/>
                    </a:lnTo>
                    <a:lnTo>
                      <a:pt x="994" y="967"/>
                    </a:lnTo>
                    <a:lnTo>
                      <a:pt x="987" y="962"/>
                    </a:lnTo>
                    <a:lnTo>
                      <a:pt x="979" y="954"/>
                    </a:lnTo>
                    <a:lnTo>
                      <a:pt x="973" y="950"/>
                    </a:lnTo>
                    <a:lnTo>
                      <a:pt x="966" y="947"/>
                    </a:lnTo>
                    <a:lnTo>
                      <a:pt x="960" y="941"/>
                    </a:lnTo>
                    <a:lnTo>
                      <a:pt x="954" y="937"/>
                    </a:lnTo>
                    <a:lnTo>
                      <a:pt x="947" y="931"/>
                    </a:lnTo>
                    <a:lnTo>
                      <a:pt x="939" y="926"/>
                    </a:lnTo>
                    <a:lnTo>
                      <a:pt x="932" y="920"/>
                    </a:lnTo>
                    <a:lnTo>
                      <a:pt x="924" y="916"/>
                    </a:lnTo>
                    <a:lnTo>
                      <a:pt x="915" y="910"/>
                    </a:lnTo>
                    <a:lnTo>
                      <a:pt x="905" y="903"/>
                    </a:lnTo>
                    <a:lnTo>
                      <a:pt x="896" y="897"/>
                    </a:lnTo>
                    <a:lnTo>
                      <a:pt x="886" y="891"/>
                    </a:lnTo>
                    <a:lnTo>
                      <a:pt x="876" y="884"/>
                    </a:lnTo>
                    <a:lnTo>
                      <a:pt x="867" y="878"/>
                    </a:lnTo>
                    <a:lnTo>
                      <a:pt x="856" y="872"/>
                    </a:lnTo>
                    <a:lnTo>
                      <a:pt x="846" y="865"/>
                    </a:lnTo>
                    <a:lnTo>
                      <a:pt x="835" y="857"/>
                    </a:lnTo>
                    <a:lnTo>
                      <a:pt x="823" y="852"/>
                    </a:lnTo>
                    <a:lnTo>
                      <a:pt x="810" y="844"/>
                    </a:lnTo>
                    <a:lnTo>
                      <a:pt x="799" y="838"/>
                    </a:lnTo>
                    <a:lnTo>
                      <a:pt x="787" y="831"/>
                    </a:lnTo>
                    <a:lnTo>
                      <a:pt x="774" y="825"/>
                    </a:lnTo>
                    <a:lnTo>
                      <a:pt x="762" y="817"/>
                    </a:lnTo>
                    <a:lnTo>
                      <a:pt x="751" y="812"/>
                    </a:lnTo>
                    <a:lnTo>
                      <a:pt x="736" y="804"/>
                    </a:lnTo>
                    <a:lnTo>
                      <a:pt x="723" y="796"/>
                    </a:lnTo>
                    <a:lnTo>
                      <a:pt x="709" y="789"/>
                    </a:lnTo>
                    <a:lnTo>
                      <a:pt x="696" y="783"/>
                    </a:lnTo>
                    <a:lnTo>
                      <a:pt x="683" y="777"/>
                    </a:lnTo>
                    <a:lnTo>
                      <a:pt x="669" y="770"/>
                    </a:lnTo>
                    <a:lnTo>
                      <a:pt x="656" y="764"/>
                    </a:lnTo>
                    <a:lnTo>
                      <a:pt x="643" y="758"/>
                    </a:lnTo>
                    <a:lnTo>
                      <a:pt x="627" y="753"/>
                    </a:lnTo>
                    <a:lnTo>
                      <a:pt x="614" y="747"/>
                    </a:lnTo>
                    <a:lnTo>
                      <a:pt x="601" y="741"/>
                    </a:lnTo>
                    <a:lnTo>
                      <a:pt x="586" y="737"/>
                    </a:lnTo>
                    <a:lnTo>
                      <a:pt x="572" y="732"/>
                    </a:lnTo>
                    <a:lnTo>
                      <a:pt x="559" y="726"/>
                    </a:lnTo>
                    <a:lnTo>
                      <a:pt x="544" y="722"/>
                    </a:lnTo>
                    <a:lnTo>
                      <a:pt x="530" y="718"/>
                    </a:lnTo>
                    <a:lnTo>
                      <a:pt x="517" y="715"/>
                    </a:lnTo>
                    <a:lnTo>
                      <a:pt x="502" y="711"/>
                    </a:lnTo>
                    <a:lnTo>
                      <a:pt x="489" y="707"/>
                    </a:lnTo>
                    <a:lnTo>
                      <a:pt x="475" y="705"/>
                    </a:lnTo>
                    <a:lnTo>
                      <a:pt x="462" y="703"/>
                    </a:lnTo>
                    <a:lnTo>
                      <a:pt x="449" y="701"/>
                    </a:lnTo>
                    <a:lnTo>
                      <a:pt x="434" y="699"/>
                    </a:lnTo>
                    <a:lnTo>
                      <a:pt x="422" y="699"/>
                    </a:lnTo>
                    <a:lnTo>
                      <a:pt x="407" y="697"/>
                    </a:lnTo>
                    <a:lnTo>
                      <a:pt x="396" y="697"/>
                    </a:lnTo>
                    <a:lnTo>
                      <a:pt x="382" y="697"/>
                    </a:lnTo>
                    <a:lnTo>
                      <a:pt x="369" y="697"/>
                    </a:lnTo>
                    <a:lnTo>
                      <a:pt x="357" y="697"/>
                    </a:lnTo>
                    <a:lnTo>
                      <a:pt x="344" y="699"/>
                    </a:lnTo>
                    <a:lnTo>
                      <a:pt x="333" y="703"/>
                    </a:lnTo>
                    <a:lnTo>
                      <a:pt x="321" y="707"/>
                    </a:lnTo>
                    <a:lnTo>
                      <a:pt x="310" y="709"/>
                    </a:lnTo>
                    <a:lnTo>
                      <a:pt x="299" y="713"/>
                    </a:lnTo>
                    <a:lnTo>
                      <a:pt x="285" y="715"/>
                    </a:lnTo>
                    <a:lnTo>
                      <a:pt x="276" y="718"/>
                    </a:lnTo>
                    <a:lnTo>
                      <a:pt x="264" y="722"/>
                    </a:lnTo>
                    <a:lnTo>
                      <a:pt x="253" y="726"/>
                    </a:lnTo>
                    <a:lnTo>
                      <a:pt x="243" y="730"/>
                    </a:lnTo>
                    <a:lnTo>
                      <a:pt x="234" y="734"/>
                    </a:lnTo>
                    <a:lnTo>
                      <a:pt x="223" y="737"/>
                    </a:lnTo>
                    <a:lnTo>
                      <a:pt x="211" y="743"/>
                    </a:lnTo>
                    <a:lnTo>
                      <a:pt x="202" y="747"/>
                    </a:lnTo>
                    <a:lnTo>
                      <a:pt x="192" y="753"/>
                    </a:lnTo>
                    <a:lnTo>
                      <a:pt x="183" y="758"/>
                    </a:lnTo>
                    <a:lnTo>
                      <a:pt x="173" y="762"/>
                    </a:lnTo>
                    <a:lnTo>
                      <a:pt x="165" y="768"/>
                    </a:lnTo>
                    <a:lnTo>
                      <a:pt x="158" y="775"/>
                    </a:lnTo>
                    <a:lnTo>
                      <a:pt x="148" y="779"/>
                    </a:lnTo>
                    <a:lnTo>
                      <a:pt x="141" y="785"/>
                    </a:lnTo>
                    <a:lnTo>
                      <a:pt x="133" y="791"/>
                    </a:lnTo>
                    <a:lnTo>
                      <a:pt x="126" y="796"/>
                    </a:lnTo>
                    <a:lnTo>
                      <a:pt x="118" y="804"/>
                    </a:lnTo>
                    <a:lnTo>
                      <a:pt x="110" y="810"/>
                    </a:lnTo>
                    <a:lnTo>
                      <a:pt x="105" y="815"/>
                    </a:lnTo>
                    <a:lnTo>
                      <a:pt x="97" y="823"/>
                    </a:lnTo>
                    <a:lnTo>
                      <a:pt x="89" y="829"/>
                    </a:lnTo>
                    <a:lnTo>
                      <a:pt x="84" y="836"/>
                    </a:lnTo>
                    <a:lnTo>
                      <a:pt x="78" y="844"/>
                    </a:lnTo>
                    <a:lnTo>
                      <a:pt x="72" y="852"/>
                    </a:lnTo>
                    <a:lnTo>
                      <a:pt x="67" y="857"/>
                    </a:lnTo>
                    <a:lnTo>
                      <a:pt x="61" y="865"/>
                    </a:lnTo>
                    <a:lnTo>
                      <a:pt x="55" y="872"/>
                    </a:lnTo>
                    <a:lnTo>
                      <a:pt x="51" y="880"/>
                    </a:lnTo>
                    <a:lnTo>
                      <a:pt x="46" y="888"/>
                    </a:lnTo>
                    <a:lnTo>
                      <a:pt x="40" y="893"/>
                    </a:lnTo>
                    <a:lnTo>
                      <a:pt x="36" y="901"/>
                    </a:lnTo>
                    <a:lnTo>
                      <a:pt x="32" y="910"/>
                    </a:lnTo>
                    <a:lnTo>
                      <a:pt x="29" y="918"/>
                    </a:lnTo>
                    <a:lnTo>
                      <a:pt x="25" y="926"/>
                    </a:lnTo>
                    <a:lnTo>
                      <a:pt x="21" y="933"/>
                    </a:lnTo>
                    <a:lnTo>
                      <a:pt x="19" y="943"/>
                    </a:lnTo>
                    <a:lnTo>
                      <a:pt x="15" y="948"/>
                    </a:lnTo>
                    <a:lnTo>
                      <a:pt x="11" y="958"/>
                    </a:lnTo>
                    <a:lnTo>
                      <a:pt x="10" y="966"/>
                    </a:lnTo>
                    <a:lnTo>
                      <a:pt x="10" y="975"/>
                    </a:lnTo>
                    <a:lnTo>
                      <a:pt x="6" y="983"/>
                    </a:lnTo>
                    <a:lnTo>
                      <a:pt x="4" y="992"/>
                    </a:lnTo>
                    <a:lnTo>
                      <a:pt x="2" y="1000"/>
                    </a:lnTo>
                    <a:lnTo>
                      <a:pt x="2" y="1009"/>
                    </a:lnTo>
                    <a:lnTo>
                      <a:pt x="0" y="1017"/>
                    </a:lnTo>
                    <a:lnTo>
                      <a:pt x="0" y="1026"/>
                    </a:lnTo>
                    <a:lnTo>
                      <a:pt x="0" y="1034"/>
                    </a:lnTo>
                    <a:lnTo>
                      <a:pt x="0" y="1044"/>
                    </a:lnTo>
                    <a:lnTo>
                      <a:pt x="0" y="1051"/>
                    </a:lnTo>
                    <a:lnTo>
                      <a:pt x="0" y="1061"/>
                    </a:lnTo>
                    <a:lnTo>
                      <a:pt x="0" y="1070"/>
                    </a:lnTo>
                    <a:lnTo>
                      <a:pt x="2" y="1080"/>
                    </a:lnTo>
                    <a:lnTo>
                      <a:pt x="2" y="1087"/>
                    </a:lnTo>
                    <a:lnTo>
                      <a:pt x="2" y="1097"/>
                    </a:lnTo>
                    <a:lnTo>
                      <a:pt x="4" y="1104"/>
                    </a:lnTo>
                    <a:lnTo>
                      <a:pt x="8" y="1114"/>
                    </a:lnTo>
                    <a:lnTo>
                      <a:pt x="8" y="1123"/>
                    </a:lnTo>
                    <a:lnTo>
                      <a:pt x="10" y="1133"/>
                    </a:lnTo>
                    <a:lnTo>
                      <a:pt x="13" y="1142"/>
                    </a:lnTo>
                    <a:lnTo>
                      <a:pt x="17" y="1152"/>
                    </a:lnTo>
                    <a:lnTo>
                      <a:pt x="19" y="1160"/>
                    </a:lnTo>
                    <a:lnTo>
                      <a:pt x="21" y="1167"/>
                    </a:lnTo>
                    <a:lnTo>
                      <a:pt x="27" y="1177"/>
                    </a:lnTo>
                    <a:lnTo>
                      <a:pt x="30" y="1184"/>
                    </a:lnTo>
                    <a:lnTo>
                      <a:pt x="34" y="1192"/>
                    </a:lnTo>
                    <a:lnTo>
                      <a:pt x="40" y="1199"/>
                    </a:lnTo>
                    <a:lnTo>
                      <a:pt x="46" y="1207"/>
                    </a:lnTo>
                    <a:lnTo>
                      <a:pt x="51" y="1215"/>
                    </a:lnTo>
                    <a:lnTo>
                      <a:pt x="57" y="1222"/>
                    </a:lnTo>
                    <a:lnTo>
                      <a:pt x="65" y="1228"/>
                    </a:lnTo>
                    <a:lnTo>
                      <a:pt x="70" y="1234"/>
                    </a:lnTo>
                    <a:lnTo>
                      <a:pt x="78" y="1241"/>
                    </a:lnTo>
                    <a:lnTo>
                      <a:pt x="86" y="1247"/>
                    </a:lnTo>
                    <a:lnTo>
                      <a:pt x="93" y="1255"/>
                    </a:lnTo>
                    <a:lnTo>
                      <a:pt x="101" y="1260"/>
                    </a:lnTo>
                    <a:lnTo>
                      <a:pt x="110" y="1268"/>
                    </a:lnTo>
                    <a:lnTo>
                      <a:pt x="118" y="1272"/>
                    </a:lnTo>
                    <a:lnTo>
                      <a:pt x="126" y="1277"/>
                    </a:lnTo>
                    <a:lnTo>
                      <a:pt x="135" y="1281"/>
                    </a:lnTo>
                    <a:lnTo>
                      <a:pt x="145" y="1287"/>
                    </a:lnTo>
                    <a:lnTo>
                      <a:pt x="154" y="1291"/>
                    </a:lnTo>
                    <a:lnTo>
                      <a:pt x="164" y="1296"/>
                    </a:lnTo>
                    <a:lnTo>
                      <a:pt x="173" y="1300"/>
                    </a:lnTo>
                    <a:lnTo>
                      <a:pt x="183" y="1306"/>
                    </a:lnTo>
                    <a:lnTo>
                      <a:pt x="192" y="1310"/>
                    </a:lnTo>
                    <a:lnTo>
                      <a:pt x="202" y="1314"/>
                    </a:lnTo>
                    <a:lnTo>
                      <a:pt x="213" y="1317"/>
                    </a:lnTo>
                    <a:lnTo>
                      <a:pt x="224" y="1321"/>
                    </a:lnTo>
                    <a:lnTo>
                      <a:pt x="234" y="1325"/>
                    </a:lnTo>
                    <a:lnTo>
                      <a:pt x="245" y="1329"/>
                    </a:lnTo>
                    <a:lnTo>
                      <a:pt x="255" y="1333"/>
                    </a:lnTo>
                    <a:lnTo>
                      <a:pt x="266" y="1336"/>
                    </a:lnTo>
                    <a:lnTo>
                      <a:pt x="276" y="1338"/>
                    </a:lnTo>
                    <a:lnTo>
                      <a:pt x="289" y="1340"/>
                    </a:lnTo>
                    <a:lnTo>
                      <a:pt x="299" y="1342"/>
                    </a:lnTo>
                    <a:lnTo>
                      <a:pt x="310" y="1346"/>
                    </a:lnTo>
                    <a:lnTo>
                      <a:pt x="319" y="1348"/>
                    </a:lnTo>
                    <a:lnTo>
                      <a:pt x="331" y="1350"/>
                    </a:lnTo>
                    <a:lnTo>
                      <a:pt x="340" y="1352"/>
                    </a:lnTo>
                    <a:lnTo>
                      <a:pt x="352" y="1355"/>
                    </a:lnTo>
                    <a:lnTo>
                      <a:pt x="361" y="1355"/>
                    </a:lnTo>
                    <a:lnTo>
                      <a:pt x="371" y="1357"/>
                    </a:lnTo>
                    <a:lnTo>
                      <a:pt x="382" y="1359"/>
                    </a:lnTo>
                    <a:lnTo>
                      <a:pt x="394" y="1361"/>
                    </a:lnTo>
                    <a:lnTo>
                      <a:pt x="403" y="1363"/>
                    </a:lnTo>
                    <a:lnTo>
                      <a:pt x="413" y="1365"/>
                    </a:lnTo>
                    <a:lnTo>
                      <a:pt x="424" y="1365"/>
                    </a:lnTo>
                    <a:lnTo>
                      <a:pt x="434" y="1367"/>
                    </a:lnTo>
                    <a:lnTo>
                      <a:pt x="443" y="1367"/>
                    </a:lnTo>
                    <a:lnTo>
                      <a:pt x="453" y="1369"/>
                    </a:lnTo>
                    <a:lnTo>
                      <a:pt x="462" y="1371"/>
                    </a:lnTo>
                    <a:lnTo>
                      <a:pt x="472" y="1371"/>
                    </a:lnTo>
                    <a:lnTo>
                      <a:pt x="479" y="1371"/>
                    </a:lnTo>
                    <a:lnTo>
                      <a:pt x="489" y="1373"/>
                    </a:lnTo>
                    <a:lnTo>
                      <a:pt x="496" y="1373"/>
                    </a:lnTo>
                    <a:lnTo>
                      <a:pt x="506" y="1374"/>
                    </a:lnTo>
                    <a:lnTo>
                      <a:pt x="511" y="1374"/>
                    </a:lnTo>
                    <a:lnTo>
                      <a:pt x="519" y="1374"/>
                    </a:lnTo>
                    <a:lnTo>
                      <a:pt x="527" y="1374"/>
                    </a:lnTo>
                    <a:lnTo>
                      <a:pt x="534" y="1376"/>
                    </a:lnTo>
                    <a:lnTo>
                      <a:pt x="540" y="1376"/>
                    </a:lnTo>
                    <a:lnTo>
                      <a:pt x="548" y="1376"/>
                    </a:lnTo>
                    <a:lnTo>
                      <a:pt x="553" y="1376"/>
                    </a:lnTo>
                    <a:lnTo>
                      <a:pt x="561" y="1376"/>
                    </a:lnTo>
                    <a:lnTo>
                      <a:pt x="570" y="1376"/>
                    </a:lnTo>
                    <a:lnTo>
                      <a:pt x="582" y="1376"/>
                    </a:lnTo>
                    <a:lnTo>
                      <a:pt x="586" y="1374"/>
                    </a:lnTo>
                    <a:lnTo>
                      <a:pt x="593" y="1374"/>
                    </a:lnTo>
                    <a:lnTo>
                      <a:pt x="599" y="1374"/>
                    </a:lnTo>
                    <a:lnTo>
                      <a:pt x="605" y="1374"/>
                    </a:lnTo>
                    <a:lnTo>
                      <a:pt x="610" y="1373"/>
                    </a:lnTo>
                    <a:lnTo>
                      <a:pt x="618" y="1373"/>
                    </a:lnTo>
                    <a:lnTo>
                      <a:pt x="622" y="1371"/>
                    </a:lnTo>
                    <a:lnTo>
                      <a:pt x="629" y="1371"/>
                    </a:lnTo>
                    <a:lnTo>
                      <a:pt x="635" y="1371"/>
                    </a:lnTo>
                    <a:lnTo>
                      <a:pt x="641" y="1369"/>
                    </a:lnTo>
                    <a:lnTo>
                      <a:pt x="648" y="1367"/>
                    </a:lnTo>
                    <a:lnTo>
                      <a:pt x="654" y="1367"/>
                    </a:lnTo>
                    <a:lnTo>
                      <a:pt x="660" y="1365"/>
                    </a:lnTo>
                    <a:lnTo>
                      <a:pt x="665" y="1365"/>
                    </a:lnTo>
                    <a:lnTo>
                      <a:pt x="671" y="1363"/>
                    </a:lnTo>
                    <a:lnTo>
                      <a:pt x="679" y="1363"/>
                    </a:lnTo>
                    <a:lnTo>
                      <a:pt x="684" y="1361"/>
                    </a:lnTo>
                    <a:lnTo>
                      <a:pt x="690" y="1361"/>
                    </a:lnTo>
                    <a:lnTo>
                      <a:pt x="696" y="1359"/>
                    </a:lnTo>
                    <a:lnTo>
                      <a:pt x="703" y="1359"/>
                    </a:lnTo>
                    <a:lnTo>
                      <a:pt x="707" y="1357"/>
                    </a:lnTo>
                    <a:lnTo>
                      <a:pt x="715" y="1355"/>
                    </a:lnTo>
                    <a:lnTo>
                      <a:pt x="721" y="1355"/>
                    </a:lnTo>
                    <a:lnTo>
                      <a:pt x="726" y="1353"/>
                    </a:lnTo>
                    <a:lnTo>
                      <a:pt x="732" y="1353"/>
                    </a:lnTo>
                    <a:lnTo>
                      <a:pt x="738" y="1352"/>
                    </a:lnTo>
                    <a:lnTo>
                      <a:pt x="743" y="1352"/>
                    </a:lnTo>
                    <a:lnTo>
                      <a:pt x="749" y="1352"/>
                    </a:lnTo>
                    <a:lnTo>
                      <a:pt x="761" y="1348"/>
                    </a:lnTo>
                    <a:lnTo>
                      <a:pt x="770" y="1346"/>
                    </a:lnTo>
                    <a:lnTo>
                      <a:pt x="780" y="1344"/>
                    </a:lnTo>
                    <a:lnTo>
                      <a:pt x="789" y="1342"/>
                    </a:lnTo>
                    <a:lnTo>
                      <a:pt x="799" y="1338"/>
                    </a:lnTo>
                    <a:lnTo>
                      <a:pt x="808" y="1338"/>
                    </a:lnTo>
                    <a:lnTo>
                      <a:pt x="816" y="1336"/>
                    </a:lnTo>
                    <a:lnTo>
                      <a:pt x="823" y="1336"/>
                    </a:lnTo>
                    <a:lnTo>
                      <a:pt x="829" y="1336"/>
                    </a:lnTo>
                    <a:lnTo>
                      <a:pt x="837" y="1334"/>
                    </a:lnTo>
                    <a:lnTo>
                      <a:pt x="842" y="1334"/>
                    </a:lnTo>
                    <a:lnTo>
                      <a:pt x="846" y="1336"/>
                    </a:lnTo>
                    <a:lnTo>
                      <a:pt x="854" y="1338"/>
                    </a:lnTo>
                    <a:lnTo>
                      <a:pt x="857" y="1342"/>
                    </a:lnTo>
                    <a:lnTo>
                      <a:pt x="856" y="1344"/>
                    </a:lnTo>
                    <a:lnTo>
                      <a:pt x="854" y="1350"/>
                    </a:lnTo>
                    <a:lnTo>
                      <a:pt x="852" y="1355"/>
                    </a:lnTo>
                    <a:lnTo>
                      <a:pt x="848" y="1365"/>
                    </a:lnTo>
                    <a:lnTo>
                      <a:pt x="842" y="1373"/>
                    </a:lnTo>
                    <a:lnTo>
                      <a:pt x="835" y="1384"/>
                    </a:lnTo>
                    <a:lnTo>
                      <a:pt x="831" y="1390"/>
                    </a:lnTo>
                    <a:lnTo>
                      <a:pt x="827" y="1395"/>
                    </a:lnTo>
                    <a:lnTo>
                      <a:pt x="823" y="1403"/>
                    </a:lnTo>
                    <a:lnTo>
                      <a:pt x="819" y="1411"/>
                    </a:lnTo>
                    <a:lnTo>
                      <a:pt x="814" y="1416"/>
                    </a:lnTo>
                    <a:lnTo>
                      <a:pt x="808" y="1422"/>
                    </a:lnTo>
                    <a:lnTo>
                      <a:pt x="802" y="1430"/>
                    </a:lnTo>
                    <a:lnTo>
                      <a:pt x="799" y="1439"/>
                    </a:lnTo>
                    <a:lnTo>
                      <a:pt x="793" y="1447"/>
                    </a:lnTo>
                    <a:lnTo>
                      <a:pt x="787" y="1454"/>
                    </a:lnTo>
                    <a:lnTo>
                      <a:pt x="781" y="1464"/>
                    </a:lnTo>
                    <a:lnTo>
                      <a:pt x="778" y="1473"/>
                    </a:lnTo>
                    <a:lnTo>
                      <a:pt x="770" y="1481"/>
                    </a:lnTo>
                    <a:lnTo>
                      <a:pt x="764" y="1488"/>
                    </a:lnTo>
                    <a:lnTo>
                      <a:pt x="759" y="1496"/>
                    </a:lnTo>
                    <a:lnTo>
                      <a:pt x="753" y="1506"/>
                    </a:lnTo>
                    <a:lnTo>
                      <a:pt x="745" y="1515"/>
                    </a:lnTo>
                    <a:lnTo>
                      <a:pt x="742" y="1525"/>
                    </a:lnTo>
                    <a:lnTo>
                      <a:pt x="734" y="1534"/>
                    </a:lnTo>
                    <a:lnTo>
                      <a:pt x="730" y="1546"/>
                    </a:lnTo>
                    <a:lnTo>
                      <a:pt x="723" y="1553"/>
                    </a:lnTo>
                    <a:lnTo>
                      <a:pt x="717" y="1563"/>
                    </a:lnTo>
                    <a:lnTo>
                      <a:pt x="711" y="1572"/>
                    </a:lnTo>
                    <a:lnTo>
                      <a:pt x="703" y="1582"/>
                    </a:lnTo>
                    <a:lnTo>
                      <a:pt x="698" y="1591"/>
                    </a:lnTo>
                    <a:lnTo>
                      <a:pt x="692" y="1601"/>
                    </a:lnTo>
                    <a:lnTo>
                      <a:pt x="684" y="1610"/>
                    </a:lnTo>
                    <a:lnTo>
                      <a:pt x="679" y="1620"/>
                    </a:lnTo>
                    <a:lnTo>
                      <a:pt x="671" y="1629"/>
                    </a:lnTo>
                    <a:lnTo>
                      <a:pt x="665" y="1639"/>
                    </a:lnTo>
                    <a:lnTo>
                      <a:pt x="660" y="1646"/>
                    </a:lnTo>
                    <a:lnTo>
                      <a:pt x="656" y="1656"/>
                    </a:lnTo>
                    <a:lnTo>
                      <a:pt x="648" y="1663"/>
                    </a:lnTo>
                    <a:lnTo>
                      <a:pt x="643" y="1675"/>
                    </a:lnTo>
                    <a:lnTo>
                      <a:pt x="639" y="1684"/>
                    </a:lnTo>
                    <a:lnTo>
                      <a:pt x="633" y="1694"/>
                    </a:lnTo>
                    <a:lnTo>
                      <a:pt x="627" y="1700"/>
                    </a:lnTo>
                    <a:lnTo>
                      <a:pt x="624" y="1709"/>
                    </a:lnTo>
                    <a:lnTo>
                      <a:pt x="618" y="1717"/>
                    </a:lnTo>
                    <a:lnTo>
                      <a:pt x="614" y="1726"/>
                    </a:lnTo>
                    <a:lnTo>
                      <a:pt x="610" y="1734"/>
                    </a:lnTo>
                    <a:lnTo>
                      <a:pt x="607" y="1741"/>
                    </a:lnTo>
                    <a:lnTo>
                      <a:pt x="603" y="1749"/>
                    </a:lnTo>
                    <a:lnTo>
                      <a:pt x="601" y="1759"/>
                    </a:lnTo>
                    <a:lnTo>
                      <a:pt x="597" y="1764"/>
                    </a:lnTo>
                    <a:lnTo>
                      <a:pt x="593" y="1770"/>
                    </a:lnTo>
                    <a:lnTo>
                      <a:pt x="591" y="1778"/>
                    </a:lnTo>
                    <a:lnTo>
                      <a:pt x="589" y="1783"/>
                    </a:lnTo>
                    <a:lnTo>
                      <a:pt x="586" y="1789"/>
                    </a:lnTo>
                    <a:lnTo>
                      <a:pt x="586" y="1797"/>
                    </a:lnTo>
                    <a:lnTo>
                      <a:pt x="584" y="1800"/>
                    </a:lnTo>
                    <a:lnTo>
                      <a:pt x="584" y="1808"/>
                    </a:lnTo>
                    <a:lnTo>
                      <a:pt x="582" y="1817"/>
                    </a:lnTo>
                    <a:lnTo>
                      <a:pt x="580" y="1827"/>
                    </a:lnTo>
                    <a:lnTo>
                      <a:pt x="580" y="1838"/>
                    </a:lnTo>
                    <a:lnTo>
                      <a:pt x="580" y="1850"/>
                    </a:lnTo>
                    <a:lnTo>
                      <a:pt x="578" y="1855"/>
                    </a:lnTo>
                    <a:lnTo>
                      <a:pt x="578" y="1861"/>
                    </a:lnTo>
                    <a:lnTo>
                      <a:pt x="578" y="1867"/>
                    </a:lnTo>
                    <a:lnTo>
                      <a:pt x="578" y="1873"/>
                    </a:lnTo>
                    <a:lnTo>
                      <a:pt x="578" y="1880"/>
                    </a:lnTo>
                    <a:lnTo>
                      <a:pt x="580" y="1886"/>
                    </a:lnTo>
                    <a:lnTo>
                      <a:pt x="580" y="1892"/>
                    </a:lnTo>
                    <a:lnTo>
                      <a:pt x="582" y="1899"/>
                    </a:lnTo>
                    <a:lnTo>
                      <a:pt x="582" y="1903"/>
                    </a:lnTo>
                    <a:lnTo>
                      <a:pt x="582" y="1911"/>
                    </a:lnTo>
                    <a:lnTo>
                      <a:pt x="584" y="1916"/>
                    </a:lnTo>
                    <a:lnTo>
                      <a:pt x="584" y="1922"/>
                    </a:lnTo>
                    <a:lnTo>
                      <a:pt x="586" y="1930"/>
                    </a:lnTo>
                    <a:lnTo>
                      <a:pt x="588" y="1935"/>
                    </a:lnTo>
                    <a:lnTo>
                      <a:pt x="589" y="1941"/>
                    </a:lnTo>
                    <a:lnTo>
                      <a:pt x="591" y="1949"/>
                    </a:lnTo>
                    <a:lnTo>
                      <a:pt x="593" y="1954"/>
                    </a:lnTo>
                    <a:lnTo>
                      <a:pt x="595" y="1960"/>
                    </a:lnTo>
                    <a:lnTo>
                      <a:pt x="599" y="1966"/>
                    </a:lnTo>
                    <a:lnTo>
                      <a:pt x="601" y="1973"/>
                    </a:lnTo>
                    <a:lnTo>
                      <a:pt x="603" y="1979"/>
                    </a:lnTo>
                    <a:lnTo>
                      <a:pt x="607" y="1985"/>
                    </a:lnTo>
                    <a:lnTo>
                      <a:pt x="610" y="1992"/>
                    </a:lnTo>
                    <a:lnTo>
                      <a:pt x="614" y="1998"/>
                    </a:lnTo>
                    <a:lnTo>
                      <a:pt x="620" y="2009"/>
                    </a:lnTo>
                    <a:lnTo>
                      <a:pt x="629" y="2021"/>
                    </a:lnTo>
                    <a:lnTo>
                      <a:pt x="639" y="2030"/>
                    </a:lnTo>
                    <a:lnTo>
                      <a:pt x="648" y="2042"/>
                    </a:lnTo>
                    <a:lnTo>
                      <a:pt x="652" y="2048"/>
                    </a:lnTo>
                    <a:lnTo>
                      <a:pt x="658" y="2051"/>
                    </a:lnTo>
                    <a:lnTo>
                      <a:pt x="665" y="2057"/>
                    </a:lnTo>
                    <a:lnTo>
                      <a:pt x="671" y="2063"/>
                    </a:lnTo>
                    <a:lnTo>
                      <a:pt x="677" y="2067"/>
                    </a:lnTo>
                    <a:lnTo>
                      <a:pt x="684" y="2072"/>
                    </a:lnTo>
                    <a:lnTo>
                      <a:pt x="692" y="2076"/>
                    </a:lnTo>
                    <a:lnTo>
                      <a:pt x="700" y="2082"/>
                    </a:lnTo>
                    <a:lnTo>
                      <a:pt x="705" y="2086"/>
                    </a:lnTo>
                    <a:lnTo>
                      <a:pt x="715" y="2089"/>
                    </a:lnTo>
                    <a:lnTo>
                      <a:pt x="723" y="2093"/>
                    </a:lnTo>
                    <a:lnTo>
                      <a:pt x="732" y="2097"/>
                    </a:lnTo>
                    <a:lnTo>
                      <a:pt x="740" y="2101"/>
                    </a:lnTo>
                    <a:lnTo>
                      <a:pt x="749" y="2105"/>
                    </a:lnTo>
                    <a:lnTo>
                      <a:pt x="759" y="2106"/>
                    </a:lnTo>
                    <a:lnTo>
                      <a:pt x="768" y="2110"/>
                    </a:lnTo>
                    <a:lnTo>
                      <a:pt x="778" y="2112"/>
                    </a:lnTo>
                    <a:lnTo>
                      <a:pt x="789" y="2114"/>
                    </a:lnTo>
                    <a:lnTo>
                      <a:pt x="799" y="2116"/>
                    </a:lnTo>
                    <a:lnTo>
                      <a:pt x="810" y="2120"/>
                    </a:lnTo>
                    <a:lnTo>
                      <a:pt x="821" y="2122"/>
                    </a:lnTo>
                    <a:lnTo>
                      <a:pt x="835" y="2124"/>
                    </a:lnTo>
                    <a:lnTo>
                      <a:pt x="846" y="2124"/>
                    </a:lnTo>
                    <a:lnTo>
                      <a:pt x="859" y="2125"/>
                    </a:lnTo>
                    <a:lnTo>
                      <a:pt x="871" y="2125"/>
                    </a:lnTo>
                    <a:lnTo>
                      <a:pt x="882" y="2125"/>
                    </a:lnTo>
                    <a:lnTo>
                      <a:pt x="894" y="2125"/>
                    </a:lnTo>
                    <a:lnTo>
                      <a:pt x="907" y="2125"/>
                    </a:lnTo>
                    <a:lnTo>
                      <a:pt x="918" y="2124"/>
                    </a:lnTo>
                    <a:lnTo>
                      <a:pt x="930" y="2124"/>
                    </a:lnTo>
                    <a:lnTo>
                      <a:pt x="941" y="2122"/>
                    </a:lnTo>
                    <a:lnTo>
                      <a:pt x="953" y="2122"/>
                    </a:lnTo>
                    <a:lnTo>
                      <a:pt x="962" y="2120"/>
                    </a:lnTo>
                    <a:lnTo>
                      <a:pt x="973" y="2116"/>
                    </a:lnTo>
                    <a:lnTo>
                      <a:pt x="983" y="2114"/>
                    </a:lnTo>
                    <a:lnTo>
                      <a:pt x="994" y="2112"/>
                    </a:lnTo>
                    <a:lnTo>
                      <a:pt x="1004" y="2106"/>
                    </a:lnTo>
                    <a:lnTo>
                      <a:pt x="1013" y="2105"/>
                    </a:lnTo>
                    <a:lnTo>
                      <a:pt x="1023" y="2101"/>
                    </a:lnTo>
                    <a:lnTo>
                      <a:pt x="1032" y="2097"/>
                    </a:lnTo>
                    <a:lnTo>
                      <a:pt x="1042" y="2093"/>
                    </a:lnTo>
                    <a:lnTo>
                      <a:pt x="1050" y="2087"/>
                    </a:lnTo>
                    <a:lnTo>
                      <a:pt x="1059" y="2084"/>
                    </a:lnTo>
                    <a:lnTo>
                      <a:pt x="1069" y="2080"/>
                    </a:lnTo>
                    <a:lnTo>
                      <a:pt x="1074" y="2074"/>
                    </a:lnTo>
                    <a:lnTo>
                      <a:pt x="1084" y="2068"/>
                    </a:lnTo>
                    <a:lnTo>
                      <a:pt x="1091" y="2063"/>
                    </a:lnTo>
                    <a:lnTo>
                      <a:pt x="1101" y="2059"/>
                    </a:lnTo>
                    <a:lnTo>
                      <a:pt x="1108" y="2051"/>
                    </a:lnTo>
                    <a:lnTo>
                      <a:pt x="1116" y="2046"/>
                    </a:lnTo>
                    <a:lnTo>
                      <a:pt x="1124" y="2040"/>
                    </a:lnTo>
                    <a:lnTo>
                      <a:pt x="1131" y="2032"/>
                    </a:lnTo>
                    <a:lnTo>
                      <a:pt x="1137" y="2025"/>
                    </a:lnTo>
                    <a:lnTo>
                      <a:pt x="1145" y="2019"/>
                    </a:lnTo>
                    <a:lnTo>
                      <a:pt x="1152" y="2013"/>
                    </a:lnTo>
                    <a:lnTo>
                      <a:pt x="1160" y="2006"/>
                    </a:lnTo>
                    <a:lnTo>
                      <a:pt x="1165" y="1998"/>
                    </a:lnTo>
                    <a:lnTo>
                      <a:pt x="1173" y="1990"/>
                    </a:lnTo>
                    <a:lnTo>
                      <a:pt x="1179" y="1983"/>
                    </a:lnTo>
                    <a:lnTo>
                      <a:pt x="1184" y="1975"/>
                    </a:lnTo>
                    <a:lnTo>
                      <a:pt x="1190" y="1968"/>
                    </a:lnTo>
                    <a:lnTo>
                      <a:pt x="1196" y="1960"/>
                    </a:lnTo>
                    <a:lnTo>
                      <a:pt x="1202" y="1952"/>
                    </a:lnTo>
                    <a:lnTo>
                      <a:pt x="1209" y="1945"/>
                    </a:lnTo>
                    <a:lnTo>
                      <a:pt x="1213" y="1937"/>
                    </a:lnTo>
                    <a:lnTo>
                      <a:pt x="1219" y="1928"/>
                    </a:lnTo>
                    <a:lnTo>
                      <a:pt x="1224" y="1920"/>
                    </a:lnTo>
                    <a:lnTo>
                      <a:pt x="1230" y="1913"/>
                    </a:lnTo>
                    <a:lnTo>
                      <a:pt x="1236" y="1903"/>
                    </a:lnTo>
                    <a:lnTo>
                      <a:pt x="1240" y="1895"/>
                    </a:lnTo>
                    <a:lnTo>
                      <a:pt x="1245" y="1886"/>
                    </a:lnTo>
                    <a:lnTo>
                      <a:pt x="1251" y="1880"/>
                    </a:lnTo>
                    <a:lnTo>
                      <a:pt x="1255" y="1871"/>
                    </a:lnTo>
                    <a:lnTo>
                      <a:pt x="1259" y="1861"/>
                    </a:lnTo>
                    <a:lnTo>
                      <a:pt x="1264" y="1854"/>
                    </a:lnTo>
                    <a:lnTo>
                      <a:pt x="1268" y="1844"/>
                    </a:lnTo>
                    <a:lnTo>
                      <a:pt x="1272" y="1836"/>
                    </a:lnTo>
                    <a:lnTo>
                      <a:pt x="1278" y="1827"/>
                    </a:lnTo>
                    <a:lnTo>
                      <a:pt x="1280" y="1819"/>
                    </a:lnTo>
                    <a:lnTo>
                      <a:pt x="1285" y="1812"/>
                    </a:lnTo>
                    <a:lnTo>
                      <a:pt x="1289" y="1802"/>
                    </a:lnTo>
                    <a:lnTo>
                      <a:pt x="1293" y="1795"/>
                    </a:lnTo>
                    <a:lnTo>
                      <a:pt x="1297" y="1785"/>
                    </a:lnTo>
                    <a:lnTo>
                      <a:pt x="1302" y="1778"/>
                    </a:lnTo>
                    <a:lnTo>
                      <a:pt x="1304" y="1770"/>
                    </a:lnTo>
                    <a:lnTo>
                      <a:pt x="1308" y="1762"/>
                    </a:lnTo>
                    <a:lnTo>
                      <a:pt x="1314" y="1753"/>
                    </a:lnTo>
                    <a:lnTo>
                      <a:pt x="1318" y="1747"/>
                    </a:lnTo>
                    <a:lnTo>
                      <a:pt x="1319" y="1738"/>
                    </a:lnTo>
                    <a:lnTo>
                      <a:pt x="1323" y="1730"/>
                    </a:lnTo>
                    <a:lnTo>
                      <a:pt x="1325" y="1722"/>
                    </a:lnTo>
                    <a:lnTo>
                      <a:pt x="1329" y="1715"/>
                    </a:lnTo>
                    <a:lnTo>
                      <a:pt x="1331" y="1705"/>
                    </a:lnTo>
                    <a:lnTo>
                      <a:pt x="1333" y="1698"/>
                    </a:lnTo>
                    <a:lnTo>
                      <a:pt x="1335" y="1688"/>
                    </a:lnTo>
                    <a:lnTo>
                      <a:pt x="1337" y="1681"/>
                    </a:lnTo>
                    <a:lnTo>
                      <a:pt x="1338" y="1671"/>
                    </a:lnTo>
                    <a:lnTo>
                      <a:pt x="1340" y="1663"/>
                    </a:lnTo>
                    <a:lnTo>
                      <a:pt x="1340" y="1654"/>
                    </a:lnTo>
                    <a:lnTo>
                      <a:pt x="1342" y="1648"/>
                    </a:lnTo>
                    <a:lnTo>
                      <a:pt x="1342" y="1639"/>
                    </a:lnTo>
                    <a:lnTo>
                      <a:pt x="1342" y="1629"/>
                    </a:lnTo>
                    <a:lnTo>
                      <a:pt x="1342" y="1622"/>
                    </a:lnTo>
                    <a:lnTo>
                      <a:pt x="1342" y="1614"/>
                    </a:lnTo>
                    <a:lnTo>
                      <a:pt x="1342" y="1604"/>
                    </a:lnTo>
                    <a:lnTo>
                      <a:pt x="1342" y="1597"/>
                    </a:lnTo>
                    <a:lnTo>
                      <a:pt x="1340" y="1587"/>
                    </a:lnTo>
                    <a:lnTo>
                      <a:pt x="1340" y="1580"/>
                    </a:lnTo>
                    <a:lnTo>
                      <a:pt x="1340" y="1570"/>
                    </a:lnTo>
                    <a:lnTo>
                      <a:pt x="1338" y="1563"/>
                    </a:lnTo>
                    <a:lnTo>
                      <a:pt x="1337" y="1555"/>
                    </a:lnTo>
                    <a:lnTo>
                      <a:pt x="1337" y="1547"/>
                    </a:lnTo>
                    <a:lnTo>
                      <a:pt x="1335" y="1538"/>
                    </a:lnTo>
                    <a:lnTo>
                      <a:pt x="1333" y="1530"/>
                    </a:lnTo>
                    <a:lnTo>
                      <a:pt x="1331" y="1523"/>
                    </a:lnTo>
                    <a:lnTo>
                      <a:pt x="1331" y="1515"/>
                    </a:lnTo>
                    <a:lnTo>
                      <a:pt x="1327" y="1506"/>
                    </a:lnTo>
                    <a:lnTo>
                      <a:pt x="1325" y="1500"/>
                    </a:lnTo>
                    <a:lnTo>
                      <a:pt x="1323" y="1490"/>
                    </a:lnTo>
                    <a:lnTo>
                      <a:pt x="1323" y="1485"/>
                    </a:lnTo>
                    <a:lnTo>
                      <a:pt x="1319" y="1475"/>
                    </a:lnTo>
                    <a:lnTo>
                      <a:pt x="1318" y="1468"/>
                    </a:lnTo>
                    <a:lnTo>
                      <a:pt x="1314" y="1460"/>
                    </a:lnTo>
                    <a:lnTo>
                      <a:pt x="1312" y="1454"/>
                    </a:lnTo>
                    <a:lnTo>
                      <a:pt x="1308" y="1447"/>
                    </a:lnTo>
                    <a:lnTo>
                      <a:pt x="1306" y="1439"/>
                    </a:lnTo>
                    <a:lnTo>
                      <a:pt x="1304" y="1433"/>
                    </a:lnTo>
                    <a:lnTo>
                      <a:pt x="1302" y="1426"/>
                    </a:lnTo>
                    <a:lnTo>
                      <a:pt x="1299" y="1420"/>
                    </a:lnTo>
                    <a:lnTo>
                      <a:pt x="1297" y="1412"/>
                    </a:lnTo>
                    <a:lnTo>
                      <a:pt x="1295" y="1407"/>
                    </a:lnTo>
                    <a:lnTo>
                      <a:pt x="1293" y="1401"/>
                    </a:lnTo>
                    <a:lnTo>
                      <a:pt x="1287" y="1390"/>
                    </a:lnTo>
                    <a:lnTo>
                      <a:pt x="1283" y="1380"/>
                    </a:lnTo>
                    <a:lnTo>
                      <a:pt x="1276" y="1369"/>
                    </a:lnTo>
                    <a:lnTo>
                      <a:pt x="1272" y="1361"/>
                    </a:lnTo>
                    <a:lnTo>
                      <a:pt x="1266" y="1352"/>
                    </a:lnTo>
                    <a:lnTo>
                      <a:pt x="1262" y="1344"/>
                    </a:lnTo>
                    <a:lnTo>
                      <a:pt x="1259" y="1338"/>
                    </a:lnTo>
                    <a:lnTo>
                      <a:pt x="1255" y="1333"/>
                    </a:lnTo>
                    <a:lnTo>
                      <a:pt x="1251" y="1329"/>
                    </a:lnTo>
                    <a:lnTo>
                      <a:pt x="1249" y="1327"/>
                    </a:lnTo>
                    <a:lnTo>
                      <a:pt x="1242" y="1315"/>
                    </a:lnTo>
                    <a:lnTo>
                      <a:pt x="1240" y="1308"/>
                    </a:lnTo>
                    <a:lnTo>
                      <a:pt x="1240" y="1300"/>
                    </a:lnTo>
                    <a:lnTo>
                      <a:pt x="1245" y="1296"/>
                    </a:lnTo>
                    <a:lnTo>
                      <a:pt x="1251" y="1293"/>
                    </a:lnTo>
                    <a:lnTo>
                      <a:pt x="1261" y="1291"/>
                    </a:lnTo>
                    <a:lnTo>
                      <a:pt x="1270" y="1291"/>
                    </a:lnTo>
                    <a:lnTo>
                      <a:pt x="1281" y="1296"/>
                    </a:lnTo>
                    <a:lnTo>
                      <a:pt x="1283" y="1296"/>
                    </a:lnTo>
                    <a:lnTo>
                      <a:pt x="1289" y="1296"/>
                    </a:lnTo>
                    <a:lnTo>
                      <a:pt x="1299" y="1295"/>
                    </a:lnTo>
                    <a:lnTo>
                      <a:pt x="1308" y="1295"/>
                    </a:lnTo>
                    <a:lnTo>
                      <a:pt x="1314" y="1293"/>
                    </a:lnTo>
                    <a:lnTo>
                      <a:pt x="1321" y="1291"/>
                    </a:lnTo>
                    <a:lnTo>
                      <a:pt x="1327" y="1291"/>
                    </a:lnTo>
                    <a:lnTo>
                      <a:pt x="1335" y="1291"/>
                    </a:lnTo>
                    <a:lnTo>
                      <a:pt x="1342" y="1289"/>
                    </a:lnTo>
                    <a:lnTo>
                      <a:pt x="1352" y="1289"/>
                    </a:lnTo>
                    <a:lnTo>
                      <a:pt x="1361" y="1287"/>
                    </a:lnTo>
                    <a:lnTo>
                      <a:pt x="1371" y="1287"/>
                    </a:lnTo>
                    <a:lnTo>
                      <a:pt x="1378" y="1285"/>
                    </a:lnTo>
                    <a:lnTo>
                      <a:pt x="1388" y="1281"/>
                    </a:lnTo>
                    <a:lnTo>
                      <a:pt x="1399" y="1279"/>
                    </a:lnTo>
                    <a:lnTo>
                      <a:pt x="1409" y="1279"/>
                    </a:lnTo>
                    <a:lnTo>
                      <a:pt x="1420" y="1277"/>
                    </a:lnTo>
                    <a:lnTo>
                      <a:pt x="1432" y="1276"/>
                    </a:lnTo>
                    <a:lnTo>
                      <a:pt x="1443" y="1272"/>
                    </a:lnTo>
                    <a:lnTo>
                      <a:pt x="1456" y="1272"/>
                    </a:lnTo>
                    <a:lnTo>
                      <a:pt x="1468" y="1268"/>
                    </a:lnTo>
                    <a:lnTo>
                      <a:pt x="1479" y="1268"/>
                    </a:lnTo>
                    <a:lnTo>
                      <a:pt x="1492" y="1264"/>
                    </a:lnTo>
                    <a:lnTo>
                      <a:pt x="1506" y="1262"/>
                    </a:lnTo>
                    <a:lnTo>
                      <a:pt x="1519" y="1260"/>
                    </a:lnTo>
                    <a:lnTo>
                      <a:pt x="1530" y="1258"/>
                    </a:lnTo>
                    <a:lnTo>
                      <a:pt x="1546" y="1255"/>
                    </a:lnTo>
                    <a:lnTo>
                      <a:pt x="1559" y="1255"/>
                    </a:lnTo>
                    <a:lnTo>
                      <a:pt x="1570" y="1251"/>
                    </a:lnTo>
                    <a:lnTo>
                      <a:pt x="1586" y="1247"/>
                    </a:lnTo>
                    <a:lnTo>
                      <a:pt x="1599" y="1245"/>
                    </a:lnTo>
                    <a:lnTo>
                      <a:pt x="1612" y="1243"/>
                    </a:lnTo>
                    <a:lnTo>
                      <a:pt x="1626" y="1239"/>
                    </a:lnTo>
                    <a:lnTo>
                      <a:pt x="1641" y="1238"/>
                    </a:lnTo>
                    <a:lnTo>
                      <a:pt x="1654" y="1234"/>
                    </a:lnTo>
                    <a:lnTo>
                      <a:pt x="1669" y="1232"/>
                    </a:lnTo>
                    <a:lnTo>
                      <a:pt x="1681" y="1228"/>
                    </a:lnTo>
                    <a:lnTo>
                      <a:pt x="1696" y="1226"/>
                    </a:lnTo>
                    <a:lnTo>
                      <a:pt x="1709" y="1222"/>
                    </a:lnTo>
                    <a:lnTo>
                      <a:pt x="1724" y="1220"/>
                    </a:lnTo>
                    <a:lnTo>
                      <a:pt x="1738" y="1217"/>
                    </a:lnTo>
                    <a:lnTo>
                      <a:pt x="1751" y="1215"/>
                    </a:lnTo>
                    <a:lnTo>
                      <a:pt x="1764" y="1211"/>
                    </a:lnTo>
                    <a:lnTo>
                      <a:pt x="1780" y="1209"/>
                    </a:lnTo>
                    <a:lnTo>
                      <a:pt x="1793" y="1205"/>
                    </a:lnTo>
                    <a:lnTo>
                      <a:pt x="1806" y="1203"/>
                    </a:lnTo>
                    <a:lnTo>
                      <a:pt x="1819" y="1199"/>
                    </a:lnTo>
                    <a:lnTo>
                      <a:pt x="1833" y="1198"/>
                    </a:lnTo>
                    <a:lnTo>
                      <a:pt x="1846" y="1194"/>
                    </a:lnTo>
                    <a:lnTo>
                      <a:pt x="1857" y="1190"/>
                    </a:lnTo>
                    <a:lnTo>
                      <a:pt x="1871" y="1188"/>
                    </a:lnTo>
                    <a:lnTo>
                      <a:pt x="1884" y="1186"/>
                    </a:lnTo>
                    <a:lnTo>
                      <a:pt x="1896" y="1182"/>
                    </a:lnTo>
                    <a:lnTo>
                      <a:pt x="1907" y="1179"/>
                    </a:lnTo>
                    <a:lnTo>
                      <a:pt x="1918" y="1177"/>
                    </a:lnTo>
                    <a:lnTo>
                      <a:pt x="1930" y="1175"/>
                    </a:lnTo>
                    <a:lnTo>
                      <a:pt x="1941" y="1171"/>
                    </a:lnTo>
                    <a:lnTo>
                      <a:pt x="1951" y="1169"/>
                    </a:lnTo>
                    <a:lnTo>
                      <a:pt x="1962" y="1167"/>
                    </a:lnTo>
                    <a:lnTo>
                      <a:pt x="1972" y="1165"/>
                    </a:lnTo>
                    <a:lnTo>
                      <a:pt x="1981" y="1161"/>
                    </a:lnTo>
                    <a:lnTo>
                      <a:pt x="1991" y="1160"/>
                    </a:lnTo>
                    <a:lnTo>
                      <a:pt x="2000" y="1156"/>
                    </a:lnTo>
                    <a:lnTo>
                      <a:pt x="2011" y="1152"/>
                    </a:lnTo>
                    <a:lnTo>
                      <a:pt x="2021" y="1150"/>
                    </a:lnTo>
                    <a:lnTo>
                      <a:pt x="2030" y="1146"/>
                    </a:lnTo>
                    <a:lnTo>
                      <a:pt x="2042" y="1142"/>
                    </a:lnTo>
                    <a:lnTo>
                      <a:pt x="2053" y="1141"/>
                    </a:lnTo>
                    <a:lnTo>
                      <a:pt x="2063" y="1137"/>
                    </a:lnTo>
                    <a:lnTo>
                      <a:pt x="2072" y="1133"/>
                    </a:lnTo>
                    <a:lnTo>
                      <a:pt x="2084" y="1129"/>
                    </a:lnTo>
                    <a:lnTo>
                      <a:pt x="2093" y="1125"/>
                    </a:lnTo>
                    <a:lnTo>
                      <a:pt x="2105" y="1122"/>
                    </a:lnTo>
                    <a:lnTo>
                      <a:pt x="2114" y="1120"/>
                    </a:lnTo>
                    <a:lnTo>
                      <a:pt x="2126" y="1114"/>
                    </a:lnTo>
                    <a:lnTo>
                      <a:pt x="2137" y="1112"/>
                    </a:lnTo>
                    <a:lnTo>
                      <a:pt x="2146" y="1106"/>
                    </a:lnTo>
                    <a:lnTo>
                      <a:pt x="2158" y="1103"/>
                    </a:lnTo>
                    <a:lnTo>
                      <a:pt x="2167" y="1097"/>
                    </a:lnTo>
                    <a:lnTo>
                      <a:pt x="2179" y="1095"/>
                    </a:lnTo>
                    <a:lnTo>
                      <a:pt x="2190" y="1089"/>
                    </a:lnTo>
                    <a:lnTo>
                      <a:pt x="2202" y="1085"/>
                    </a:lnTo>
                    <a:lnTo>
                      <a:pt x="2213" y="1080"/>
                    </a:lnTo>
                    <a:lnTo>
                      <a:pt x="2224" y="1076"/>
                    </a:lnTo>
                    <a:lnTo>
                      <a:pt x="2234" y="1070"/>
                    </a:lnTo>
                    <a:lnTo>
                      <a:pt x="2245" y="1066"/>
                    </a:lnTo>
                    <a:lnTo>
                      <a:pt x="2255" y="1061"/>
                    </a:lnTo>
                    <a:lnTo>
                      <a:pt x="2268" y="1057"/>
                    </a:lnTo>
                    <a:lnTo>
                      <a:pt x="2278" y="1051"/>
                    </a:lnTo>
                    <a:lnTo>
                      <a:pt x="2289" y="1047"/>
                    </a:lnTo>
                    <a:lnTo>
                      <a:pt x="2299" y="1042"/>
                    </a:lnTo>
                    <a:lnTo>
                      <a:pt x="2310" y="1038"/>
                    </a:lnTo>
                    <a:lnTo>
                      <a:pt x="2319" y="1032"/>
                    </a:lnTo>
                    <a:lnTo>
                      <a:pt x="2331" y="1026"/>
                    </a:lnTo>
                    <a:lnTo>
                      <a:pt x="2342" y="1021"/>
                    </a:lnTo>
                    <a:lnTo>
                      <a:pt x="2352" y="1017"/>
                    </a:lnTo>
                    <a:lnTo>
                      <a:pt x="2361" y="1011"/>
                    </a:lnTo>
                    <a:lnTo>
                      <a:pt x="2373" y="1006"/>
                    </a:lnTo>
                    <a:lnTo>
                      <a:pt x="2382" y="1000"/>
                    </a:lnTo>
                    <a:lnTo>
                      <a:pt x="2394" y="996"/>
                    </a:lnTo>
                    <a:lnTo>
                      <a:pt x="2403" y="990"/>
                    </a:lnTo>
                    <a:lnTo>
                      <a:pt x="2413" y="985"/>
                    </a:lnTo>
                    <a:lnTo>
                      <a:pt x="2422" y="979"/>
                    </a:lnTo>
                    <a:lnTo>
                      <a:pt x="2434" y="973"/>
                    </a:lnTo>
                    <a:lnTo>
                      <a:pt x="2443" y="967"/>
                    </a:lnTo>
                    <a:lnTo>
                      <a:pt x="2454" y="964"/>
                    </a:lnTo>
                    <a:lnTo>
                      <a:pt x="2464" y="956"/>
                    </a:lnTo>
                    <a:lnTo>
                      <a:pt x="2473" y="952"/>
                    </a:lnTo>
                    <a:lnTo>
                      <a:pt x="2483" y="947"/>
                    </a:lnTo>
                    <a:lnTo>
                      <a:pt x="2492" y="941"/>
                    </a:lnTo>
                    <a:lnTo>
                      <a:pt x="2502" y="935"/>
                    </a:lnTo>
                    <a:lnTo>
                      <a:pt x="2511" y="929"/>
                    </a:lnTo>
                    <a:lnTo>
                      <a:pt x="2519" y="924"/>
                    </a:lnTo>
                    <a:lnTo>
                      <a:pt x="2529" y="918"/>
                    </a:lnTo>
                    <a:lnTo>
                      <a:pt x="2536" y="912"/>
                    </a:lnTo>
                    <a:lnTo>
                      <a:pt x="2546" y="909"/>
                    </a:lnTo>
                    <a:lnTo>
                      <a:pt x="2553" y="901"/>
                    </a:lnTo>
                    <a:lnTo>
                      <a:pt x="2563" y="897"/>
                    </a:lnTo>
                    <a:lnTo>
                      <a:pt x="2570" y="891"/>
                    </a:lnTo>
                    <a:lnTo>
                      <a:pt x="2580" y="886"/>
                    </a:lnTo>
                    <a:lnTo>
                      <a:pt x="2588" y="880"/>
                    </a:lnTo>
                    <a:lnTo>
                      <a:pt x="2595" y="874"/>
                    </a:lnTo>
                    <a:lnTo>
                      <a:pt x="2603" y="869"/>
                    </a:lnTo>
                    <a:lnTo>
                      <a:pt x="2612" y="865"/>
                    </a:lnTo>
                    <a:lnTo>
                      <a:pt x="2618" y="857"/>
                    </a:lnTo>
                    <a:lnTo>
                      <a:pt x="2626" y="853"/>
                    </a:lnTo>
                    <a:lnTo>
                      <a:pt x="2633" y="848"/>
                    </a:lnTo>
                    <a:lnTo>
                      <a:pt x="2641" y="842"/>
                    </a:lnTo>
                    <a:lnTo>
                      <a:pt x="2646" y="836"/>
                    </a:lnTo>
                    <a:lnTo>
                      <a:pt x="2654" y="831"/>
                    </a:lnTo>
                    <a:lnTo>
                      <a:pt x="2660" y="825"/>
                    </a:lnTo>
                    <a:lnTo>
                      <a:pt x="2667" y="821"/>
                    </a:lnTo>
                    <a:lnTo>
                      <a:pt x="2673" y="815"/>
                    </a:lnTo>
                    <a:lnTo>
                      <a:pt x="2679" y="810"/>
                    </a:lnTo>
                    <a:lnTo>
                      <a:pt x="2684" y="804"/>
                    </a:lnTo>
                    <a:lnTo>
                      <a:pt x="2692" y="800"/>
                    </a:lnTo>
                    <a:lnTo>
                      <a:pt x="2698" y="794"/>
                    </a:lnTo>
                    <a:lnTo>
                      <a:pt x="2703" y="791"/>
                    </a:lnTo>
                    <a:lnTo>
                      <a:pt x="2709" y="785"/>
                    </a:lnTo>
                    <a:lnTo>
                      <a:pt x="2715" y="781"/>
                    </a:lnTo>
                    <a:lnTo>
                      <a:pt x="2724" y="772"/>
                    </a:lnTo>
                    <a:lnTo>
                      <a:pt x="2734" y="762"/>
                    </a:lnTo>
                    <a:lnTo>
                      <a:pt x="2743" y="753"/>
                    </a:lnTo>
                    <a:lnTo>
                      <a:pt x="2753" y="743"/>
                    </a:lnTo>
                    <a:lnTo>
                      <a:pt x="2761" y="734"/>
                    </a:lnTo>
                    <a:lnTo>
                      <a:pt x="2768" y="726"/>
                    </a:lnTo>
                    <a:lnTo>
                      <a:pt x="2776" y="718"/>
                    </a:lnTo>
                    <a:lnTo>
                      <a:pt x="2783" y="711"/>
                    </a:lnTo>
                    <a:lnTo>
                      <a:pt x="2787" y="703"/>
                    </a:lnTo>
                    <a:lnTo>
                      <a:pt x="2793" y="696"/>
                    </a:lnTo>
                    <a:lnTo>
                      <a:pt x="2797" y="686"/>
                    </a:lnTo>
                    <a:lnTo>
                      <a:pt x="2800" y="680"/>
                    </a:lnTo>
                    <a:lnTo>
                      <a:pt x="2804" y="675"/>
                    </a:lnTo>
                    <a:lnTo>
                      <a:pt x="2806" y="667"/>
                    </a:lnTo>
                    <a:lnTo>
                      <a:pt x="2808" y="661"/>
                    </a:lnTo>
                    <a:lnTo>
                      <a:pt x="2810" y="656"/>
                    </a:lnTo>
                    <a:lnTo>
                      <a:pt x="2810" y="644"/>
                    </a:lnTo>
                    <a:lnTo>
                      <a:pt x="2808" y="637"/>
                    </a:lnTo>
                    <a:lnTo>
                      <a:pt x="2802" y="629"/>
                    </a:lnTo>
                    <a:lnTo>
                      <a:pt x="2797" y="623"/>
                    </a:lnTo>
                    <a:lnTo>
                      <a:pt x="2791" y="620"/>
                    </a:lnTo>
                    <a:lnTo>
                      <a:pt x="2781" y="618"/>
                    </a:lnTo>
                    <a:lnTo>
                      <a:pt x="2772" y="614"/>
                    </a:lnTo>
                    <a:lnTo>
                      <a:pt x="2762" y="614"/>
                    </a:lnTo>
                    <a:lnTo>
                      <a:pt x="2755" y="614"/>
                    </a:lnTo>
                    <a:lnTo>
                      <a:pt x="2747" y="614"/>
                    </a:lnTo>
                    <a:lnTo>
                      <a:pt x="2740" y="614"/>
                    </a:lnTo>
                    <a:lnTo>
                      <a:pt x="2734" y="614"/>
                    </a:lnTo>
                    <a:lnTo>
                      <a:pt x="2724" y="614"/>
                    </a:lnTo>
                    <a:lnTo>
                      <a:pt x="2717" y="614"/>
                    </a:lnTo>
                    <a:lnTo>
                      <a:pt x="2709" y="614"/>
                    </a:lnTo>
                    <a:lnTo>
                      <a:pt x="2700" y="616"/>
                    </a:lnTo>
                    <a:lnTo>
                      <a:pt x="2690" y="616"/>
                    </a:lnTo>
                    <a:lnTo>
                      <a:pt x="2681" y="616"/>
                    </a:lnTo>
                    <a:lnTo>
                      <a:pt x="2669" y="618"/>
                    </a:lnTo>
                    <a:lnTo>
                      <a:pt x="2660" y="618"/>
                    </a:lnTo>
                    <a:lnTo>
                      <a:pt x="2650" y="618"/>
                    </a:lnTo>
                    <a:lnTo>
                      <a:pt x="2639" y="620"/>
                    </a:lnTo>
                    <a:lnTo>
                      <a:pt x="2627" y="620"/>
                    </a:lnTo>
                    <a:lnTo>
                      <a:pt x="2618" y="621"/>
                    </a:lnTo>
                    <a:lnTo>
                      <a:pt x="2605" y="621"/>
                    </a:lnTo>
                    <a:lnTo>
                      <a:pt x="2593" y="623"/>
                    </a:lnTo>
                    <a:lnTo>
                      <a:pt x="2582" y="625"/>
                    </a:lnTo>
                    <a:lnTo>
                      <a:pt x="2570" y="627"/>
                    </a:lnTo>
                    <a:lnTo>
                      <a:pt x="2557" y="629"/>
                    </a:lnTo>
                    <a:lnTo>
                      <a:pt x="2546" y="631"/>
                    </a:lnTo>
                    <a:lnTo>
                      <a:pt x="2532" y="631"/>
                    </a:lnTo>
                    <a:lnTo>
                      <a:pt x="2521" y="635"/>
                    </a:lnTo>
                    <a:lnTo>
                      <a:pt x="2508" y="637"/>
                    </a:lnTo>
                    <a:lnTo>
                      <a:pt x="2494" y="639"/>
                    </a:lnTo>
                    <a:lnTo>
                      <a:pt x="2481" y="639"/>
                    </a:lnTo>
                    <a:lnTo>
                      <a:pt x="2468" y="640"/>
                    </a:lnTo>
                    <a:lnTo>
                      <a:pt x="2454" y="642"/>
                    </a:lnTo>
                    <a:lnTo>
                      <a:pt x="2441" y="646"/>
                    </a:lnTo>
                    <a:lnTo>
                      <a:pt x="2430" y="646"/>
                    </a:lnTo>
                    <a:lnTo>
                      <a:pt x="2416" y="650"/>
                    </a:lnTo>
                    <a:lnTo>
                      <a:pt x="2403" y="650"/>
                    </a:lnTo>
                    <a:lnTo>
                      <a:pt x="2390" y="652"/>
                    </a:lnTo>
                    <a:lnTo>
                      <a:pt x="2375" y="656"/>
                    </a:lnTo>
                    <a:lnTo>
                      <a:pt x="2363" y="658"/>
                    </a:lnTo>
                    <a:lnTo>
                      <a:pt x="2348" y="659"/>
                    </a:lnTo>
                    <a:lnTo>
                      <a:pt x="2337" y="661"/>
                    </a:lnTo>
                    <a:lnTo>
                      <a:pt x="2323" y="663"/>
                    </a:lnTo>
                    <a:lnTo>
                      <a:pt x="2310" y="667"/>
                    </a:lnTo>
                    <a:lnTo>
                      <a:pt x="2297" y="667"/>
                    </a:lnTo>
                    <a:lnTo>
                      <a:pt x="2285" y="669"/>
                    </a:lnTo>
                    <a:lnTo>
                      <a:pt x="2272" y="671"/>
                    </a:lnTo>
                    <a:lnTo>
                      <a:pt x="2259" y="675"/>
                    </a:lnTo>
                    <a:lnTo>
                      <a:pt x="2245" y="675"/>
                    </a:lnTo>
                    <a:lnTo>
                      <a:pt x="2234" y="678"/>
                    </a:lnTo>
                    <a:lnTo>
                      <a:pt x="2222" y="678"/>
                    </a:lnTo>
                    <a:lnTo>
                      <a:pt x="2211" y="682"/>
                    </a:lnTo>
                    <a:lnTo>
                      <a:pt x="2198" y="684"/>
                    </a:lnTo>
                    <a:lnTo>
                      <a:pt x="2184" y="686"/>
                    </a:lnTo>
                    <a:lnTo>
                      <a:pt x="2173" y="688"/>
                    </a:lnTo>
                    <a:lnTo>
                      <a:pt x="2162" y="690"/>
                    </a:lnTo>
                    <a:lnTo>
                      <a:pt x="2150" y="690"/>
                    </a:lnTo>
                    <a:lnTo>
                      <a:pt x="2141" y="694"/>
                    </a:lnTo>
                    <a:lnTo>
                      <a:pt x="2129" y="696"/>
                    </a:lnTo>
                    <a:lnTo>
                      <a:pt x="2120" y="697"/>
                    </a:lnTo>
                    <a:lnTo>
                      <a:pt x="2108" y="697"/>
                    </a:lnTo>
                    <a:lnTo>
                      <a:pt x="2099" y="699"/>
                    </a:lnTo>
                    <a:lnTo>
                      <a:pt x="2088" y="701"/>
                    </a:lnTo>
                    <a:lnTo>
                      <a:pt x="2076" y="703"/>
                    </a:lnTo>
                    <a:lnTo>
                      <a:pt x="2067" y="705"/>
                    </a:lnTo>
                    <a:lnTo>
                      <a:pt x="2055" y="707"/>
                    </a:lnTo>
                    <a:lnTo>
                      <a:pt x="2046" y="707"/>
                    </a:lnTo>
                    <a:lnTo>
                      <a:pt x="2036" y="709"/>
                    </a:lnTo>
                    <a:lnTo>
                      <a:pt x="2025" y="711"/>
                    </a:lnTo>
                    <a:lnTo>
                      <a:pt x="2013" y="713"/>
                    </a:lnTo>
                    <a:lnTo>
                      <a:pt x="2002" y="715"/>
                    </a:lnTo>
                    <a:lnTo>
                      <a:pt x="1992" y="717"/>
                    </a:lnTo>
                    <a:lnTo>
                      <a:pt x="1983" y="718"/>
                    </a:lnTo>
                    <a:lnTo>
                      <a:pt x="1972" y="720"/>
                    </a:lnTo>
                    <a:lnTo>
                      <a:pt x="1962" y="722"/>
                    </a:lnTo>
                    <a:lnTo>
                      <a:pt x="1953" y="724"/>
                    </a:lnTo>
                    <a:lnTo>
                      <a:pt x="1943" y="726"/>
                    </a:lnTo>
                    <a:lnTo>
                      <a:pt x="1932" y="728"/>
                    </a:lnTo>
                    <a:lnTo>
                      <a:pt x="1922" y="730"/>
                    </a:lnTo>
                    <a:lnTo>
                      <a:pt x="1913" y="732"/>
                    </a:lnTo>
                    <a:lnTo>
                      <a:pt x="1901" y="734"/>
                    </a:lnTo>
                    <a:lnTo>
                      <a:pt x="1892" y="736"/>
                    </a:lnTo>
                    <a:lnTo>
                      <a:pt x="1882" y="737"/>
                    </a:lnTo>
                    <a:lnTo>
                      <a:pt x="1873" y="741"/>
                    </a:lnTo>
                    <a:lnTo>
                      <a:pt x="1863" y="741"/>
                    </a:lnTo>
                    <a:lnTo>
                      <a:pt x="1854" y="743"/>
                    </a:lnTo>
                    <a:lnTo>
                      <a:pt x="1844" y="745"/>
                    </a:lnTo>
                    <a:lnTo>
                      <a:pt x="1835" y="749"/>
                    </a:lnTo>
                    <a:lnTo>
                      <a:pt x="1825" y="749"/>
                    </a:lnTo>
                    <a:lnTo>
                      <a:pt x="1818" y="753"/>
                    </a:lnTo>
                    <a:lnTo>
                      <a:pt x="1808" y="753"/>
                    </a:lnTo>
                    <a:lnTo>
                      <a:pt x="1800" y="756"/>
                    </a:lnTo>
                    <a:lnTo>
                      <a:pt x="1791" y="758"/>
                    </a:lnTo>
                    <a:lnTo>
                      <a:pt x="1783" y="760"/>
                    </a:lnTo>
                    <a:lnTo>
                      <a:pt x="1774" y="760"/>
                    </a:lnTo>
                    <a:lnTo>
                      <a:pt x="1766" y="762"/>
                    </a:lnTo>
                    <a:lnTo>
                      <a:pt x="1757" y="764"/>
                    </a:lnTo>
                    <a:lnTo>
                      <a:pt x="1749" y="766"/>
                    </a:lnTo>
                    <a:lnTo>
                      <a:pt x="1742" y="768"/>
                    </a:lnTo>
                    <a:lnTo>
                      <a:pt x="1736" y="770"/>
                    </a:lnTo>
                    <a:lnTo>
                      <a:pt x="1728" y="772"/>
                    </a:lnTo>
                    <a:lnTo>
                      <a:pt x="1721" y="774"/>
                    </a:lnTo>
                    <a:lnTo>
                      <a:pt x="1715" y="775"/>
                    </a:lnTo>
                    <a:lnTo>
                      <a:pt x="1707" y="777"/>
                    </a:lnTo>
                    <a:lnTo>
                      <a:pt x="1700" y="777"/>
                    </a:lnTo>
                    <a:lnTo>
                      <a:pt x="1694" y="779"/>
                    </a:lnTo>
                    <a:lnTo>
                      <a:pt x="1688" y="781"/>
                    </a:lnTo>
                    <a:lnTo>
                      <a:pt x="1683" y="785"/>
                    </a:lnTo>
                    <a:lnTo>
                      <a:pt x="1677" y="785"/>
                    </a:lnTo>
                    <a:lnTo>
                      <a:pt x="1671" y="787"/>
                    </a:lnTo>
                    <a:lnTo>
                      <a:pt x="1665" y="787"/>
                    </a:lnTo>
                    <a:lnTo>
                      <a:pt x="1662" y="789"/>
                    </a:lnTo>
                    <a:lnTo>
                      <a:pt x="1652" y="793"/>
                    </a:lnTo>
                    <a:lnTo>
                      <a:pt x="1645" y="796"/>
                    </a:lnTo>
                    <a:lnTo>
                      <a:pt x="1639" y="798"/>
                    </a:lnTo>
                    <a:lnTo>
                      <a:pt x="1633" y="800"/>
                    </a:lnTo>
                    <a:lnTo>
                      <a:pt x="1627" y="802"/>
                    </a:lnTo>
                    <a:lnTo>
                      <a:pt x="1626" y="806"/>
                    </a:lnTo>
                    <a:lnTo>
                      <a:pt x="1618" y="808"/>
                    </a:lnTo>
                    <a:lnTo>
                      <a:pt x="1614" y="812"/>
                    </a:lnTo>
                    <a:lnTo>
                      <a:pt x="1610" y="815"/>
                    </a:lnTo>
                    <a:lnTo>
                      <a:pt x="1608" y="817"/>
                    </a:lnTo>
                    <a:lnTo>
                      <a:pt x="1608" y="823"/>
                    </a:lnTo>
                    <a:lnTo>
                      <a:pt x="1614" y="827"/>
                    </a:lnTo>
                    <a:lnTo>
                      <a:pt x="1618" y="827"/>
                    </a:lnTo>
                    <a:lnTo>
                      <a:pt x="1624" y="829"/>
                    </a:lnTo>
                    <a:lnTo>
                      <a:pt x="1631" y="829"/>
                    </a:lnTo>
                    <a:lnTo>
                      <a:pt x="1641" y="829"/>
                    </a:lnTo>
                    <a:lnTo>
                      <a:pt x="1645" y="829"/>
                    </a:lnTo>
                    <a:lnTo>
                      <a:pt x="1650" y="829"/>
                    </a:lnTo>
                    <a:lnTo>
                      <a:pt x="1656" y="829"/>
                    </a:lnTo>
                    <a:lnTo>
                      <a:pt x="1662" y="829"/>
                    </a:lnTo>
                    <a:lnTo>
                      <a:pt x="1669" y="827"/>
                    </a:lnTo>
                    <a:lnTo>
                      <a:pt x="1675" y="827"/>
                    </a:lnTo>
                    <a:lnTo>
                      <a:pt x="1683" y="827"/>
                    </a:lnTo>
                    <a:lnTo>
                      <a:pt x="1690" y="827"/>
                    </a:lnTo>
                    <a:lnTo>
                      <a:pt x="1694" y="827"/>
                    </a:lnTo>
                    <a:lnTo>
                      <a:pt x="1698" y="825"/>
                    </a:lnTo>
                    <a:lnTo>
                      <a:pt x="1703" y="825"/>
                    </a:lnTo>
                    <a:lnTo>
                      <a:pt x="1709" y="825"/>
                    </a:lnTo>
                    <a:lnTo>
                      <a:pt x="1717" y="823"/>
                    </a:lnTo>
                    <a:lnTo>
                      <a:pt x="1724" y="821"/>
                    </a:lnTo>
                    <a:lnTo>
                      <a:pt x="1730" y="819"/>
                    </a:lnTo>
                    <a:lnTo>
                      <a:pt x="1740" y="819"/>
                    </a:lnTo>
                    <a:lnTo>
                      <a:pt x="1747" y="817"/>
                    </a:lnTo>
                    <a:lnTo>
                      <a:pt x="1757" y="815"/>
                    </a:lnTo>
                    <a:lnTo>
                      <a:pt x="1766" y="813"/>
                    </a:lnTo>
                    <a:lnTo>
                      <a:pt x="1778" y="812"/>
                    </a:lnTo>
                    <a:lnTo>
                      <a:pt x="1787" y="810"/>
                    </a:lnTo>
                    <a:lnTo>
                      <a:pt x="1799" y="808"/>
                    </a:lnTo>
                    <a:lnTo>
                      <a:pt x="1810" y="806"/>
                    </a:lnTo>
                    <a:lnTo>
                      <a:pt x="1823" y="804"/>
                    </a:lnTo>
                    <a:lnTo>
                      <a:pt x="1835" y="800"/>
                    </a:lnTo>
                    <a:lnTo>
                      <a:pt x="1846" y="798"/>
                    </a:lnTo>
                    <a:lnTo>
                      <a:pt x="1859" y="796"/>
                    </a:lnTo>
                    <a:lnTo>
                      <a:pt x="1873" y="794"/>
                    </a:lnTo>
                    <a:lnTo>
                      <a:pt x="1886" y="791"/>
                    </a:lnTo>
                    <a:lnTo>
                      <a:pt x="1897" y="789"/>
                    </a:lnTo>
                    <a:lnTo>
                      <a:pt x="1913" y="785"/>
                    </a:lnTo>
                    <a:lnTo>
                      <a:pt x="1926" y="783"/>
                    </a:lnTo>
                    <a:lnTo>
                      <a:pt x="1941" y="779"/>
                    </a:lnTo>
                    <a:lnTo>
                      <a:pt x="1954" y="777"/>
                    </a:lnTo>
                    <a:lnTo>
                      <a:pt x="1970" y="774"/>
                    </a:lnTo>
                    <a:lnTo>
                      <a:pt x="1983" y="772"/>
                    </a:lnTo>
                    <a:lnTo>
                      <a:pt x="1998" y="768"/>
                    </a:lnTo>
                    <a:lnTo>
                      <a:pt x="2013" y="766"/>
                    </a:lnTo>
                    <a:lnTo>
                      <a:pt x="2029" y="762"/>
                    </a:lnTo>
                    <a:lnTo>
                      <a:pt x="2044" y="760"/>
                    </a:lnTo>
                    <a:lnTo>
                      <a:pt x="2057" y="758"/>
                    </a:lnTo>
                    <a:lnTo>
                      <a:pt x="2072" y="755"/>
                    </a:lnTo>
                    <a:lnTo>
                      <a:pt x="2088" y="751"/>
                    </a:lnTo>
                    <a:lnTo>
                      <a:pt x="2103" y="749"/>
                    </a:lnTo>
                    <a:lnTo>
                      <a:pt x="2118" y="745"/>
                    </a:lnTo>
                    <a:lnTo>
                      <a:pt x="2131" y="741"/>
                    </a:lnTo>
                    <a:lnTo>
                      <a:pt x="2146" y="739"/>
                    </a:lnTo>
                    <a:lnTo>
                      <a:pt x="2162" y="736"/>
                    </a:lnTo>
                    <a:lnTo>
                      <a:pt x="2175" y="734"/>
                    </a:lnTo>
                    <a:lnTo>
                      <a:pt x="2188" y="730"/>
                    </a:lnTo>
                    <a:lnTo>
                      <a:pt x="2203" y="728"/>
                    </a:lnTo>
                    <a:lnTo>
                      <a:pt x="2217" y="726"/>
                    </a:lnTo>
                    <a:lnTo>
                      <a:pt x="2230" y="722"/>
                    </a:lnTo>
                    <a:lnTo>
                      <a:pt x="2243" y="720"/>
                    </a:lnTo>
                    <a:lnTo>
                      <a:pt x="2257" y="718"/>
                    </a:lnTo>
                    <a:lnTo>
                      <a:pt x="2270" y="717"/>
                    </a:lnTo>
                    <a:lnTo>
                      <a:pt x="2281" y="713"/>
                    </a:lnTo>
                    <a:lnTo>
                      <a:pt x="2295" y="711"/>
                    </a:lnTo>
                    <a:lnTo>
                      <a:pt x="2306" y="709"/>
                    </a:lnTo>
                    <a:lnTo>
                      <a:pt x="2318" y="707"/>
                    </a:lnTo>
                    <a:lnTo>
                      <a:pt x="2329" y="703"/>
                    </a:lnTo>
                    <a:lnTo>
                      <a:pt x="2338" y="703"/>
                    </a:lnTo>
                    <a:lnTo>
                      <a:pt x="2350" y="699"/>
                    </a:lnTo>
                    <a:lnTo>
                      <a:pt x="2361" y="699"/>
                    </a:lnTo>
                    <a:lnTo>
                      <a:pt x="2369" y="697"/>
                    </a:lnTo>
                    <a:lnTo>
                      <a:pt x="2378" y="696"/>
                    </a:lnTo>
                    <a:lnTo>
                      <a:pt x="2386" y="694"/>
                    </a:lnTo>
                    <a:lnTo>
                      <a:pt x="2394" y="694"/>
                    </a:lnTo>
                    <a:lnTo>
                      <a:pt x="2401" y="692"/>
                    </a:lnTo>
                    <a:lnTo>
                      <a:pt x="2409" y="690"/>
                    </a:lnTo>
                    <a:lnTo>
                      <a:pt x="2415" y="690"/>
                    </a:lnTo>
                    <a:lnTo>
                      <a:pt x="2420" y="690"/>
                    </a:lnTo>
                    <a:lnTo>
                      <a:pt x="2430" y="688"/>
                    </a:lnTo>
                    <a:lnTo>
                      <a:pt x="2441" y="686"/>
                    </a:lnTo>
                    <a:lnTo>
                      <a:pt x="2451" y="684"/>
                    </a:lnTo>
                    <a:lnTo>
                      <a:pt x="2464" y="684"/>
                    </a:lnTo>
                    <a:lnTo>
                      <a:pt x="2468" y="680"/>
                    </a:lnTo>
                    <a:lnTo>
                      <a:pt x="2475" y="680"/>
                    </a:lnTo>
                    <a:lnTo>
                      <a:pt x="2479" y="678"/>
                    </a:lnTo>
                    <a:lnTo>
                      <a:pt x="2487" y="678"/>
                    </a:lnTo>
                    <a:lnTo>
                      <a:pt x="2492" y="677"/>
                    </a:lnTo>
                    <a:lnTo>
                      <a:pt x="2500" y="677"/>
                    </a:lnTo>
                    <a:lnTo>
                      <a:pt x="2506" y="675"/>
                    </a:lnTo>
                    <a:lnTo>
                      <a:pt x="2511" y="675"/>
                    </a:lnTo>
                    <a:lnTo>
                      <a:pt x="2517" y="673"/>
                    </a:lnTo>
                    <a:lnTo>
                      <a:pt x="2523" y="671"/>
                    </a:lnTo>
                    <a:lnTo>
                      <a:pt x="2529" y="671"/>
                    </a:lnTo>
                    <a:lnTo>
                      <a:pt x="2534" y="671"/>
                    </a:lnTo>
                    <a:lnTo>
                      <a:pt x="2540" y="669"/>
                    </a:lnTo>
                    <a:lnTo>
                      <a:pt x="2548" y="667"/>
                    </a:lnTo>
                    <a:lnTo>
                      <a:pt x="2553" y="667"/>
                    </a:lnTo>
                    <a:lnTo>
                      <a:pt x="2559" y="667"/>
                    </a:lnTo>
                    <a:lnTo>
                      <a:pt x="2565" y="665"/>
                    </a:lnTo>
                    <a:lnTo>
                      <a:pt x="2570" y="665"/>
                    </a:lnTo>
                    <a:lnTo>
                      <a:pt x="2578" y="663"/>
                    </a:lnTo>
                    <a:lnTo>
                      <a:pt x="2584" y="663"/>
                    </a:lnTo>
                    <a:lnTo>
                      <a:pt x="2589" y="661"/>
                    </a:lnTo>
                    <a:lnTo>
                      <a:pt x="2595" y="661"/>
                    </a:lnTo>
                    <a:lnTo>
                      <a:pt x="2601" y="659"/>
                    </a:lnTo>
                    <a:lnTo>
                      <a:pt x="2607" y="659"/>
                    </a:lnTo>
                    <a:lnTo>
                      <a:pt x="2618" y="658"/>
                    </a:lnTo>
                    <a:lnTo>
                      <a:pt x="2627" y="656"/>
                    </a:lnTo>
                    <a:lnTo>
                      <a:pt x="2637" y="654"/>
                    </a:lnTo>
                    <a:lnTo>
                      <a:pt x="2648" y="654"/>
                    </a:lnTo>
                    <a:lnTo>
                      <a:pt x="2658" y="652"/>
                    </a:lnTo>
                    <a:lnTo>
                      <a:pt x="2667" y="652"/>
                    </a:lnTo>
                    <a:lnTo>
                      <a:pt x="2675" y="652"/>
                    </a:lnTo>
                    <a:lnTo>
                      <a:pt x="2684" y="652"/>
                    </a:lnTo>
                    <a:lnTo>
                      <a:pt x="2690" y="652"/>
                    </a:lnTo>
                    <a:lnTo>
                      <a:pt x="2698" y="652"/>
                    </a:lnTo>
                    <a:lnTo>
                      <a:pt x="2702" y="652"/>
                    </a:lnTo>
                    <a:lnTo>
                      <a:pt x="2709" y="654"/>
                    </a:lnTo>
                    <a:lnTo>
                      <a:pt x="2715" y="658"/>
                    </a:lnTo>
                    <a:lnTo>
                      <a:pt x="2721" y="663"/>
                    </a:lnTo>
                    <a:lnTo>
                      <a:pt x="2721" y="667"/>
                    </a:lnTo>
                    <a:lnTo>
                      <a:pt x="2719" y="673"/>
                    </a:lnTo>
                    <a:lnTo>
                      <a:pt x="2715" y="678"/>
                    </a:lnTo>
                    <a:lnTo>
                      <a:pt x="2707" y="684"/>
                    </a:lnTo>
                    <a:lnTo>
                      <a:pt x="2700" y="688"/>
                    </a:lnTo>
                    <a:lnTo>
                      <a:pt x="2690" y="692"/>
                    </a:lnTo>
                    <a:lnTo>
                      <a:pt x="2684" y="694"/>
                    </a:lnTo>
                    <a:lnTo>
                      <a:pt x="2679" y="696"/>
                    </a:lnTo>
                    <a:lnTo>
                      <a:pt x="2673" y="697"/>
                    </a:lnTo>
                    <a:lnTo>
                      <a:pt x="2667" y="699"/>
                    </a:lnTo>
                    <a:lnTo>
                      <a:pt x="2660" y="701"/>
                    </a:lnTo>
                    <a:lnTo>
                      <a:pt x="2654" y="703"/>
                    </a:lnTo>
                    <a:lnTo>
                      <a:pt x="2646" y="705"/>
                    </a:lnTo>
                    <a:lnTo>
                      <a:pt x="2641" y="707"/>
                    </a:lnTo>
                    <a:lnTo>
                      <a:pt x="2633" y="707"/>
                    </a:lnTo>
                    <a:lnTo>
                      <a:pt x="2626" y="709"/>
                    </a:lnTo>
                    <a:lnTo>
                      <a:pt x="2618" y="711"/>
                    </a:lnTo>
                    <a:lnTo>
                      <a:pt x="2612" y="713"/>
                    </a:lnTo>
                    <a:lnTo>
                      <a:pt x="2605" y="715"/>
                    </a:lnTo>
                    <a:lnTo>
                      <a:pt x="2597" y="715"/>
                    </a:lnTo>
                    <a:lnTo>
                      <a:pt x="2591" y="717"/>
                    </a:lnTo>
                    <a:lnTo>
                      <a:pt x="2586" y="718"/>
                    </a:lnTo>
                    <a:lnTo>
                      <a:pt x="2578" y="718"/>
                    </a:lnTo>
                    <a:lnTo>
                      <a:pt x="2570" y="720"/>
                    </a:lnTo>
                    <a:lnTo>
                      <a:pt x="2567" y="722"/>
                    </a:lnTo>
                    <a:lnTo>
                      <a:pt x="2561" y="724"/>
                    </a:lnTo>
                    <a:lnTo>
                      <a:pt x="2557" y="724"/>
                    </a:lnTo>
                    <a:lnTo>
                      <a:pt x="2551" y="724"/>
                    </a:lnTo>
                    <a:lnTo>
                      <a:pt x="2548" y="724"/>
                    </a:lnTo>
                    <a:lnTo>
                      <a:pt x="2542" y="726"/>
                    </a:lnTo>
                    <a:lnTo>
                      <a:pt x="2534" y="726"/>
                    </a:lnTo>
                    <a:lnTo>
                      <a:pt x="2529" y="730"/>
                    </a:lnTo>
                    <a:lnTo>
                      <a:pt x="2519" y="730"/>
                    </a:lnTo>
                    <a:lnTo>
                      <a:pt x="2511" y="734"/>
                    </a:lnTo>
                    <a:lnTo>
                      <a:pt x="2502" y="736"/>
                    </a:lnTo>
                    <a:lnTo>
                      <a:pt x="2492" y="737"/>
                    </a:lnTo>
                    <a:lnTo>
                      <a:pt x="2481" y="739"/>
                    </a:lnTo>
                    <a:lnTo>
                      <a:pt x="2470" y="743"/>
                    </a:lnTo>
                    <a:lnTo>
                      <a:pt x="2458" y="745"/>
                    </a:lnTo>
                    <a:lnTo>
                      <a:pt x="2447" y="749"/>
                    </a:lnTo>
                    <a:lnTo>
                      <a:pt x="2434" y="753"/>
                    </a:lnTo>
                    <a:lnTo>
                      <a:pt x="2422" y="755"/>
                    </a:lnTo>
                    <a:lnTo>
                      <a:pt x="2407" y="758"/>
                    </a:lnTo>
                    <a:lnTo>
                      <a:pt x="2394" y="762"/>
                    </a:lnTo>
                    <a:lnTo>
                      <a:pt x="2378" y="764"/>
                    </a:lnTo>
                    <a:lnTo>
                      <a:pt x="2363" y="768"/>
                    </a:lnTo>
                    <a:lnTo>
                      <a:pt x="2348" y="772"/>
                    </a:lnTo>
                    <a:lnTo>
                      <a:pt x="2333" y="775"/>
                    </a:lnTo>
                    <a:lnTo>
                      <a:pt x="2318" y="779"/>
                    </a:lnTo>
                    <a:lnTo>
                      <a:pt x="2302" y="785"/>
                    </a:lnTo>
                    <a:lnTo>
                      <a:pt x="2285" y="787"/>
                    </a:lnTo>
                    <a:lnTo>
                      <a:pt x="2268" y="791"/>
                    </a:lnTo>
                    <a:lnTo>
                      <a:pt x="2251" y="796"/>
                    </a:lnTo>
                    <a:lnTo>
                      <a:pt x="2236" y="800"/>
                    </a:lnTo>
                    <a:lnTo>
                      <a:pt x="2217" y="804"/>
                    </a:lnTo>
                    <a:lnTo>
                      <a:pt x="2202" y="808"/>
                    </a:lnTo>
                    <a:lnTo>
                      <a:pt x="2184" y="812"/>
                    </a:lnTo>
                    <a:lnTo>
                      <a:pt x="2167" y="817"/>
                    </a:lnTo>
                    <a:lnTo>
                      <a:pt x="2148" y="819"/>
                    </a:lnTo>
                    <a:lnTo>
                      <a:pt x="2131" y="825"/>
                    </a:lnTo>
                    <a:lnTo>
                      <a:pt x="2112" y="829"/>
                    </a:lnTo>
                    <a:lnTo>
                      <a:pt x="2095" y="832"/>
                    </a:lnTo>
                    <a:lnTo>
                      <a:pt x="2078" y="836"/>
                    </a:lnTo>
                    <a:lnTo>
                      <a:pt x="2061" y="840"/>
                    </a:lnTo>
                    <a:lnTo>
                      <a:pt x="2044" y="844"/>
                    </a:lnTo>
                    <a:lnTo>
                      <a:pt x="2027" y="848"/>
                    </a:lnTo>
                    <a:lnTo>
                      <a:pt x="2010" y="852"/>
                    </a:lnTo>
                    <a:lnTo>
                      <a:pt x="1992" y="855"/>
                    </a:lnTo>
                    <a:lnTo>
                      <a:pt x="1977" y="857"/>
                    </a:lnTo>
                    <a:lnTo>
                      <a:pt x="1960" y="863"/>
                    </a:lnTo>
                    <a:lnTo>
                      <a:pt x="1945" y="865"/>
                    </a:lnTo>
                    <a:lnTo>
                      <a:pt x="1930" y="869"/>
                    </a:lnTo>
                    <a:lnTo>
                      <a:pt x="1913" y="872"/>
                    </a:lnTo>
                    <a:lnTo>
                      <a:pt x="1899" y="876"/>
                    </a:lnTo>
                    <a:lnTo>
                      <a:pt x="1884" y="878"/>
                    </a:lnTo>
                    <a:lnTo>
                      <a:pt x="1869" y="882"/>
                    </a:lnTo>
                    <a:lnTo>
                      <a:pt x="1854" y="884"/>
                    </a:lnTo>
                    <a:lnTo>
                      <a:pt x="1840" y="888"/>
                    </a:lnTo>
                    <a:lnTo>
                      <a:pt x="1827" y="890"/>
                    </a:lnTo>
                    <a:lnTo>
                      <a:pt x="1814" y="891"/>
                    </a:lnTo>
                    <a:lnTo>
                      <a:pt x="1802" y="893"/>
                    </a:lnTo>
                    <a:lnTo>
                      <a:pt x="1791" y="897"/>
                    </a:lnTo>
                    <a:lnTo>
                      <a:pt x="1780" y="897"/>
                    </a:lnTo>
                    <a:lnTo>
                      <a:pt x="1770" y="899"/>
                    </a:lnTo>
                    <a:lnTo>
                      <a:pt x="1759" y="899"/>
                    </a:lnTo>
                    <a:lnTo>
                      <a:pt x="1749" y="901"/>
                    </a:lnTo>
                    <a:lnTo>
                      <a:pt x="1740" y="901"/>
                    </a:lnTo>
                    <a:lnTo>
                      <a:pt x="1734" y="903"/>
                    </a:lnTo>
                    <a:lnTo>
                      <a:pt x="1726" y="903"/>
                    </a:lnTo>
                    <a:lnTo>
                      <a:pt x="1721" y="905"/>
                    </a:lnTo>
                    <a:lnTo>
                      <a:pt x="1715" y="905"/>
                    </a:lnTo>
                    <a:lnTo>
                      <a:pt x="1707" y="905"/>
                    </a:lnTo>
                    <a:lnTo>
                      <a:pt x="1702" y="905"/>
                    </a:lnTo>
                    <a:lnTo>
                      <a:pt x="1696" y="905"/>
                    </a:lnTo>
                    <a:lnTo>
                      <a:pt x="1683" y="907"/>
                    </a:lnTo>
                    <a:lnTo>
                      <a:pt x="1673" y="907"/>
                    </a:lnTo>
                    <a:lnTo>
                      <a:pt x="1662" y="909"/>
                    </a:lnTo>
                    <a:lnTo>
                      <a:pt x="1652" y="910"/>
                    </a:lnTo>
                    <a:lnTo>
                      <a:pt x="1643" y="910"/>
                    </a:lnTo>
                    <a:lnTo>
                      <a:pt x="1633" y="912"/>
                    </a:lnTo>
                    <a:lnTo>
                      <a:pt x="1624" y="914"/>
                    </a:lnTo>
                    <a:lnTo>
                      <a:pt x="1616" y="916"/>
                    </a:lnTo>
                    <a:lnTo>
                      <a:pt x="1607" y="918"/>
                    </a:lnTo>
                    <a:lnTo>
                      <a:pt x="1601" y="922"/>
                    </a:lnTo>
                    <a:lnTo>
                      <a:pt x="1593" y="924"/>
                    </a:lnTo>
                    <a:lnTo>
                      <a:pt x="1588" y="926"/>
                    </a:lnTo>
                    <a:lnTo>
                      <a:pt x="1582" y="929"/>
                    </a:lnTo>
                    <a:lnTo>
                      <a:pt x="1578" y="933"/>
                    </a:lnTo>
                    <a:lnTo>
                      <a:pt x="1570" y="937"/>
                    </a:lnTo>
                    <a:lnTo>
                      <a:pt x="1565" y="943"/>
                    </a:lnTo>
                    <a:lnTo>
                      <a:pt x="1561" y="947"/>
                    </a:lnTo>
                    <a:lnTo>
                      <a:pt x="1563" y="952"/>
                    </a:lnTo>
                    <a:lnTo>
                      <a:pt x="1567" y="956"/>
                    </a:lnTo>
                    <a:lnTo>
                      <a:pt x="1574" y="962"/>
                    </a:lnTo>
                    <a:lnTo>
                      <a:pt x="1576" y="964"/>
                    </a:lnTo>
                    <a:lnTo>
                      <a:pt x="1584" y="966"/>
                    </a:lnTo>
                    <a:lnTo>
                      <a:pt x="1589" y="967"/>
                    </a:lnTo>
                    <a:lnTo>
                      <a:pt x="1597" y="971"/>
                    </a:lnTo>
                    <a:lnTo>
                      <a:pt x="1605" y="971"/>
                    </a:lnTo>
                    <a:lnTo>
                      <a:pt x="1614" y="971"/>
                    </a:lnTo>
                    <a:lnTo>
                      <a:pt x="1622" y="971"/>
                    </a:lnTo>
                    <a:lnTo>
                      <a:pt x="1633" y="971"/>
                    </a:lnTo>
                    <a:lnTo>
                      <a:pt x="1637" y="971"/>
                    </a:lnTo>
                    <a:lnTo>
                      <a:pt x="1643" y="971"/>
                    </a:lnTo>
                    <a:lnTo>
                      <a:pt x="1648" y="969"/>
                    </a:lnTo>
                    <a:lnTo>
                      <a:pt x="1654" y="969"/>
                    </a:lnTo>
                    <a:lnTo>
                      <a:pt x="1660" y="967"/>
                    </a:lnTo>
                    <a:lnTo>
                      <a:pt x="1667" y="967"/>
                    </a:lnTo>
                    <a:lnTo>
                      <a:pt x="1673" y="967"/>
                    </a:lnTo>
                    <a:lnTo>
                      <a:pt x="1681" y="967"/>
                    </a:lnTo>
                    <a:lnTo>
                      <a:pt x="1686" y="966"/>
                    </a:lnTo>
                    <a:lnTo>
                      <a:pt x="1692" y="964"/>
                    </a:lnTo>
                    <a:lnTo>
                      <a:pt x="1700" y="964"/>
                    </a:lnTo>
                    <a:lnTo>
                      <a:pt x="1707" y="962"/>
                    </a:lnTo>
                    <a:lnTo>
                      <a:pt x="1713" y="960"/>
                    </a:lnTo>
                    <a:lnTo>
                      <a:pt x="1721" y="958"/>
                    </a:lnTo>
                    <a:lnTo>
                      <a:pt x="1728" y="956"/>
                    </a:lnTo>
                    <a:lnTo>
                      <a:pt x="1736" y="956"/>
                    </a:lnTo>
                    <a:lnTo>
                      <a:pt x="1743" y="954"/>
                    </a:lnTo>
                    <a:lnTo>
                      <a:pt x="1753" y="952"/>
                    </a:lnTo>
                    <a:lnTo>
                      <a:pt x="1759" y="948"/>
                    </a:lnTo>
                    <a:lnTo>
                      <a:pt x="1768" y="948"/>
                    </a:lnTo>
                    <a:lnTo>
                      <a:pt x="1776" y="947"/>
                    </a:lnTo>
                    <a:lnTo>
                      <a:pt x="1785" y="945"/>
                    </a:lnTo>
                    <a:lnTo>
                      <a:pt x="1793" y="943"/>
                    </a:lnTo>
                    <a:lnTo>
                      <a:pt x="1802" y="941"/>
                    </a:lnTo>
                    <a:lnTo>
                      <a:pt x="1812" y="937"/>
                    </a:lnTo>
                    <a:lnTo>
                      <a:pt x="1819" y="935"/>
                    </a:lnTo>
                    <a:lnTo>
                      <a:pt x="1829" y="933"/>
                    </a:lnTo>
                    <a:lnTo>
                      <a:pt x="1838" y="931"/>
                    </a:lnTo>
                    <a:lnTo>
                      <a:pt x="1848" y="928"/>
                    </a:lnTo>
                    <a:lnTo>
                      <a:pt x="1857" y="926"/>
                    </a:lnTo>
                    <a:lnTo>
                      <a:pt x="1867" y="924"/>
                    </a:lnTo>
                    <a:lnTo>
                      <a:pt x="1876" y="922"/>
                    </a:lnTo>
                    <a:lnTo>
                      <a:pt x="1886" y="918"/>
                    </a:lnTo>
                    <a:lnTo>
                      <a:pt x="1896" y="916"/>
                    </a:lnTo>
                    <a:lnTo>
                      <a:pt x="1905" y="914"/>
                    </a:lnTo>
                    <a:lnTo>
                      <a:pt x="1915" y="912"/>
                    </a:lnTo>
                    <a:lnTo>
                      <a:pt x="1924" y="909"/>
                    </a:lnTo>
                    <a:lnTo>
                      <a:pt x="1935" y="907"/>
                    </a:lnTo>
                    <a:lnTo>
                      <a:pt x="1945" y="905"/>
                    </a:lnTo>
                    <a:lnTo>
                      <a:pt x="1958" y="903"/>
                    </a:lnTo>
                    <a:lnTo>
                      <a:pt x="1968" y="899"/>
                    </a:lnTo>
                    <a:lnTo>
                      <a:pt x="1977" y="897"/>
                    </a:lnTo>
                    <a:lnTo>
                      <a:pt x="1989" y="895"/>
                    </a:lnTo>
                    <a:lnTo>
                      <a:pt x="2000" y="893"/>
                    </a:lnTo>
                    <a:lnTo>
                      <a:pt x="2010" y="890"/>
                    </a:lnTo>
                    <a:lnTo>
                      <a:pt x="2021" y="888"/>
                    </a:lnTo>
                    <a:lnTo>
                      <a:pt x="2032" y="886"/>
                    </a:lnTo>
                    <a:lnTo>
                      <a:pt x="2044" y="884"/>
                    </a:lnTo>
                    <a:lnTo>
                      <a:pt x="2055" y="880"/>
                    </a:lnTo>
                    <a:lnTo>
                      <a:pt x="2067" y="878"/>
                    </a:lnTo>
                    <a:lnTo>
                      <a:pt x="2076" y="876"/>
                    </a:lnTo>
                    <a:lnTo>
                      <a:pt x="2089" y="874"/>
                    </a:lnTo>
                    <a:lnTo>
                      <a:pt x="2101" y="872"/>
                    </a:lnTo>
                    <a:lnTo>
                      <a:pt x="2112" y="871"/>
                    </a:lnTo>
                    <a:lnTo>
                      <a:pt x="2124" y="869"/>
                    </a:lnTo>
                    <a:lnTo>
                      <a:pt x="2137" y="869"/>
                    </a:lnTo>
                    <a:lnTo>
                      <a:pt x="2148" y="865"/>
                    </a:lnTo>
                    <a:lnTo>
                      <a:pt x="2160" y="863"/>
                    </a:lnTo>
                    <a:lnTo>
                      <a:pt x="2171" y="861"/>
                    </a:lnTo>
                    <a:lnTo>
                      <a:pt x="2183" y="859"/>
                    </a:lnTo>
                    <a:lnTo>
                      <a:pt x="2194" y="855"/>
                    </a:lnTo>
                    <a:lnTo>
                      <a:pt x="2205" y="853"/>
                    </a:lnTo>
                    <a:lnTo>
                      <a:pt x="2217" y="852"/>
                    </a:lnTo>
                    <a:lnTo>
                      <a:pt x="2228" y="852"/>
                    </a:lnTo>
                    <a:lnTo>
                      <a:pt x="2240" y="848"/>
                    </a:lnTo>
                    <a:lnTo>
                      <a:pt x="2249" y="846"/>
                    </a:lnTo>
                    <a:lnTo>
                      <a:pt x="2261" y="844"/>
                    </a:lnTo>
                    <a:lnTo>
                      <a:pt x="2272" y="842"/>
                    </a:lnTo>
                    <a:lnTo>
                      <a:pt x="2281" y="838"/>
                    </a:lnTo>
                    <a:lnTo>
                      <a:pt x="2293" y="836"/>
                    </a:lnTo>
                    <a:lnTo>
                      <a:pt x="2302" y="834"/>
                    </a:lnTo>
                    <a:lnTo>
                      <a:pt x="2314" y="832"/>
                    </a:lnTo>
                    <a:lnTo>
                      <a:pt x="2323" y="829"/>
                    </a:lnTo>
                    <a:lnTo>
                      <a:pt x="2333" y="827"/>
                    </a:lnTo>
                    <a:lnTo>
                      <a:pt x="2342" y="825"/>
                    </a:lnTo>
                    <a:lnTo>
                      <a:pt x="2354" y="823"/>
                    </a:lnTo>
                    <a:lnTo>
                      <a:pt x="2363" y="819"/>
                    </a:lnTo>
                    <a:lnTo>
                      <a:pt x="2373" y="819"/>
                    </a:lnTo>
                    <a:lnTo>
                      <a:pt x="2382" y="815"/>
                    </a:lnTo>
                    <a:lnTo>
                      <a:pt x="2392" y="815"/>
                    </a:lnTo>
                    <a:lnTo>
                      <a:pt x="2399" y="812"/>
                    </a:lnTo>
                    <a:lnTo>
                      <a:pt x="2409" y="810"/>
                    </a:lnTo>
                    <a:lnTo>
                      <a:pt x="2416" y="808"/>
                    </a:lnTo>
                    <a:lnTo>
                      <a:pt x="2426" y="806"/>
                    </a:lnTo>
                    <a:lnTo>
                      <a:pt x="2435" y="804"/>
                    </a:lnTo>
                    <a:lnTo>
                      <a:pt x="2443" y="802"/>
                    </a:lnTo>
                    <a:lnTo>
                      <a:pt x="2451" y="800"/>
                    </a:lnTo>
                    <a:lnTo>
                      <a:pt x="2460" y="798"/>
                    </a:lnTo>
                    <a:lnTo>
                      <a:pt x="2468" y="796"/>
                    </a:lnTo>
                    <a:lnTo>
                      <a:pt x="2475" y="794"/>
                    </a:lnTo>
                    <a:lnTo>
                      <a:pt x="2483" y="791"/>
                    </a:lnTo>
                    <a:lnTo>
                      <a:pt x="2491" y="791"/>
                    </a:lnTo>
                    <a:lnTo>
                      <a:pt x="2496" y="789"/>
                    </a:lnTo>
                    <a:lnTo>
                      <a:pt x="2504" y="787"/>
                    </a:lnTo>
                    <a:lnTo>
                      <a:pt x="2510" y="785"/>
                    </a:lnTo>
                    <a:lnTo>
                      <a:pt x="2517" y="785"/>
                    </a:lnTo>
                    <a:lnTo>
                      <a:pt x="2523" y="781"/>
                    </a:lnTo>
                    <a:lnTo>
                      <a:pt x="2529" y="781"/>
                    </a:lnTo>
                    <a:lnTo>
                      <a:pt x="2534" y="779"/>
                    </a:lnTo>
                    <a:lnTo>
                      <a:pt x="2542" y="777"/>
                    </a:lnTo>
                    <a:lnTo>
                      <a:pt x="2551" y="775"/>
                    </a:lnTo>
                    <a:lnTo>
                      <a:pt x="2563" y="775"/>
                    </a:lnTo>
                    <a:lnTo>
                      <a:pt x="2572" y="772"/>
                    </a:lnTo>
                    <a:lnTo>
                      <a:pt x="2582" y="772"/>
                    </a:lnTo>
                    <a:lnTo>
                      <a:pt x="2589" y="770"/>
                    </a:lnTo>
                    <a:lnTo>
                      <a:pt x="2597" y="770"/>
                    </a:lnTo>
                    <a:lnTo>
                      <a:pt x="2603" y="770"/>
                    </a:lnTo>
                    <a:lnTo>
                      <a:pt x="2607" y="770"/>
                    </a:lnTo>
                    <a:lnTo>
                      <a:pt x="2612" y="770"/>
                    </a:lnTo>
                    <a:lnTo>
                      <a:pt x="2616" y="772"/>
                    </a:lnTo>
                    <a:lnTo>
                      <a:pt x="2618" y="775"/>
                    </a:lnTo>
                    <a:lnTo>
                      <a:pt x="2618" y="781"/>
                    </a:lnTo>
                    <a:lnTo>
                      <a:pt x="2616" y="787"/>
                    </a:lnTo>
                    <a:lnTo>
                      <a:pt x="2610" y="796"/>
                    </a:lnTo>
                    <a:lnTo>
                      <a:pt x="2603" y="804"/>
                    </a:lnTo>
                    <a:lnTo>
                      <a:pt x="2591" y="815"/>
                    </a:lnTo>
                    <a:lnTo>
                      <a:pt x="2586" y="819"/>
                    </a:lnTo>
                    <a:lnTo>
                      <a:pt x="2580" y="825"/>
                    </a:lnTo>
                    <a:lnTo>
                      <a:pt x="2574" y="832"/>
                    </a:lnTo>
                    <a:lnTo>
                      <a:pt x="2569" y="838"/>
                    </a:lnTo>
                    <a:lnTo>
                      <a:pt x="2559" y="844"/>
                    </a:lnTo>
                    <a:lnTo>
                      <a:pt x="2551" y="848"/>
                    </a:lnTo>
                    <a:lnTo>
                      <a:pt x="2544" y="853"/>
                    </a:lnTo>
                    <a:lnTo>
                      <a:pt x="2538" y="861"/>
                    </a:lnTo>
                    <a:lnTo>
                      <a:pt x="2529" y="865"/>
                    </a:lnTo>
                    <a:lnTo>
                      <a:pt x="2521" y="871"/>
                    </a:lnTo>
                    <a:lnTo>
                      <a:pt x="2511" y="876"/>
                    </a:lnTo>
                    <a:lnTo>
                      <a:pt x="2504" y="882"/>
                    </a:lnTo>
                    <a:lnTo>
                      <a:pt x="2494" y="888"/>
                    </a:lnTo>
                    <a:lnTo>
                      <a:pt x="2485" y="891"/>
                    </a:lnTo>
                    <a:lnTo>
                      <a:pt x="2477" y="897"/>
                    </a:lnTo>
                    <a:lnTo>
                      <a:pt x="2470" y="903"/>
                    </a:lnTo>
                    <a:lnTo>
                      <a:pt x="2460" y="907"/>
                    </a:lnTo>
                    <a:lnTo>
                      <a:pt x="2453" y="910"/>
                    </a:lnTo>
                    <a:lnTo>
                      <a:pt x="2445" y="914"/>
                    </a:lnTo>
                    <a:lnTo>
                      <a:pt x="2437" y="918"/>
                    </a:lnTo>
                    <a:lnTo>
                      <a:pt x="2432" y="920"/>
                    </a:lnTo>
                    <a:lnTo>
                      <a:pt x="2426" y="922"/>
                    </a:lnTo>
                    <a:lnTo>
                      <a:pt x="2420" y="924"/>
                    </a:lnTo>
                    <a:lnTo>
                      <a:pt x="2413" y="928"/>
                    </a:lnTo>
                    <a:lnTo>
                      <a:pt x="2405" y="929"/>
                    </a:lnTo>
                    <a:lnTo>
                      <a:pt x="2397" y="933"/>
                    </a:lnTo>
                    <a:lnTo>
                      <a:pt x="2388" y="935"/>
                    </a:lnTo>
                    <a:lnTo>
                      <a:pt x="2380" y="939"/>
                    </a:lnTo>
                    <a:lnTo>
                      <a:pt x="2367" y="943"/>
                    </a:lnTo>
                    <a:lnTo>
                      <a:pt x="2357" y="947"/>
                    </a:lnTo>
                    <a:lnTo>
                      <a:pt x="2346" y="950"/>
                    </a:lnTo>
                    <a:lnTo>
                      <a:pt x="2335" y="956"/>
                    </a:lnTo>
                    <a:lnTo>
                      <a:pt x="2321" y="958"/>
                    </a:lnTo>
                    <a:lnTo>
                      <a:pt x="2308" y="964"/>
                    </a:lnTo>
                    <a:lnTo>
                      <a:pt x="2295" y="967"/>
                    </a:lnTo>
                    <a:lnTo>
                      <a:pt x="2281" y="975"/>
                    </a:lnTo>
                    <a:lnTo>
                      <a:pt x="2266" y="979"/>
                    </a:lnTo>
                    <a:lnTo>
                      <a:pt x="2251" y="985"/>
                    </a:lnTo>
                    <a:lnTo>
                      <a:pt x="2236" y="990"/>
                    </a:lnTo>
                    <a:lnTo>
                      <a:pt x="2221" y="996"/>
                    </a:lnTo>
                    <a:lnTo>
                      <a:pt x="2203" y="1002"/>
                    </a:lnTo>
                    <a:lnTo>
                      <a:pt x="2188" y="1007"/>
                    </a:lnTo>
                    <a:lnTo>
                      <a:pt x="2171" y="1013"/>
                    </a:lnTo>
                    <a:lnTo>
                      <a:pt x="2156" y="1019"/>
                    </a:lnTo>
                    <a:lnTo>
                      <a:pt x="2137" y="1026"/>
                    </a:lnTo>
                    <a:lnTo>
                      <a:pt x="2120" y="1032"/>
                    </a:lnTo>
                    <a:lnTo>
                      <a:pt x="2101" y="1038"/>
                    </a:lnTo>
                    <a:lnTo>
                      <a:pt x="2084" y="1045"/>
                    </a:lnTo>
                    <a:lnTo>
                      <a:pt x="2065" y="1051"/>
                    </a:lnTo>
                    <a:lnTo>
                      <a:pt x="2046" y="1057"/>
                    </a:lnTo>
                    <a:lnTo>
                      <a:pt x="2029" y="1064"/>
                    </a:lnTo>
                    <a:lnTo>
                      <a:pt x="2010" y="1070"/>
                    </a:lnTo>
                    <a:lnTo>
                      <a:pt x="1991" y="1076"/>
                    </a:lnTo>
                    <a:lnTo>
                      <a:pt x="1972" y="1082"/>
                    </a:lnTo>
                    <a:lnTo>
                      <a:pt x="1953" y="1087"/>
                    </a:lnTo>
                    <a:lnTo>
                      <a:pt x="1934" y="1093"/>
                    </a:lnTo>
                    <a:lnTo>
                      <a:pt x="1915" y="1099"/>
                    </a:lnTo>
                    <a:lnTo>
                      <a:pt x="1896" y="1104"/>
                    </a:lnTo>
                    <a:lnTo>
                      <a:pt x="1876" y="1112"/>
                    </a:lnTo>
                    <a:lnTo>
                      <a:pt x="1857" y="1118"/>
                    </a:lnTo>
                    <a:lnTo>
                      <a:pt x="1838" y="1123"/>
                    </a:lnTo>
                    <a:lnTo>
                      <a:pt x="1819" y="1129"/>
                    </a:lnTo>
                    <a:lnTo>
                      <a:pt x="1800" y="1133"/>
                    </a:lnTo>
                    <a:lnTo>
                      <a:pt x="1781" y="1141"/>
                    </a:lnTo>
                    <a:lnTo>
                      <a:pt x="1762" y="1146"/>
                    </a:lnTo>
                    <a:lnTo>
                      <a:pt x="1745" y="1150"/>
                    </a:lnTo>
                    <a:lnTo>
                      <a:pt x="1726" y="1156"/>
                    </a:lnTo>
                    <a:lnTo>
                      <a:pt x="1709" y="1161"/>
                    </a:lnTo>
                    <a:lnTo>
                      <a:pt x="1690" y="1167"/>
                    </a:lnTo>
                    <a:lnTo>
                      <a:pt x="1673" y="1171"/>
                    </a:lnTo>
                    <a:lnTo>
                      <a:pt x="1656" y="1175"/>
                    </a:lnTo>
                    <a:lnTo>
                      <a:pt x="1641" y="1180"/>
                    </a:lnTo>
                    <a:lnTo>
                      <a:pt x="1624" y="1184"/>
                    </a:lnTo>
                    <a:lnTo>
                      <a:pt x="1608" y="1188"/>
                    </a:lnTo>
                    <a:lnTo>
                      <a:pt x="1593" y="1192"/>
                    </a:lnTo>
                    <a:lnTo>
                      <a:pt x="1578" y="1196"/>
                    </a:lnTo>
                    <a:lnTo>
                      <a:pt x="1561" y="1198"/>
                    </a:lnTo>
                    <a:lnTo>
                      <a:pt x="1548" y="1201"/>
                    </a:lnTo>
                    <a:lnTo>
                      <a:pt x="1534" y="1205"/>
                    </a:lnTo>
                    <a:lnTo>
                      <a:pt x="1521" y="1207"/>
                    </a:lnTo>
                    <a:lnTo>
                      <a:pt x="1510" y="1209"/>
                    </a:lnTo>
                    <a:lnTo>
                      <a:pt x="1496" y="1213"/>
                    </a:lnTo>
                    <a:lnTo>
                      <a:pt x="1485" y="1215"/>
                    </a:lnTo>
                    <a:lnTo>
                      <a:pt x="1475" y="1217"/>
                    </a:lnTo>
                    <a:lnTo>
                      <a:pt x="1464" y="1217"/>
                    </a:lnTo>
                    <a:lnTo>
                      <a:pt x="1453" y="1218"/>
                    </a:lnTo>
                    <a:lnTo>
                      <a:pt x="1443" y="1218"/>
                    </a:lnTo>
                    <a:lnTo>
                      <a:pt x="1434" y="1220"/>
                    </a:lnTo>
                    <a:lnTo>
                      <a:pt x="1424" y="1220"/>
                    </a:lnTo>
                    <a:lnTo>
                      <a:pt x="1415" y="1222"/>
                    </a:lnTo>
                    <a:lnTo>
                      <a:pt x="1405" y="1222"/>
                    </a:lnTo>
                    <a:lnTo>
                      <a:pt x="1397" y="1224"/>
                    </a:lnTo>
                    <a:lnTo>
                      <a:pt x="1388" y="1224"/>
                    </a:lnTo>
                    <a:lnTo>
                      <a:pt x="1380" y="1226"/>
                    </a:lnTo>
                    <a:lnTo>
                      <a:pt x="1373" y="1226"/>
                    </a:lnTo>
                    <a:lnTo>
                      <a:pt x="1365" y="1228"/>
                    </a:lnTo>
                    <a:lnTo>
                      <a:pt x="1357" y="1230"/>
                    </a:lnTo>
                    <a:lnTo>
                      <a:pt x="1352" y="1232"/>
                    </a:lnTo>
                    <a:lnTo>
                      <a:pt x="1344" y="1232"/>
                    </a:lnTo>
                    <a:lnTo>
                      <a:pt x="1338" y="1234"/>
                    </a:lnTo>
                    <a:lnTo>
                      <a:pt x="1331" y="1234"/>
                    </a:lnTo>
                    <a:lnTo>
                      <a:pt x="1325" y="1236"/>
                    </a:lnTo>
                    <a:lnTo>
                      <a:pt x="1318" y="1236"/>
                    </a:lnTo>
                    <a:lnTo>
                      <a:pt x="1314" y="1238"/>
                    </a:lnTo>
                    <a:lnTo>
                      <a:pt x="1302" y="1238"/>
                    </a:lnTo>
                    <a:lnTo>
                      <a:pt x="1293" y="1241"/>
                    </a:lnTo>
                    <a:lnTo>
                      <a:pt x="1283" y="1241"/>
                    </a:lnTo>
                    <a:lnTo>
                      <a:pt x="1276" y="1243"/>
                    </a:lnTo>
                    <a:lnTo>
                      <a:pt x="1268" y="1243"/>
                    </a:lnTo>
                    <a:lnTo>
                      <a:pt x="1264" y="1245"/>
                    </a:lnTo>
                    <a:lnTo>
                      <a:pt x="1257" y="1245"/>
                    </a:lnTo>
                    <a:lnTo>
                      <a:pt x="1251" y="1245"/>
                    </a:lnTo>
                    <a:lnTo>
                      <a:pt x="1247" y="1245"/>
                    </a:lnTo>
                    <a:lnTo>
                      <a:pt x="1243" y="1245"/>
                    </a:lnTo>
                    <a:lnTo>
                      <a:pt x="1238" y="1243"/>
                    </a:lnTo>
                    <a:lnTo>
                      <a:pt x="1236" y="1243"/>
                    </a:lnTo>
                    <a:lnTo>
                      <a:pt x="1232" y="1238"/>
                    </a:lnTo>
                    <a:lnTo>
                      <a:pt x="1234" y="1236"/>
                    </a:lnTo>
                    <a:lnTo>
                      <a:pt x="1236" y="1228"/>
                    </a:lnTo>
                    <a:lnTo>
                      <a:pt x="1240" y="1224"/>
                    </a:lnTo>
                    <a:lnTo>
                      <a:pt x="1242" y="1217"/>
                    </a:lnTo>
                    <a:lnTo>
                      <a:pt x="1247" y="1211"/>
                    </a:lnTo>
                    <a:lnTo>
                      <a:pt x="1251" y="1203"/>
                    </a:lnTo>
                    <a:lnTo>
                      <a:pt x="1259" y="1194"/>
                    </a:lnTo>
                    <a:lnTo>
                      <a:pt x="1262" y="1186"/>
                    </a:lnTo>
                    <a:lnTo>
                      <a:pt x="1268" y="1180"/>
                    </a:lnTo>
                    <a:lnTo>
                      <a:pt x="1272" y="1175"/>
                    </a:lnTo>
                    <a:lnTo>
                      <a:pt x="1278" y="1167"/>
                    </a:lnTo>
                    <a:lnTo>
                      <a:pt x="1283" y="1160"/>
                    </a:lnTo>
                    <a:lnTo>
                      <a:pt x="1289" y="1152"/>
                    </a:lnTo>
                    <a:lnTo>
                      <a:pt x="1295" y="1144"/>
                    </a:lnTo>
                    <a:lnTo>
                      <a:pt x="1302" y="1137"/>
                    </a:lnTo>
                    <a:lnTo>
                      <a:pt x="1308" y="1127"/>
                    </a:lnTo>
                    <a:lnTo>
                      <a:pt x="1314" y="1118"/>
                    </a:lnTo>
                    <a:lnTo>
                      <a:pt x="1321" y="1108"/>
                    </a:lnTo>
                    <a:lnTo>
                      <a:pt x="1329" y="1101"/>
                    </a:lnTo>
                    <a:lnTo>
                      <a:pt x="1335" y="1089"/>
                    </a:lnTo>
                    <a:lnTo>
                      <a:pt x="1344" y="1080"/>
                    </a:lnTo>
                    <a:lnTo>
                      <a:pt x="1352" y="1068"/>
                    </a:lnTo>
                    <a:lnTo>
                      <a:pt x="1361" y="1059"/>
                    </a:lnTo>
                    <a:lnTo>
                      <a:pt x="1369" y="1047"/>
                    </a:lnTo>
                    <a:lnTo>
                      <a:pt x="1376" y="1038"/>
                    </a:lnTo>
                    <a:lnTo>
                      <a:pt x="1386" y="1026"/>
                    </a:lnTo>
                    <a:lnTo>
                      <a:pt x="1396" y="1015"/>
                    </a:lnTo>
                    <a:lnTo>
                      <a:pt x="1405" y="1002"/>
                    </a:lnTo>
                    <a:lnTo>
                      <a:pt x="1415" y="992"/>
                    </a:lnTo>
                    <a:lnTo>
                      <a:pt x="1424" y="979"/>
                    </a:lnTo>
                    <a:lnTo>
                      <a:pt x="1434" y="967"/>
                    </a:lnTo>
                    <a:lnTo>
                      <a:pt x="1443" y="956"/>
                    </a:lnTo>
                    <a:lnTo>
                      <a:pt x="1453" y="943"/>
                    </a:lnTo>
                    <a:lnTo>
                      <a:pt x="1462" y="929"/>
                    </a:lnTo>
                    <a:lnTo>
                      <a:pt x="1472" y="918"/>
                    </a:lnTo>
                    <a:lnTo>
                      <a:pt x="1481" y="905"/>
                    </a:lnTo>
                    <a:lnTo>
                      <a:pt x="1491" y="891"/>
                    </a:lnTo>
                    <a:lnTo>
                      <a:pt x="1500" y="880"/>
                    </a:lnTo>
                    <a:lnTo>
                      <a:pt x="1511" y="869"/>
                    </a:lnTo>
                    <a:lnTo>
                      <a:pt x="1521" y="853"/>
                    </a:lnTo>
                    <a:lnTo>
                      <a:pt x="1530" y="842"/>
                    </a:lnTo>
                    <a:lnTo>
                      <a:pt x="1542" y="829"/>
                    </a:lnTo>
                    <a:lnTo>
                      <a:pt x="1551" y="815"/>
                    </a:lnTo>
                    <a:lnTo>
                      <a:pt x="1561" y="804"/>
                    </a:lnTo>
                    <a:lnTo>
                      <a:pt x="1572" y="791"/>
                    </a:lnTo>
                    <a:lnTo>
                      <a:pt x="1584" y="777"/>
                    </a:lnTo>
                    <a:lnTo>
                      <a:pt x="1593" y="764"/>
                    </a:lnTo>
                    <a:lnTo>
                      <a:pt x="1603" y="751"/>
                    </a:lnTo>
                    <a:lnTo>
                      <a:pt x="1612" y="739"/>
                    </a:lnTo>
                    <a:lnTo>
                      <a:pt x="1622" y="726"/>
                    </a:lnTo>
                    <a:lnTo>
                      <a:pt x="1633" y="713"/>
                    </a:lnTo>
                    <a:lnTo>
                      <a:pt x="1643" y="699"/>
                    </a:lnTo>
                    <a:lnTo>
                      <a:pt x="1652" y="688"/>
                    </a:lnTo>
                    <a:lnTo>
                      <a:pt x="1662" y="677"/>
                    </a:lnTo>
                    <a:lnTo>
                      <a:pt x="1673" y="665"/>
                    </a:lnTo>
                    <a:lnTo>
                      <a:pt x="1683" y="652"/>
                    </a:lnTo>
                    <a:lnTo>
                      <a:pt x="1692" y="640"/>
                    </a:lnTo>
                    <a:lnTo>
                      <a:pt x="1702" y="629"/>
                    </a:lnTo>
                    <a:lnTo>
                      <a:pt x="1711" y="618"/>
                    </a:lnTo>
                    <a:lnTo>
                      <a:pt x="1719" y="604"/>
                    </a:lnTo>
                    <a:lnTo>
                      <a:pt x="1728" y="595"/>
                    </a:lnTo>
                    <a:lnTo>
                      <a:pt x="1738" y="583"/>
                    </a:lnTo>
                    <a:lnTo>
                      <a:pt x="1747" y="574"/>
                    </a:lnTo>
                    <a:lnTo>
                      <a:pt x="1755" y="562"/>
                    </a:lnTo>
                    <a:lnTo>
                      <a:pt x="1762" y="551"/>
                    </a:lnTo>
                    <a:lnTo>
                      <a:pt x="1772" y="540"/>
                    </a:lnTo>
                    <a:lnTo>
                      <a:pt x="1781" y="530"/>
                    </a:lnTo>
                    <a:lnTo>
                      <a:pt x="1791" y="519"/>
                    </a:lnTo>
                    <a:lnTo>
                      <a:pt x="1800" y="509"/>
                    </a:lnTo>
                    <a:lnTo>
                      <a:pt x="1810" y="498"/>
                    </a:lnTo>
                    <a:lnTo>
                      <a:pt x="1819" y="488"/>
                    </a:lnTo>
                    <a:lnTo>
                      <a:pt x="1829" y="475"/>
                    </a:lnTo>
                    <a:lnTo>
                      <a:pt x="1838" y="466"/>
                    </a:lnTo>
                    <a:lnTo>
                      <a:pt x="1848" y="454"/>
                    </a:lnTo>
                    <a:lnTo>
                      <a:pt x="1857" y="443"/>
                    </a:lnTo>
                    <a:lnTo>
                      <a:pt x="1867" y="431"/>
                    </a:lnTo>
                    <a:lnTo>
                      <a:pt x="1876" y="422"/>
                    </a:lnTo>
                    <a:lnTo>
                      <a:pt x="1886" y="410"/>
                    </a:lnTo>
                    <a:lnTo>
                      <a:pt x="1897" y="401"/>
                    </a:lnTo>
                    <a:lnTo>
                      <a:pt x="1907" y="389"/>
                    </a:lnTo>
                    <a:lnTo>
                      <a:pt x="1916" y="378"/>
                    </a:lnTo>
                    <a:lnTo>
                      <a:pt x="1926" y="369"/>
                    </a:lnTo>
                    <a:lnTo>
                      <a:pt x="1935" y="357"/>
                    </a:lnTo>
                    <a:lnTo>
                      <a:pt x="1945" y="346"/>
                    </a:lnTo>
                    <a:lnTo>
                      <a:pt x="1954" y="336"/>
                    </a:lnTo>
                    <a:lnTo>
                      <a:pt x="1964" y="325"/>
                    </a:lnTo>
                    <a:lnTo>
                      <a:pt x="1973" y="315"/>
                    </a:lnTo>
                    <a:lnTo>
                      <a:pt x="1983" y="306"/>
                    </a:lnTo>
                    <a:lnTo>
                      <a:pt x="1992" y="294"/>
                    </a:lnTo>
                    <a:lnTo>
                      <a:pt x="2002" y="285"/>
                    </a:lnTo>
                    <a:lnTo>
                      <a:pt x="2011" y="275"/>
                    </a:lnTo>
                    <a:lnTo>
                      <a:pt x="2019" y="264"/>
                    </a:lnTo>
                    <a:lnTo>
                      <a:pt x="2029" y="254"/>
                    </a:lnTo>
                    <a:lnTo>
                      <a:pt x="2038" y="245"/>
                    </a:lnTo>
                    <a:lnTo>
                      <a:pt x="2048" y="235"/>
                    </a:lnTo>
                    <a:lnTo>
                      <a:pt x="2055" y="226"/>
                    </a:lnTo>
                    <a:lnTo>
                      <a:pt x="2063" y="216"/>
                    </a:lnTo>
                    <a:lnTo>
                      <a:pt x="2070" y="207"/>
                    </a:lnTo>
                    <a:lnTo>
                      <a:pt x="2080" y="197"/>
                    </a:lnTo>
                    <a:lnTo>
                      <a:pt x="2086" y="188"/>
                    </a:lnTo>
                    <a:lnTo>
                      <a:pt x="2093" y="180"/>
                    </a:lnTo>
                    <a:lnTo>
                      <a:pt x="2101" y="171"/>
                    </a:lnTo>
                    <a:lnTo>
                      <a:pt x="2108" y="165"/>
                    </a:lnTo>
                    <a:lnTo>
                      <a:pt x="2114" y="156"/>
                    </a:lnTo>
                    <a:lnTo>
                      <a:pt x="2122" y="148"/>
                    </a:lnTo>
                    <a:lnTo>
                      <a:pt x="2127" y="138"/>
                    </a:lnTo>
                    <a:lnTo>
                      <a:pt x="2133" y="133"/>
                    </a:lnTo>
                    <a:lnTo>
                      <a:pt x="2139" y="123"/>
                    </a:lnTo>
                    <a:lnTo>
                      <a:pt x="2146" y="118"/>
                    </a:lnTo>
                    <a:lnTo>
                      <a:pt x="2150" y="110"/>
                    </a:lnTo>
                    <a:lnTo>
                      <a:pt x="2158" y="104"/>
                    </a:lnTo>
                    <a:lnTo>
                      <a:pt x="2162" y="97"/>
                    </a:lnTo>
                    <a:lnTo>
                      <a:pt x="2165" y="91"/>
                    </a:lnTo>
                    <a:lnTo>
                      <a:pt x="2169" y="83"/>
                    </a:lnTo>
                    <a:lnTo>
                      <a:pt x="2173" y="78"/>
                    </a:lnTo>
                    <a:lnTo>
                      <a:pt x="2177" y="72"/>
                    </a:lnTo>
                    <a:lnTo>
                      <a:pt x="2179" y="66"/>
                    </a:lnTo>
                    <a:lnTo>
                      <a:pt x="2183" y="62"/>
                    </a:lnTo>
                    <a:lnTo>
                      <a:pt x="2184" y="57"/>
                    </a:lnTo>
                    <a:lnTo>
                      <a:pt x="2186" y="47"/>
                    </a:lnTo>
                    <a:lnTo>
                      <a:pt x="2188" y="41"/>
                    </a:lnTo>
                    <a:lnTo>
                      <a:pt x="2188" y="34"/>
                    </a:lnTo>
                    <a:lnTo>
                      <a:pt x="2188" y="30"/>
                    </a:lnTo>
                    <a:lnTo>
                      <a:pt x="2183" y="24"/>
                    </a:lnTo>
                    <a:lnTo>
                      <a:pt x="2177" y="21"/>
                    </a:lnTo>
                    <a:lnTo>
                      <a:pt x="2169" y="15"/>
                    </a:lnTo>
                    <a:lnTo>
                      <a:pt x="2160" y="11"/>
                    </a:lnTo>
                    <a:lnTo>
                      <a:pt x="2154" y="9"/>
                    </a:lnTo>
                    <a:lnTo>
                      <a:pt x="2148" y="9"/>
                    </a:lnTo>
                    <a:lnTo>
                      <a:pt x="2143" y="7"/>
                    </a:lnTo>
                    <a:lnTo>
                      <a:pt x="2137" y="5"/>
                    </a:lnTo>
                    <a:lnTo>
                      <a:pt x="2129" y="3"/>
                    </a:lnTo>
                    <a:lnTo>
                      <a:pt x="2122" y="2"/>
                    </a:lnTo>
                    <a:lnTo>
                      <a:pt x="2114" y="2"/>
                    </a:lnTo>
                    <a:lnTo>
                      <a:pt x="2107" y="2"/>
                    </a:lnTo>
                    <a:lnTo>
                      <a:pt x="2097" y="2"/>
                    </a:lnTo>
                    <a:lnTo>
                      <a:pt x="2089" y="0"/>
                    </a:lnTo>
                    <a:lnTo>
                      <a:pt x="2080" y="0"/>
                    </a:lnTo>
                    <a:lnTo>
                      <a:pt x="2070" y="0"/>
                    </a:lnTo>
                    <a:lnTo>
                      <a:pt x="2061" y="0"/>
                    </a:lnTo>
                    <a:lnTo>
                      <a:pt x="2051" y="0"/>
                    </a:lnTo>
                    <a:lnTo>
                      <a:pt x="2040" y="0"/>
                    </a:lnTo>
                    <a:lnTo>
                      <a:pt x="2030" y="2"/>
                    </a:lnTo>
                    <a:lnTo>
                      <a:pt x="2019" y="2"/>
                    </a:lnTo>
                    <a:lnTo>
                      <a:pt x="2008" y="3"/>
                    </a:lnTo>
                    <a:lnTo>
                      <a:pt x="1996" y="3"/>
                    </a:lnTo>
                    <a:lnTo>
                      <a:pt x="1983" y="7"/>
                    </a:lnTo>
                    <a:lnTo>
                      <a:pt x="1972" y="9"/>
                    </a:lnTo>
                    <a:lnTo>
                      <a:pt x="1960" y="11"/>
                    </a:lnTo>
                    <a:lnTo>
                      <a:pt x="1947" y="13"/>
                    </a:lnTo>
                    <a:lnTo>
                      <a:pt x="1935" y="17"/>
                    </a:lnTo>
                    <a:lnTo>
                      <a:pt x="1922" y="19"/>
                    </a:lnTo>
                    <a:lnTo>
                      <a:pt x="1907" y="22"/>
                    </a:lnTo>
                    <a:lnTo>
                      <a:pt x="1894" y="26"/>
                    </a:lnTo>
                    <a:lnTo>
                      <a:pt x="1880" y="30"/>
                    </a:lnTo>
                    <a:lnTo>
                      <a:pt x="1867" y="32"/>
                    </a:lnTo>
                    <a:lnTo>
                      <a:pt x="1852" y="38"/>
                    </a:lnTo>
                    <a:lnTo>
                      <a:pt x="1838" y="41"/>
                    </a:lnTo>
                    <a:lnTo>
                      <a:pt x="1825" y="49"/>
                    </a:lnTo>
                    <a:lnTo>
                      <a:pt x="1810" y="53"/>
                    </a:lnTo>
                    <a:lnTo>
                      <a:pt x="1795" y="59"/>
                    </a:lnTo>
                    <a:lnTo>
                      <a:pt x="1781" y="66"/>
                    </a:lnTo>
                    <a:lnTo>
                      <a:pt x="1766" y="72"/>
                    </a:lnTo>
                    <a:lnTo>
                      <a:pt x="1749" y="78"/>
                    </a:lnTo>
                    <a:lnTo>
                      <a:pt x="1736" y="85"/>
                    </a:lnTo>
                    <a:lnTo>
                      <a:pt x="1721" y="93"/>
                    </a:lnTo>
                    <a:lnTo>
                      <a:pt x="1705" y="102"/>
                    </a:lnTo>
                    <a:lnTo>
                      <a:pt x="1690" y="110"/>
                    </a:lnTo>
                    <a:lnTo>
                      <a:pt x="1673" y="119"/>
                    </a:lnTo>
                    <a:lnTo>
                      <a:pt x="1658" y="129"/>
                    </a:lnTo>
                    <a:lnTo>
                      <a:pt x="1643" y="138"/>
                    </a:lnTo>
                    <a:lnTo>
                      <a:pt x="1626" y="148"/>
                    </a:lnTo>
                    <a:lnTo>
                      <a:pt x="1610" y="157"/>
                    </a:lnTo>
                    <a:lnTo>
                      <a:pt x="1595" y="169"/>
                    </a:lnTo>
                    <a:lnTo>
                      <a:pt x="1580" y="180"/>
                    </a:lnTo>
                    <a:lnTo>
                      <a:pt x="1565" y="194"/>
                    </a:lnTo>
                    <a:lnTo>
                      <a:pt x="1548" y="205"/>
                    </a:lnTo>
                    <a:lnTo>
                      <a:pt x="1532" y="218"/>
                    </a:lnTo>
                    <a:lnTo>
                      <a:pt x="1517" y="232"/>
                    </a:lnTo>
                    <a:lnTo>
                      <a:pt x="1500" y="245"/>
                    </a:lnTo>
                    <a:lnTo>
                      <a:pt x="1485" y="260"/>
                    </a:lnTo>
                    <a:lnTo>
                      <a:pt x="1468" y="275"/>
                    </a:lnTo>
                    <a:lnTo>
                      <a:pt x="1454" y="291"/>
                    </a:lnTo>
                    <a:lnTo>
                      <a:pt x="1437" y="306"/>
                    </a:lnTo>
                    <a:lnTo>
                      <a:pt x="1422" y="321"/>
                    </a:lnTo>
                    <a:lnTo>
                      <a:pt x="1407" y="336"/>
                    </a:lnTo>
                    <a:lnTo>
                      <a:pt x="1394" y="351"/>
                    </a:lnTo>
                    <a:lnTo>
                      <a:pt x="1378" y="369"/>
                    </a:lnTo>
                    <a:lnTo>
                      <a:pt x="1367" y="384"/>
                    </a:lnTo>
                    <a:lnTo>
                      <a:pt x="1354" y="399"/>
                    </a:lnTo>
                    <a:lnTo>
                      <a:pt x="1340" y="416"/>
                    </a:lnTo>
                    <a:lnTo>
                      <a:pt x="1327" y="429"/>
                    </a:lnTo>
                    <a:lnTo>
                      <a:pt x="1316" y="446"/>
                    </a:lnTo>
                    <a:lnTo>
                      <a:pt x="1304" y="462"/>
                    </a:lnTo>
                    <a:lnTo>
                      <a:pt x="1293" y="479"/>
                    </a:lnTo>
                    <a:lnTo>
                      <a:pt x="1280" y="492"/>
                    </a:lnTo>
                    <a:lnTo>
                      <a:pt x="1270" y="509"/>
                    </a:lnTo>
                    <a:lnTo>
                      <a:pt x="1261" y="524"/>
                    </a:lnTo>
                    <a:lnTo>
                      <a:pt x="1251" y="540"/>
                    </a:lnTo>
                    <a:lnTo>
                      <a:pt x="1240" y="555"/>
                    </a:lnTo>
                    <a:lnTo>
                      <a:pt x="1230" y="570"/>
                    </a:lnTo>
                    <a:lnTo>
                      <a:pt x="1221" y="585"/>
                    </a:lnTo>
                    <a:lnTo>
                      <a:pt x="1213" y="601"/>
                    </a:lnTo>
                    <a:lnTo>
                      <a:pt x="1203" y="616"/>
                    </a:lnTo>
                    <a:lnTo>
                      <a:pt x="1196" y="631"/>
                    </a:lnTo>
                    <a:lnTo>
                      <a:pt x="1186" y="646"/>
                    </a:lnTo>
                    <a:lnTo>
                      <a:pt x="1181" y="661"/>
                    </a:lnTo>
                    <a:lnTo>
                      <a:pt x="1171" y="675"/>
                    </a:lnTo>
                    <a:lnTo>
                      <a:pt x="1164" y="690"/>
                    </a:lnTo>
                    <a:lnTo>
                      <a:pt x="1158" y="703"/>
                    </a:lnTo>
                    <a:lnTo>
                      <a:pt x="1152" y="718"/>
                    </a:lnTo>
                    <a:lnTo>
                      <a:pt x="1145" y="732"/>
                    </a:lnTo>
                    <a:lnTo>
                      <a:pt x="1139" y="745"/>
                    </a:lnTo>
                    <a:lnTo>
                      <a:pt x="1133" y="760"/>
                    </a:lnTo>
                    <a:lnTo>
                      <a:pt x="1127" y="775"/>
                    </a:lnTo>
                    <a:lnTo>
                      <a:pt x="1122" y="787"/>
                    </a:lnTo>
                    <a:lnTo>
                      <a:pt x="1116" y="800"/>
                    </a:lnTo>
                    <a:lnTo>
                      <a:pt x="1110" y="813"/>
                    </a:lnTo>
                    <a:lnTo>
                      <a:pt x="1107" y="825"/>
                    </a:lnTo>
                    <a:lnTo>
                      <a:pt x="1101" y="836"/>
                    </a:lnTo>
                    <a:lnTo>
                      <a:pt x="1097" y="850"/>
                    </a:lnTo>
                    <a:lnTo>
                      <a:pt x="1093" y="861"/>
                    </a:lnTo>
                    <a:lnTo>
                      <a:pt x="1089" y="874"/>
                    </a:lnTo>
                    <a:lnTo>
                      <a:pt x="1086" y="884"/>
                    </a:lnTo>
                    <a:lnTo>
                      <a:pt x="1082" y="895"/>
                    </a:lnTo>
                    <a:lnTo>
                      <a:pt x="1078" y="907"/>
                    </a:lnTo>
                    <a:lnTo>
                      <a:pt x="1074" y="918"/>
                    </a:lnTo>
                    <a:lnTo>
                      <a:pt x="1072" y="928"/>
                    </a:lnTo>
                    <a:lnTo>
                      <a:pt x="1069" y="939"/>
                    </a:lnTo>
                    <a:lnTo>
                      <a:pt x="1065" y="948"/>
                    </a:lnTo>
                    <a:lnTo>
                      <a:pt x="1063" y="958"/>
                    </a:lnTo>
                    <a:lnTo>
                      <a:pt x="1061" y="967"/>
                    </a:lnTo>
                    <a:lnTo>
                      <a:pt x="1057" y="977"/>
                    </a:lnTo>
                    <a:lnTo>
                      <a:pt x="1055" y="985"/>
                    </a:lnTo>
                    <a:lnTo>
                      <a:pt x="1053" y="994"/>
                    </a:lnTo>
                    <a:lnTo>
                      <a:pt x="1050" y="1002"/>
                    </a:lnTo>
                    <a:lnTo>
                      <a:pt x="1050" y="1009"/>
                    </a:lnTo>
                    <a:lnTo>
                      <a:pt x="1046" y="1017"/>
                    </a:lnTo>
                    <a:lnTo>
                      <a:pt x="1046" y="1023"/>
                    </a:lnTo>
                    <a:lnTo>
                      <a:pt x="1042" y="1028"/>
                    </a:lnTo>
                    <a:lnTo>
                      <a:pt x="1042" y="1036"/>
                    </a:lnTo>
                    <a:lnTo>
                      <a:pt x="1040" y="1042"/>
                    </a:lnTo>
                    <a:lnTo>
                      <a:pt x="1038" y="1047"/>
                    </a:lnTo>
                    <a:lnTo>
                      <a:pt x="1036" y="1057"/>
                    </a:lnTo>
                    <a:lnTo>
                      <a:pt x="1034" y="1066"/>
                    </a:lnTo>
                    <a:lnTo>
                      <a:pt x="1030" y="1072"/>
                    </a:lnTo>
                    <a:lnTo>
                      <a:pt x="1027" y="1080"/>
                    </a:lnTo>
                    <a:lnTo>
                      <a:pt x="1025" y="1087"/>
                    </a:lnTo>
                    <a:lnTo>
                      <a:pt x="1021" y="1095"/>
                    </a:lnTo>
                    <a:lnTo>
                      <a:pt x="1017" y="1103"/>
                    </a:lnTo>
                    <a:lnTo>
                      <a:pt x="1013" y="1110"/>
                    </a:lnTo>
                    <a:lnTo>
                      <a:pt x="1008" y="1116"/>
                    </a:lnTo>
                    <a:lnTo>
                      <a:pt x="1006" y="1125"/>
                    </a:lnTo>
                    <a:lnTo>
                      <a:pt x="1000" y="1133"/>
                    </a:lnTo>
                    <a:lnTo>
                      <a:pt x="996" y="1141"/>
                    </a:lnTo>
                    <a:lnTo>
                      <a:pt x="992" y="1148"/>
                    </a:lnTo>
                    <a:lnTo>
                      <a:pt x="987" y="1156"/>
                    </a:lnTo>
                    <a:lnTo>
                      <a:pt x="983" y="1161"/>
                    </a:lnTo>
                    <a:lnTo>
                      <a:pt x="979" y="1171"/>
                    </a:lnTo>
                    <a:lnTo>
                      <a:pt x="973" y="1177"/>
                    </a:lnTo>
                    <a:lnTo>
                      <a:pt x="970" y="1186"/>
                    </a:lnTo>
                    <a:lnTo>
                      <a:pt x="966" y="1192"/>
                    </a:lnTo>
                    <a:lnTo>
                      <a:pt x="960" y="1198"/>
                    </a:lnTo>
                    <a:lnTo>
                      <a:pt x="956" y="1205"/>
                    </a:lnTo>
                    <a:lnTo>
                      <a:pt x="954" y="1211"/>
                    </a:lnTo>
                    <a:lnTo>
                      <a:pt x="949" y="1217"/>
                    </a:lnTo>
                    <a:lnTo>
                      <a:pt x="945" y="1222"/>
                    </a:lnTo>
                    <a:lnTo>
                      <a:pt x="941" y="1228"/>
                    </a:lnTo>
                    <a:lnTo>
                      <a:pt x="939" y="1234"/>
                    </a:lnTo>
                    <a:lnTo>
                      <a:pt x="934" y="1241"/>
                    </a:lnTo>
                    <a:lnTo>
                      <a:pt x="932" y="1251"/>
                    </a:lnTo>
                    <a:lnTo>
                      <a:pt x="928" y="1255"/>
                    </a:lnTo>
                    <a:lnTo>
                      <a:pt x="930" y="1260"/>
                    </a:lnTo>
                    <a:lnTo>
                      <a:pt x="930" y="1266"/>
                    </a:lnTo>
                    <a:lnTo>
                      <a:pt x="934" y="1270"/>
                    </a:lnTo>
                    <a:lnTo>
                      <a:pt x="939" y="1274"/>
                    </a:lnTo>
                    <a:lnTo>
                      <a:pt x="949" y="1274"/>
                    </a:lnTo>
                    <a:lnTo>
                      <a:pt x="956" y="1270"/>
                    </a:lnTo>
                    <a:lnTo>
                      <a:pt x="966" y="1262"/>
                    </a:lnTo>
                    <a:lnTo>
                      <a:pt x="972" y="1255"/>
                    </a:lnTo>
                    <a:lnTo>
                      <a:pt x="977" y="1249"/>
                    </a:lnTo>
                    <a:lnTo>
                      <a:pt x="983" y="1241"/>
                    </a:lnTo>
                    <a:lnTo>
                      <a:pt x="989" y="1234"/>
                    </a:lnTo>
                    <a:lnTo>
                      <a:pt x="992" y="1226"/>
                    </a:lnTo>
                    <a:lnTo>
                      <a:pt x="994" y="1222"/>
                    </a:lnTo>
                    <a:lnTo>
                      <a:pt x="998" y="1215"/>
                    </a:lnTo>
                    <a:lnTo>
                      <a:pt x="1002" y="1209"/>
                    </a:lnTo>
                    <a:lnTo>
                      <a:pt x="1004" y="1203"/>
                    </a:lnTo>
                    <a:lnTo>
                      <a:pt x="1008" y="1196"/>
                    </a:lnTo>
                    <a:lnTo>
                      <a:pt x="1011" y="1188"/>
                    </a:lnTo>
                    <a:lnTo>
                      <a:pt x="1013" y="1180"/>
                    </a:lnTo>
                    <a:lnTo>
                      <a:pt x="1017" y="1173"/>
                    </a:lnTo>
                    <a:lnTo>
                      <a:pt x="1021" y="1165"/>
                    </a:lnTo>
                    <a:lnTo>
                      <a:pt x="1023" y="1156"/>
                    </a:lnTo>
                    <a:lnTo>
                      <a:pt x="1027" y="1148"/>
                    </a:lnTo>
                    <a:lnTo>
                      <a:pt x="1030" y="1139"/>
                    </a:lnTo>
                    <a:lnTo>
                      <a:pt x="1032" y="1129"/>
                    </a:lnTo>
                    <a:lnTo>
                      <a:pt x="1036" y="1122"/>
                    </a:lnTo>
                    <a:lnTo>
                      <a:pt x="1040" y="1112"/>
                    </a:lnTo>
                    <a:lnTo>
                      <a:pt x="1044" y="1103"/>
                    </a:lnTo>
                    <a:lnTo>
                      <a:pt x="1046" y="1093"/>
                    </a:lnTo>
                    <a:lnTo>
                      <a:pt x="1050" y="1083"/>
                    </a:lnTo>
                    <a:lnTo>
                      <a:pt x="1053" y="1076"/>
                    </a:lnTo>
                    <a:lnTo>
                      <a:pt x="1055" y="1066"/>
                    </a:lnTo>
                    <a:lnTo>
                      <a:pt x="1059" y="1057"/>
                    </a:lnTo>
                    <a:lnTo>
                      <a:pt x="1063" y="1047"/>
                    </a:lnTo>
                    <a:lnTo>
                      <a:pt x="1065" y="1040"/>
                    </a:lnTo>
                    <a:lnTo>
                      <a:pt x="1069" y="1030"/>
                    </a:lnTo>
                    <a:lnTo>
                      <a:pt x="1070" y="1023"/>
                    </a:lnTo>
                    <a:lnTo>
                      <a:pt x="1074" y="1015"/>
                    </a:lnTo>
                    <a:lnTo>
                      <a:pt x="1078" y="1009"/>
                    </a:lnTo>
                    <a:lnTo>
                      <a:pt x="1080" y="1002"/>
                    </a:lnTo>
                    <a:lnTo>
                      <a:pt x="1082" y="996"/>
                    </a:lnTo>
                    <a:lnTo>
                      <a:pt x="1086" y="990"/>
                    </a:lnTo>
                    <a:lnTo>
                      <a:pt x="1089" y="985"/>
                    </a:lnTo>
                    <a:lnTo>
                      <a:pt x="1091" y="977"/>
                    </a:lnTo>
                    <a:lnTo>
                      <a:pt x="1095" y="967"/>
                    </a:lnTo>
                    <a:lnTo>
                      <a:pt x="1097" y="958"/>
                    </a:lnTo>
                    <a:lnTo>
                      <a:pt x="1105" y="947"/>
                    </a:lnTo>
                    <a:lnTo>
                      <a:pt x="1107" y="939"/>
                    </a:lnTo>
                    <a:lnTo>
                      <a:pt x="1108" y="933"/>
                    </a:lnTo>
                    <a:lnTo>
                      <a:pt x="1110" y="926"/>
                    </a:lnTo>
                    <a:lnTo>
                      <a:pt x="1114" y="920"/>
                    </a:lnTo>
                    <a:lnTo>
                      <a:pt x="1118" y="910"/>
                    </a:lnTo>
                    <a:lnTo>
                      <a:pt x="1120" y="903"/>
                    </a:lnTo>
                    <a:lnTo>
                      <a:pt x="1126" y="895"/>
                    </a:lnTo>
                    <a:lnTo>
                      <a:pt x="1129" y="888"/>
                    </a:lnTo>
                    <a:lnTo>
                      <a:pt x="1133" y="878"/>
                    </a:lnTo>
                    <a:lnTo>
                      <a:pt x="1135" y="869"/>
                    </a:lnTo>
                    <a:lnTo>
                      <a:pt x="1139" y="859"/>
                    </a:lnTo>
                    <a:lnTo>
                      <a:pt x="1145" y="852"/>
                    </a:lnTo>
                    <a:lnTo>
                      <a:pt x="1146" y="840"/>
                    </a:lnTo>
                    <a:lnTo>
                      <a:pt x="1152" y="831"/>
                    </a:lnTo>
                    <a:lnTo>
                      <a:pt x="1156" y="821"/>
                    </a:lnTo>
                    <a:lnTo>
                      <a:pt x="1162" y="812"/>
                    </a:lnTo>
                    <a:lnTo>
                      <a:pt x="1165" y="800"/>
                    </a:lnTo>
                    <a:lnTo>
                      <a:pt x="1171" y="789"/>
                    </a:lnTo>
                    <a:lnTo>
                      <a:pt x="1175" y="779"/>
                    </a:lnTo>
                    <a:lnTo>
                      <a:pt x="1181" y="768"/>
                    </a:lnTo>
                    <a:lnTo>
                      <a:pt x="1186" y="756"/>
                    </a:lnTo>
                    <a:lnTo>
                      <a:pt x="1192" y="745"/>
                    </a:lnTo>
                    <a:lnTo>
                      <a:pt x="1198" y="734"/>
                    </a:lnTo>
                    <a:lnTo>
                      <a:pt x="1203" y="724"/>
                    </a:lnTo>
                    <a:lnTo>
                      <a:pt x="1209" y="711"/>
                    </a:lnTo>
                    <a:lnTo>
                      <a:pt x="1215" y="699"/>
                    </a:lnTo>
                    <a:lnTo>
                      <a:pt x="1221" y="688"/>
                    </a:lnTo>
                    <a:lnTo>
                      <a:pt x="1228" y="677"/>
                    </a:lnTo>
                    <a:lnTo>
                      <a:pt x="1234" y="665"/>
                    </a:lnTo>
                    <a:lnTo>
                      <a:pt x="1240" y="652"/>
                    </a:lnTo>
                    <a:lnTo>
                      <a:pt x="1247" y="640"/>
                    </a:lnTo>
                    <a:lnTo>
                      <a:pt x="1253" y="629"/>
                    </a:lnTo>
                    <a:lnTo>
                      <a:pt x="1259" y="618"/>
                    </a:lnTo>
                    <a:lnTo>
                      <a:pt x="1266" y="604"/>
                    </a:lnTo>
                    <a:lnTo>
                      <a:pt x="1272" y="593"/>
                    </a:lnTo>
                    <a:lnTo>
                      <a:pt x="1280" y="582"/>
                    </a:lnTo>
                    <a:lnTo>
                      <a:pt x="1285" y="570"/>
                    </a:lnTo>
                    <a:lnTo>
                      <a:pt x="1293" y="559"/>
                    </a:lnTo>
                    <a:lnTo>
                      <a:pt x="1300" y="547"/>
                    </a:lnTo>
                    <a:lnTo>
                      <a:pt x="1308" y="536"/>
                    </a:lnTo>
                    <a:lnTo>
                      <a:pt x="1316" y="523"/>
                    </a:lnTo>
                    <a:lnTo>
                      <a:pt x="1323" y="513"/>
                    </a:lnTo>
                    <a:lnTo>
                      <a:pt x="1331" y="502"/>
                    </a:lnTo>
                    <a:lnTo>
                      <a:pt x="1338" y="490"/>
                    </a:lnTo>
                    <a:lnTo>
                      <a:pt x="1346" y="479"/>
                    </a:lnTo>
                    <a:lnTo>
                      <a:pt x="1354" y="469"/>
                    </a:lnTo>
                    <a:lnTo>
                      <a:pt x="1361" y="456"/>
                    </a:lnTo>
                    <a:lnTo>
                      <a:pt x="1371" y="446"/>
                    </a:lnTo>
                    <a:lnTo>
                      <a:pt x="1378" y="437"/>
                    </a:lnTo>
                    <a:lnTo>
                      <a:pt x="1386" y="426"/>
                    </a:lnTo>
                    <a:lnTo>
                      <a:pt x="1394" y="416"/>
                    </a:lnTo>
                    <a:lnTo>
                      <a:pt x="1403" y="407"/>
                    </a:lnTo>
                    <a:lnTo>
                      <a:pt x="1411" y="397"/>
                    </a:lnTo>
                    <a:lnTo>
                      <a:pt x="1420" y="388"/>
                    </a:lnTo>
                    <a:lnTo>
                      <a:pt x="1428" y="380"/>
                    </a:lnTo>
                    <a:lnTo>
                      <a:pt x="1437" y="372"/>
                    </a:lnTo>
                    <a:lnTo>
                      <a:pt x="1445" y="363"/>
                    </a:lnTo>
                    <a:lnTo>
                      <a:pt x="1454" y="353"/>
                    </a:lnTo>
                    <a:lnTo>
                      <a:pt x="1462" y="346"/>
                    </a:lnTo>
                    <a:lnTo>
                      <a:pt x="1472" y="336"/>
                    </a:lnTo>
                    <a:lnTo>
                      <a:pt x="1481" y="329"/>
                    </a:lnTo>
                    <a:lnTo>
                      <a:pt x="1491" y="321"/>
                    </a:lnTo>
                    <a:lnTo>
                      <a:pt x="1500" y="313"/>
                    </a:lnTo>
                    <a:lnTo>
                      <a:pt x="1510" y="306"/>
                    </a:lnTo>
                    <a:lnTo>
                      <a:pt x="1517" y="296"/>
                    </a:lnTo>
                    <a:lnTo>
                      <a:pt x="1527" y="289"/>
                    </a:lnTo>
                    <a:lnTo>
                      <a:pt x="1536" y="281"/>
                    </a:lnTo>
                    <a:lnTo>
                      <a:pt x="1546" y="275"/>
                    </a:lnTo>
                    <a:lnTo>
                      <a:pt x="1555" y="268"/>
                    </a:lnTo>
                    <a:lnTo>
                      <a:pt x="1565" y="260"/>
                    </a:lnTo>
                    <a:lnTo>
                      <a:pt x="1574" y="253"/>
                    </a:lnTo>
                    <a:lnTo>
                      <a:pt x="1586" y="247"/>
                    </a:lnTo>
                    <a:lnTo>
                      <a:pt x="1595" y="239"/>
                    </a:lnTo>
                    <a:lnTo>
                      <a:pt x="1605" y="232"/>
                    </a:lnTo>
                    <a:lnTo>
                      <a:pt x="1614" y="226"/>
                    </a:lnTo>
                    <a:lnTo>
                      <a:pt x="1624" y="220"/>
                    </a:lnTo>
                    <a:lnTo>
                      <a:pt x="1633" y="213"/>
                    </a:lnTo>
                    <a:lnTo>
                      <a:pt x="1643" y="207"/>
                    </a:lnTo>
                    <a:lnTo>
                      <a:pt x="1652" y="201"/>
                    </a:lnTo>
                    <a:lnTo>
                      <a:pt x="1662" y="196"/>
                    </a:lnTo>
                    <a:lnTo>
                      <a:pt x="1669" y="188"/>
                    </a:lnTo>
                    <a:lnTo>
                      <a:pt x="1679" y="182"/>
                    </a:lnTo>
                    <a:lnTo>
                      <a:pt x="1688" y="176"/>
                    </a:lnTo>
                    <a:lnTo>
                      <a:pt x="1698" y="171"/>
                    </a:lnTo>
                    <a:lnTo>
                      <a:pt x="1707" y="167"/>
                    </a:lnTo>
                    <a:lnTo>
                      <a:pt x="1717" y="161"/>
                    </a:lnTo>
                    <a:lnTo>
                      <a:pt x="1726" y="157"/>
                    </a:lnTo>
                    <a:lnTo>
                      <a:pt x="1736" y="152"/>
                    </a:lnTo>
                    <a:lnTo>
                      <a:pt x="1743" y="146"/>
                    </a:lnTo>
                    <a:lnTo>
                      <a:pt x="1753" y="142"/>
                    </a:lnTo>
                    <a:lnTo>
                      <a:pt x="1761" y="137"/>
                    </a:lnTo>
                    <a:lnTo>
                      <a:pt x="1770" y="133"/>
                    </a:lnTo>
                    <a:lnTo>
                      <a:pt x="1778" y="129"/>
                    </a:lnTo>
                    <a:lnTo>
                      <a:pt x="1785" y="123"/>
                    </a:lnTo>
                    <a:lnTo>
                      <a:pt x="1795" y="119"/>
                    </a:lnTo>
                    <a:lnTo>
                      <a:pt x="1802" y="118"/>
                    </a:lnTo>
                    <a:lnTo>
                      <a:pt x="1810" y="112"/>
                    </a:lnTo>
                    <a:lnTo>
                      <a:pt x="1818" y="110"/>
                    </a:lnTo>
                    <a:lnTo>
                      <a:pt x="1825" y="106"/>
                    </a:lnTo>
                    <a:lnTo>
                      <a:pt x="1833" y="102"/>
                    </a:lnTo>
                    <a:lnTo>
                      <a:pt x="1838" y="100"/>
                    </a:lnTo>
                    <a:lnTo>
                      <a:pt x="1846" y="97"/>
                    </a:lnTo>
                    <a:lnTo>
                      <a:pt x="1854" y="93"/>
                    </a:lnTo>
                    <a:lnTo>
                      <a:pt x="1861" y="91"/>
                    </a:lnTo>
                    <a:lnTo>
                      <a:pt x="1867" y="87"/>
                    </a:lnTo>
                    <a:lnTo>
                      <a:pt x="1873" y="85"/>
                    </a:lnTo>
                    <a:lnTo>
                      <a:pt x="1878" y="83"/>
                    </a:lnTo>
                    <a:lnTo>
                      <a:pt x="1886" y="81"/>
                    </a:lnTo>
                    <a:lnTo>
                      <a:pt x="1890" y="78"/>
                    </a:lnTo>
                    <a:lnTo>
                      <a:pt x="1897" y="78"/>
                    </a:lnTo>
                    <a:lnTo>
                      <a:pt x="1903" y="76"/>
                    </a:lnTo>
                    <a:lnTo>
                      <a:pt x="1907" y="76"/>
                    </a:lnTo>
                    <a:lnTo>
                      <a:pt x="1916" y="72"/>
                    </a:lnTo>
                    <a:lnTo>
                      <a:pt x="1926" y="70"/>
                    </a:lnTo>
                    <a:lnTo>
                      <a:pt x="1932" y="68"/>
                    </a:lnTo>
                    <a:lnTo>
                      <a:pt x="1939" y="68"/>
                    </a:lnTo>
                    <a:lnTo>
                      <a:pt x="1949" y="66"/>
                    </a:lnTo>
                    <a:lnTo>
                      <a:pt x="1956" y="68"/>
                    </a:lnTo>
                    <a:lnTo>
                      <a:pt x="1962" y="68"/>
                    </a:lnTo>
                    <a:lnTo>
                      <a:pt x="1968" y="72"/>
                    </a:lnTo>
                    <a:lnTo>
                      <a:pt x="1970" y="74"/>
                    </a:lnTo>
                    <a:lnTo>
                      <a:pt x="1970" y="78"/>
                    </a:lnTo>
                    <a:lnTo>
                      <a:pt x="1970" y="83"/>
                    </a:lnTo>
                    <a:lnTo>
                      <a:pt x="1968" y="91"/>
                    </a:lnTo>
                    <a:lnTo>
                      <a:pt x="1964" y="97"/>
                    </a:lnTo>
                    <a:lnTo>
                      <a:pt x="1958" y="106"/>
                    </a:lnTo>
                    <a:lnTo>
                      <a:pt x="1953" y="116"/>
                    </a:lnTo>
                    <a:lnTo>
                      <a:pt x="1945" y="125"/>
                    </a:lnTo>
                    <a:lnTo>
                      <a:pt x="1935" y="135"/>
                    </a:lnTo>
                    <a:lnTo>
                      <a:pt x="1926" y="146"/>
                    </a:lnTo>
                    <a:lnTo>
                      <a:pt x="1920" y="152"/>
                    </a:lnTo>
                    <a:lnTo>
                      <a:pt x="1915" y="159"/>
                    </a:lnTo>
                    <a:lnTo>
                      <a:pt x="1907" y="165"/>
                    </a:lnTo>
                    <a:lnTo>
                      <a:pt x="1903" y="171"/>
                    </a:lnTo>
                    <a:lnTo>
                      <a:pt x="1894" y="176"/>
                    </a:lnTo>
                    <a:lnTo>
                      <a:pt x="1886" y="186"/>
                    </a:lnTo>
                    <a:lnTo>
                      <a:pt x="1875" y="196"/>
                    </a:lnTo>
                    <a:lnTo>
                      <a:pt x="1865" y="207"/>
                    </a:lnTo>
                    <a:lnTo>
                      <a:pt x="1859" y="213"/>
                    </a:lnTo>
                    <a:lnTo>
                      <a:pt x="1852" y="218"/>
                    </a:lnTo>
                    <a:lnTo>
                      <a:pt x="1846" y="226"/>
                    </a:lnTo>
                    <a:lnTo>
                      <a:pt x="1840" y="234"/>
                    </a:lnTo>
                    <a:lnTo>
                      <a:pt x="1833" y="239"/>
                    </a:lnTo>
                    <a:lnTo>
                      <a:pt x="1827" y="249"/>
                    </a:lnTo>
                    <a:lnTo>
                      <a:pt x="1819" y="254"/>
                    </a:lnTo>
                    <a:lnTo>
                      <a:pt x="1814" y="264"/>
                    </a:lnTo>
                    <a:lnTo>
                      <a:pt x="1804" y="272"/>
                    </a:lnTo>
                    <a:lnTo>
                      <a:pt x="1799" y="281"/>
                    </a:lnTo>
                    <a:lnTo>
                      <a:pt x="1789" y="291"/>
                    </a:lnTo>
                    <a:lnTo>
                      <a:pt x="1781" y="300"/>
                    </a:lnTo>
                    <a:lnTo>
                      <a:pt x="1774" y="310"/>
                    </a:lnTo>
                    <a:lnTo>
                      <a:pt x="1766" y="319"/>
                    </a:lnTo>
                    <a:lnTo>
                      <a:pt x="1757" y="329"/>
                    </a:lnTo>
                    <a:lnTo>
                      <a:pt x="1749" y="340"/>
                    </a:lnTo>
                    <a:lnTo>
                      <a:pt x="1740" y="350"/>
                    </a:lnTo>
                    <a:lnTo>
                      <a:pt x="1732" y="359"/>
                    </a:lnTo>
                    <a:lnTo>
                      <a:pt x="1724" y="370"/>
                    </a:lnTo>
                    <a:lnTo>
                      <a:pt x="1715" y="380"/>
                    </a:lnTo>
                    <a:lnTo>
                      <a:pt x="1705" y="391"/>
                    </a:lnTo>
                    <a:lnTo>
                      <a:pt x="1698" y="403"/>
                    </a:lnTo>
                    <a:lnTo>
                      <a:pt x="1688" y="412"/>
                    </a:lnTo>
                    <a:lnTo>
                      <a:pt x="1681" y="426"/>
                    </a:lnTo>
                    <a:lnTo>
                      <a:pt x="1671" y="437"/>
                    </a:lnTo>
                    <a:lnTo>
                      <a:pt x="1662" y="448"/>
                    </a:lnTo>
                    <a:lnTo>
                      <a:pt x="1652" y="460"/>
                    </a:lnTo>
                    <a:lnTo>
                      <a:pt x="1643" y="471"/>
                    </a:lnTo>
                    <a:lnTo>
                      <a:pt x="1633" y="481"/>
                    </a:lnTo>
                    <a:lnTo>
                      <a:pt x="1624" y="494"/>
                    </a:lnTo>
                    <a:lnTo>
                      <a:pt x="1616" y="504"/>
                    </a:lnTo>
                    <a:lnTo>
                      <a:pt x="1607" y="517"/>
                    </a:lnTo>
                    <a:lnTo>
                      <a:pt x="1597" y="528"/>
                    </a:lnTo>
                    <a:lnTo>
                      <a:pt x="1588" y="540"/>
                    </a:lnTo>
                    <a:lnTo>
                      <a:pt x="1580" y="551"/>
                    </a:lnTo>
                    <a:lnTo>
                      <a:pt x="1570" y="564"/>
                    </a:lnTo>
                    <a:lnTo>
                      <a:pt x="1561" y="574"/>
                    </a:lnTo>
                    <a:lnTo>
                      <a:pt x="1553" y="585"/>
                    </a:lnTo>
                    <a:lnTo>
                      <a:pt x="1546" y="597"/>
                    </a:lnTo>
                    <a:lnTo>
                      <a:pt x="1538" y="610"/>
                    </a:lnTo>
                    <a:lnTo>
                      <a:pt x="1529" y="621"/>
                    </a:lnTo>
                    <a:lnTo>
                      <a:pt x="1521" y="631"/>
                    </a:lnTo>
                    <a:lnTo>
                      <a:pt x="1511" y="642"/>
                    </a:lnTo>
                    <a:lnTo>
                      <a:pt x="1504" y="654"/>
                    </a:lnTo>
                    <a:lnTo>
                      <a:pt x="1496" y="665"/>
                    </a:lnTo>
                    <a:lnTo>
                      <a:pt x="1489" y="677"/>
                    </a:lnTo>
                    <a:lnTo>
                      <a:pt x="1481" y="686"/>
                    </a:lnTo>
                    <a:lnTo>
                      <a:pt x="1473" y="697"/>
                    </a:lnTo>
                    <a:lnTo>
                      <a:pt x="1466" y="707"/>
                    </a:lnTo>
                    <a:lnTo>
                      <a:pt x="1458" y="718"/>
                    </a:lnTo>
                    <a:lnTo>
                      <a:pt x="1453" y="730"/>
                    </a:lnTo>
                    <a:lnTo>
                      <a:pt x="1447" y="739"/>
                    </a:lnTo>
                    <a:lnTo>
                      <a:pt x="1439" y="749"/>
                    </a:lnTo>
                    <a:lnTo>
                      <a:pt x="1434" y="758"/>
                    </a:lnTo>
                    <a:lnTo>
                      <a:pt x="1428" y="768"/>
                    </a:lnTo>
                    <a:lnTo>
                      <a:pt x="1424" y="779"/>
                    </a:lnTo>
                    <a:lnTo>
                      <a:pt x="1416" y="787"/>
                    </a:lnTo>
                    <a:lnTo>
                      <a:pt x="1411" y="796"/>
                    </a:lnTo>
                    <a:lnTo>
                      <a:pt x="1407" y="804"/>
                    </a:lnTo>
                    <a:lnTo>
                      <a:pt x="1401" y="813"/>
                    </a:lnTo>
                    <a:lnTo>
                      <a:pt x="1396" y="819"/>
                    </a:lnTo>
                    <a:lnTo>
                      <a:pt x="1392" y="829"/>
                    </a:lnTo>
                    <a:lnTo>
                      <a:pt x="1386" y="836"/>
                    </a:lnTo>
                    <a:lnTo>
                      <a:pt x="1382" y="844"/>
                    </a:lnTo>
                    <a:lnTo>
                      <a:pt x="1378" y="852"/>
                    </a:lnTo>
                    <a:lnTo>
                      <a:pt x="1373" y="857"/>
                    </a:lnTo>
                    <a:lnTo>
                      <a:pt x="1369" y="865"/>
                    </a:lnTo>
                    <a:lnTo>
                      <a:pt x="1367" y="872"/>
                    </a:lnTo>
                    <a:lnTo>
                      <a:pt x="1361" y="878"/>
                    </a:lnTo>
                    <a:lnTo>
                      <a:pt x="1359" y="884"/>
                    </a:lnTo>
                    <a:lnTo>
                      <a:pt x="1356" y="891"/>
                    </a:lnTo>
                    <a:lnTo>
                      <a:pt x="1352" y="897"/>
                    </a:lnTo>
                    <a:lnTo>
                      <a:pt x="1344" y="909"/>
                    </a:lnTo>
                    <a:lnTo>
                      <a:pt x="1340" y="918"/>
                    </a:lnTo>
                    <a:lnTo>
                      <a:pt x="1333" y="928"/>
                    </a:lnTo>
                    <a:lnTo>
                      <a:pt x="1331" y="937"/>
                    </a:lnTo>
                    <a:lnTo>
                      <a:pt x="1325" y="945"/>
                    </a:lnTo>
                    <a:lnTo>
                      <a:pt x="1321" y="952"/>
                    </a:lnTo>
                    <a:lnTo>
                      <a:pt x="1318" y="958"/>
                    </a:lnTo>
                    <a:lnTo>
                      <a:pt x="1318" y="964"/>
                    </a:lnTo>
                    <a:lnTo>
                      <a:pt x="1314" y="973"/>
                    </a:lnTo>
                    <a:lnTo>
                      <a:pt x="1314" y="979"/>
                    </a:lnTo>
                    <a:lnTo>
                      <a:pt x="1314" y="983"/>
                    </a:lnTo>
                    <a:lnTo>
                      <a:pt x="1318" y="983"/>
                    </a:lnTo>
                    <a:lnTo>
                      <a:pt x="1321" y="979"/>
                    </a:lnTo>
                    <a:lnTo>
                      <a:pt x="1329" y="973"/>
                    </a:lnTo>
                    <a:lnTo>
                      <a:pt x="1333" y="967"/>
                    </a:lnTo>
                    <a:lnTo>
                      <a:pt x="1337" y="964"/>
                    </a:lnTo>
                    <a:lnTo>
                      <a:pt x="1342" y="958"/>
                    </a:lnTo>
                    <a:lnTo>
                      <a:pt x="1350" y="954"/>
                    </a:lnTo>
                    <a:lnTo>
                      <a:pt x="1354" y="945"/>
                    </a:lnTo>
                    <a:lnTo>
                      <a:pt x="1361" y="935"/>
                    </a:lnTo>
                    <a:lnTo>
                      <a:pt x="1365" y="929"/>
                    </a:lnTo>
                    <a:lnTo>
                      <a:pt x="1371" y="922"/>
                    </a:lnTo>
                    <a:lnTo>
                      <a:pt x="1375" y="916"/>
                    </a:lnTo>
                    <a:lnTo>
                      <a:pt x="1380" y="910"/>
                    </a:lnTo>
                    <a:lnTo>
                      <a:pt x="1386" y="901"/>
                    </a:lnTo>
                    <a:lnTo>
                      <a:pt x="1392" y="893"/>
                    </a:lnTo>
                    <a:lnTo>
                      <a:pt x="1397" y="884"/>
                    </a:lnTo>
                    <a:lnTo>
                      <a:pt x="1405" y="876"/>
                    </a:lnTo>
                    <a:lnTo>
                      <a:pt x="1411" y="867"/>
                    </a:lnTo>
                    <a:lnTo>
                      <a:pt x="1416" y="857"/>
                    </a:lnTo>
                    <a:lnTo>
                      <a:pt x="1424" y="848"/>
                    </a:lnTo>
                    <a:lnTo>
                      <a:pt x="1434" y="838"/>
                    </a:lnTo>
                    <a:lnTo>
                      <a:pt x="1439" y="827"/>
                    </a:lnTo>
                    <a:lnTo>
                      <a:pt x="1447" y="815"/>
                    </a:lnTo>
                    <a:lnTo>
                      <a:pt x="1454" y="804"/>
                    </a:lnTo>
                    <a:lnTo>
                      <a:pt x="1462" y="794"/>
                    </a:lnTo>
                    <a:lnTo>
                      <a:pt x="1470" y="781"/>
                    </a:lnTo>
                    <a:lnTo>
                      <a:pt x="1479" y="770"/>
                    </a:lnTo>
                    <a:lnTo>
                      <a:pt x="1487" y="758"/>
                    </a:lnTo>
                    <a:lnTo>
                      <a:pt x="1496" y="745"/>
                    </a:lnTo>
                    <a:lnTo>
                      <a:pt x="1504" y="734"/>
                    </a:lnTo>
                    <a:lnTo>
                      <a:pt x="1513" y="720"/>
                    </a:lnTo>
                    <a:lnTo>
                      <a:pt x="1521" y="707"/>
                    </a:lnTo>
                    <a:lnTo>
                      <a:pt x="1530" y="696"/>
                    </a:lnTo>
                    <a:lnTo>
                      <a:pt x="1540" y="684"/>
                    </a:lnTo>
                    <a:lnTo>
                      <a:pt x="1549" y="671"/>
                    </a:lnTo>
                    <a:lnTo>
                      <a:pt x="1559" y="658"/>
                    </a:lnTo>
                    <a:lnTo>
                      <a:pt x="1569" y="646"/>
                    </a:lnTo>
                    <a:lnTo>
                      <a:pt x="1578" y="631"/>
                    </a:lnTo>
                    <a:lnTo>
                      <a:pt x="1588" y="618"/>
                    </a:lnTo>
                    <a:lnTo>
                      <a:pt x="1595" y="604"/>
                    </a:lnTo>
                    <a:lnTo>
                      <a:pt x="1605" y="593"/>
                    </a:lnTo>
                    <a:lnTo>
                      <a:pt x="1614" y="578"/>
                    </a:lnTo>
                    <a:lnTo>
                      <a:pt x="1624" y="566"/>
                    </a:lnTo>
                    <a:lnTo>
                      <a:pt x="1633" y="553"/>
                    </a:lnTo>
                    <a:lnTo>
                      <a:pt x="1643" y="540"/>
                    </a:lnTo>
                    <a:lnTo>
                      <a:pt x="1650" y="528"/>
                    </a:lnTo>
                    <a:lnTo>
                      <a:pt x="1660" y="515"/>
                    </a:lnTo>
                    <a:lnTo>
                      <a:pt x="1667" y="502"/>
                    </a:lnTo>
                    <a:lnTo>
                      <a:pt x="1677" y="490"/>
                    </a:lnTo>
                    <a:lnTo>
                      <a:pt x="1686" y="479"/>
                    </a:lnTo>
                    <a:lnTo>
                      <a:pt x="1694" y="467"/>
                    </a:lnTo>
                    <a:lnTo>
                      <a:pt x="1702" y="456"/>
                    </a:lnTo>
                    <a:lnTo>
                      <a:pt x="1711" y="445"/>
                    </a:lnTo>
                    <a:lnTo>
                      <a:pt x="1719" y="431"/>
                    </a:lnTo>
                    <a:lnTo>
                      <a:pt x="1728" y="422"/>
                    </a:lnTo>
                    <a:lnTo>
                      <a:pt x="1736" y="410"/>
                    </a:lnTo>
                    <a:lnTo>
                      <a:pt x="1743" y="401"/>
                    </a:lnTo>
                    <a:lnTo>
                      <a:pt x="1751" y="391"/>
                    </a:lnTo>
                    <a:lnTo>
                      <a:pt x="1759" y="382"/>
                    </a:lnTo>
                    <a:lnTo>
                      <a:pt x="1766" y="372"/>
                    </a:lnTo>
                    <a:lnTo>
                      <a:pt x="1774" y="365"/>
                    </a:lnTo>
                    <a:lnTo>
                      <a:pt x="1781" y="355"/>
                    </a:lnTo>
                    <a:lnTo>
                      <a:pt x="1787" y="348"/>
                    </a:lnTo>
                    <a:lnTo>
                      <a:pt x="1793" y="340"/>
                    </a:lnTo>
                    <a:lnTo>
                      <a:pt x="1800" y="334"/>
                    </a:lnTo>
                    <a:lnTo>
                      <a:pt x="1804" y="327"/>
                    </a:lnTo>
                    <a:lnTo>
                      <a:pt x="1812" y="321"/>
                    </a:lnTo>
                    <a:lnTo>
                      <a:pt x="1818" y="315"/>
                    </a:lnTo>
                    <a:lnTo>
                      <a:pt x="1823" y="311"/>
                    </a:lnTo>
                    <a:lnTo>
                      <a:pt x="1833" y="300"/>
                    </a:lnTo>
                    <a:lnTo>
                      <a:pt x="1842" y="291"/>
                    </a:lnTo>
                    <a:lnTo>
                      <a:pt x="1852" y="281"/>
                    </a:lnTo>
                    <a:lnTo>
                      <a:pt x="1861" y="272"/>
                    </a:lnTo>
                    <a:lnTo>
                      <a:pt x="1869" y="260"/>
                    </a:lnTo>
                    <a:lnTo>
                      <a:pt x="1878" y="251"/>
                    </a:lnTo>
                    <a:lnTo>
                      <a:pt x="1886" y="241"/>
                    </a:lnTo>
                    <a:lnTo>
                      <a:pt x="1896" y="232"/>
                    </a:lnTo>
                    <a:lnTo>
                      <a:pt x="1903" y="222"/>
                    </a:lnTo>
                    <a:lnTo>
                      <a:pt x="1913" y="213"/>
                    </a:lnTo>
                    <a:lnTo>
                      <a:pt x="1920" y="203"/>
                    </a:lnTo>
                    <a:lnTo>
                      <a:pt x="1928" y="194"/>
                    </a:lnTo>
                    <a:lnTo>
                      <a:pt x="1934" y="184"/>
                    </a:lnTo>
                    <a:lnTo>
                      <a:pt x="1941" y="175"/>
                    </a:lnTo>
                    <a:lnTo>
                      <a:pt x="1949" y="165"/>
                    </a:lnTo>
                    <a:lnTo>
                      <a:pt x="1956" y="157"/>
                    </a:lnTo>
                    <a:lnTo>
                      <a:pt x="1962" y="148"/>
                    </a:lnTo>
                    <a:lnTo>
                      <a:pt x="1968" y="140"/>
                    </a:lnTo>
                    <a:lnTo>
                      <a:pt x="1973" y="131"/>
                    </a:lnTo>
                    <a:lnTo>
                      <a:pt x="1981" y="125"/>
                    </a:lnTo>
                    <a:lnTo>
                      <a:pt x="1987" y="118"/>
                    </a:lnTo>
                    <a:lnTo>
                      <a:pt x="1991" y="110"/>
                    </a:lnTo>
                    <a:lnTo>
                      <a:pt x="1996" y="104"/>
                    </a:lnTo>
                    <a:lnTo>
                      <a:pt x="2002" y="99"/>
                    </a:lnTo>
                    <a:lnTo>
                      <a:pt x="2006" y="93"/>
                    </a:lnTo>
                    <a:lnTo>
                      <a:pt x="2010" y="85"/>
                    </a:lnTo>
                    <a:lnTo>
                      <a:pt x="2015" y="81"/>
                    </a:lnTo>
                    <a:lnTo>
                      <a:pt x="2019" y="76"/>
                    </a:lnTo>
                    <a:lnTo>
                      <a:pt x="2027" y="68"/>
                    </a:lnTo>
                    <a:lnTo>
                      <a:pt x="2034" y="64"/>
                    </a:lnTo>
                    <a:lnTo>
                      <a:pt x="2042" y="59"/>
                    </a:lnTo>
                    <a:lnTo>
                      <a:pt x="2048" y="55"/>
                    </a:lnTo>
                    <a:lnTo>
                      <a:pt x="2055" y="49"/>
                    </a:lnTo>
                    <a:lnTo>
                      <a:pt x="2063" y="47"/>
                    </a:lnTo>
                    <a:lnTo>
                      <a:pt x="2070" y="41"/>
                    </a:lnTo>
                    <a:lnTo>
                      <a:pt x="2078" y="38"/>
                    </a:lnTo>
                    <a:lnTo>
                      <a:pt x="2086" y="36"/>
                    </a:lnTo>
                    <a:lnTo>
                      <a:pt x="2093" y="34"/>
                    </a:lnTo>
                    <a:lnTo>
                      <a:pt x="2101" y="32"/>
                    </a:lnTo>
                    <a:lnTo>
                      <a:pt x="2107" y="32"/>
                    </a:lnTo>
                    <a:lnTo>
                      <a:pt x="2110" y="32"/>
                    </a:lnTo>
                    <a:lnTo>
                      <a:pt x="2116" y="36"/>
                    </a:lnTo>
                    <a:lnTo>
                      <a:pt x="2120" y="38"/>
                    </a:lnTo>
                    <a:lnTo>
                      <a:pt x="2122" y="41"/>
                    </a:lnTo>
                    <a:lnTo>
                      <a:pt x="2122" y="49"/>
                    </a:lnTo>
                    <a:lnTo>
                      <a:pt x="2124" y="59"/>
                    </a:lnTo>
                    <a:lnTo>
                      <a:pt x="2120" y="62"/>
                    </a:lnTo>
                    <a:lnTo>
                      <a:pt x="2118" y="68"/>
                    </a:lnTo>
                    <a:lnTo>
                      <a:pt x="2112" y="76"/>
                    </a:lnTo>
                    <a:lnTo>
                      <a:pt x="2108" y="87"/>
                    </a:lnTo>
                    <a:lnTo>
                      <a:pt x="2099" y="97"/>
                    </a:lnTo>
                    <a:lnTo>
                      <a:pt x="2091" y="108"/>
                    </a:lnTo>
                    <a:lnTo>
                      <a:pt x="2086" y="114"/>
                    </a:lnTo>
                    <a:lnTo>
                      <a:pt x="2080" y="121"/>
                    </a:lnTo>
                    <a:lnTo>
                      <a:pt x="2074" y="129"/>
                    </a:lnTo>
                    <a:lnTo>
                      <a:pt x="2070" y="137"/>
                    </a:lnTo>
                    <a:lnTo>
                      <a:pt x="2063" y="142"/>
                    </a:lnTo>
                    <a:lnTo>
                      <a:pt x="2057" y="150"/>
                    </a:lnTo>
                    <a:lnTo>
                      <a:pt x="2051" y="157"/>
                    </a:lnTo>
                    <a:lnTo>
                      <a:pt x="2044" y="165"/>
                    </a:lnTo>
                    <a:lnTo>
                      <a:pt x="2036" y="173"/>
                    </a:lnTo>
                    <a:lnTo>
                      <a:pt x="2029" y="180"/>
                    </a:lnTo>
                    <a:lnTo>
                      <a:pt x="2021" y="190"/>
                    </a:lnTo>
                    <a:lnTo>
                      <a:pt x="2015" y="199"/>
                    </a:lnTo>
                    <a:lnTo>
                      <a:pt x="2008" y="207"/>
                    </a:lnTo>
                    <a:lnTo>
                      <a:pt x="2000" y="215"/>
                    </a:lnTo>
                    <a:lnTo>
                      <a:pt x="1992" y="224"/>
                    </a:lnTo>
                    <a:lnTo>
                      <a:pt x="1985" y="234"/>
                    </a:lnTo>
                    <a:lnTo>
                      <a:pt x="1977" y="243"/>
                    </a:lnTo>
                    <a:lnTo>
                      <a:pt x="1970" y="253"/>
                    </a:lnTo>
                    <a:lnTo>
                      <a:pt x="1960" y="262"/>
                    </a:lnTo>
                    <a:lnTo>
                      <a:pt x="1953" y="272"/>
                    </a:lnTo>
                    <a:lnTo>
                      <a:pt x="1943" y="281"/>
                    </a:lnTo>
                    <a:lnTo>
                      <a:pt x="1935" y="291"/>
                    </a:lnTo>
                    <a:lnTo>
                      <a:pt x="1926" y="300"/>
                    </a:lnTo>
                    <a:lnTo>
                      <a:pt x="1918" y="310"/>
                    </a:lnTo>
                    <a:lnTo>
                      <a:pt x="1909" y="321"/>
                    </a:lnTo>
                    <a:lnTo>
                      <a:pt x="1901" y="331"/>
                    </a:lnTo>
                    <a:lnTo>
                      <a:pt x="1892" y="340"/>
                    </a:lnTo>
                    <a:lnTo>
                      <a:pt x="1884" y="350"/>
                    </a:lnTo>
                    <a:lnTo>
                      <a:pt x="1875" y="359"/>
                    </a:lnTo>
                    <a:lnTo>
                      <a:pt x="1865" y="369"/>
                    </a:lnTo>
                    <a:lnTo>
                      <a:pt x="1857" y="378"/>
                    </a:lnTo>
                    <a:lnTo>
                      <a:pt x="1848" y="388"/>
                    </a:lnTo>
                    <a:lnTo>
                      <a:pt x="1840" y="397"/>
                    </a:lnTo>
                    <a:lnTo>
                      <a:pt x="1831" y="407"/>
                    </a:lnTo>
                    <a:lnTo>
                      <a:pt x="1823" y="416"/>
                    </a:lnTo>
                    <a:lnTo>
                      <a:pt x="1816" y="427"/>
                    </a:lnTo>
                    <a:lnTo>
                      <a:pt x="1806" y="435"/>
                    </a:lnTo>
                    <a:lnTo>
                      <a:pt x="1799" y="445"/>
                    </a:lnTo>
                    <a:lnTo>
                      <a:pt x="1791" y="454"/>
                    </a:lnTo>
                    <a:lnTo>
                      <a:pt x="1783" y="464"/>
                    </a:lnTo>
                    <a:lnTo>
                      <a:pt x="1774" y="473"/>
                    </a:lnTo>
                    <a:lnTo>
                      <a:pt x="1766" y="481"/>
                    </a:lnTo>
                    <a:lnTo>
                      <a:pt x="1759" y="490"/>
                    </a:lnTo>
                    <a:lnTo>
                      <a:pt x="1753" y="500"/>
                    </a:lnTo>
                    <a:lnTo>
                      <a:pt x="1745" y="507"/>
                    </a:lnTo>
                    <a:lnTo>
                      <a:pt x="1740" y="515"/>
                    </a:lnTo>
                    <a:lnTo>
                      <a:pt x="1734" y="523"/>
                    </a:lnTo>
                    <a:lnTo>
                      <a:pt x="1726" y="530"/>
                    </a:lnTo>
                    <a:lnTo>
                      <a:pt x="1721" y="538"/>
                    </a:lnTo>
                    <a:lnTo>
                      <a:pt x="1715" y="545"/>
                    </a:lnTo>
                    <a:lnTo>
                      <a:pt x="1709" y="553"/>
                    </a:lnTo>
                    <a:lnTo>
                      <a:pt x="1705" y="561"/>
                    </a:lnTo>
                    <a:lnTo>
                      <a:pt x="1698" y="566"/>
                    </a:lnTo>
                    <a:lnTo>
                      <a:pt x="1692" y="574"/>
                    </a:lnTo>
                    <a:lnTo>
                      <a:pt x="1686" y="582"/>
                    </a:lnTo>
                    <a:lnTo>
                      <a:pt x="1679" y="591"/>
                    </a:lnTo>
                    <a:lnTo>
                      <a:pt x="1671" y="599"/>
                    </a:lnTo>
                    <a:lnTo>
                      <a:pt x="1665" y="606"/>
                    </a:lnTo>
                    <a:lnTo>
                      <a:pt x="1658" y="618"/>
                    </a:lnTo>
                    <a:lnTo>
                      <a:pt x="1650" y="627"/>
                    </a:lnTo>
                    <a:lnTo>
                      <a:pt x="1643" y="637"/>
                    </a:lnTo>
                    <a:lnTo>
                      <a:pt x="1633" y="646"/>
                    </a:lnTo>
                    <a:lnTo>
                      <a:pt x="1626" y="658"/>
                    </a:lnTo>
                    <a:lnTo>
                      <a:pt x="1616" y="669"/>
                    </a:lnTo>
                    <a:lnTo>
                      <a:pt x="1607" y="678"/>
                    </a:lnTo>
                    <a:lnTo>
                      <a:pt x="1599" y="690"/>
                    </a:lnTo>
                    <a:lnTo>
                      <a:pt x="1589" y="703"/>
                    </a:lnTo>
                    <a:lnTo>
                      <a:pt x="1580" y="717"/>
                    </a:lnTo>
                    <a:lnTo>
                      <a:pt x="1570" y="728"/>
                    </a:lnTo>
                    <a:lnTo>
                      <a:pt x="1561" y="739"/>
                    </a:lnTo>
                    <a:lnTo>
                      <a:pt x="1551" y="753"/>
                    </a:lnTo>
                    <a:lnTo>
                      <a:pt x="1542" y="764"/>
                    </a:lnTo>
                    <a:lnTo>
                      <a:pt x="1530" y="777"/>
                    </a:lnTo>
                    <a:lnTo>
                      <a:pt x="1521" y="791"/>
                    </a:lnTo>
                    <a:lnTo>
                      <a:pt x="1511" y="804"/>
                    </a:lnTo>
                    <a:lnTo>
                      <a:pt x="1502" y="817"/>
                    </a:lnTo>
                    <a:lnTo>
                      <a:pt x="1491" y="829"/>
                    </a:lnTo>
                    <a:lnTo>
                      <a:pt x="1481" y="842"/>
                    </a:lnTo>
                    <a:lnTo>
                      <a:pt x="1470" y="855"/>
                    </a:lnTo>
                    <a:lnTo>
                      <a:pt x="1460" y="871"/>
                    </a:lnTo>
                    <a:lnTo>
                      <a:pt x="1449" y="882"/>
                    </a:lnTo>
                    <a:lnTo>
                      <a:pt x="1439" y="895"/>
                    </a:lnTo>
                    <a:lnTo>
                      <a:pt x="1430" y="909"/>
                    </a:lnTo>
                    <a:lnTo>
                      <a:pt x="1420" y="922"/>
                    </a:lnTo>
                    <a:lnTo>
                      <a:pt x="1409" y="935"/>
                    </a:lnTo>
                    <a:lnTo>
                      <a:pt x="1399" y="948"/>
                    </a:lnTo>
                    <a:lnTo>
                      <a:pt x="1388" y="962"/>
                    </a:lnTo>
                    <a:lnTo>
                      <a:pt x="1378" y="973"/>
                    </a:lnTo>
                    <a:lnTo>
                      <a:pt x="1369" y="987"/>
                    </a:lnTo>
                    <a:lnTo>
                      <a:pt x="1359" y="1000"/>
                    </a:lnTo>
                    <a:lnTo>
                      <a:pt x="1350" y="1011"/>
                    </a:lnTo>
                    <a:lnTo>
                      <a:pt x="1340" y="1025"/>
                    </a:lnTo>
                    <a:lnTo>
                      <a:pt x="1331" y="1036"/>
                    </a:lnTo>
                    <a:lnTo>
                      <a:pt x="1321" y="1047"/>
                    </a:lnTo>
                    <a:lnTo>
                      <a:pt x="1312" y="1059"/>
                    </a:lnTo>
                    <a:lnTo>
                      <a:pt x="1304" y="1070"/>
                    </a:lnTo>
                    <a:lnTo>
                      <a:pt x="1295" y="1080"/>
                    </a:lnTo>
                    <a:lnTo>
                      <a:pt x="1287" y="1093"/>
                    </a:lnTo>
                    <a:lnTo>
                      <a:pt x="1280" y="1103"/>
                    </a:lnTo>
                    <a:lnTo>
                      <a:pt x="1274" y="1114"/>
                    </a:lnTo>
                    <a:lnTo>
                      <a:pt x="1264" y="1122"/>
                    </a:lnTo>
                    <a:lnTo>
                      <a:pt x="1257" y="1131"/>
                    </a:lnTo>
                    <a:lnTo>
                      <a:pt x="1251" y="1141"/>
                    </a:lnTo>
                    <a:lnTo>
                      <a:pt x="1245" y="1150"/>
                    </a:lnTo>
                    <a:lnTo>
                      <a:pt x="1238" y="1158"/>
                    </a:lnTo>
                    <a:lnTo>
                      <a:pt x="1232" y="1165"/>
                    </a:lnTo>
                    <a:lnTo>
                      <a:pt x="1226" y="1173"/>
                    </a:lnTo>
                    <a:lnTo>
                      <a:pt x="1223" y="1180"/>
                    </a:lnTo>
                    <a:lnTo>
                      <a:pt x="1217" y="1186"/>
                    </a:lnTo>
                    <a:lnTo>
                      <a:pt x="1213" y="1194"/>
                    </a:lnTo>
                    <a:lnTo>
                      <a:pt x="1209" y="1198"/>
                    </a:lnTo>
                    <a:lnTo>
                      <a:pt x="1205" y="1203"/>
                    </a:lnTo>
                    <a:lnTo>
                      <a:pt x="1200" y="1213"/>
                    </a:lnTo>
                    <a:lnTo>
                      <a:pt x="1198" y="1218"/>
                    </a:lnTo>
                    <a:lnTo>
                      <a:pt x="1192" y="1228"/>
                    </a:lnTo>
                    <a:lnTo>
                      <a:pt x="1186" y="1238"/>
                    </a:lnTo>
                    <a:lnTo>
                      <a:pt x="1183" y="1247"/>
                    </a:lnTo>
                    <a:lnTo>
                      <a:pt x="1179" y="1257"/>
                    </a:lnTo>
                    <a:lnTo>
                      <a:pt x="1175" y="1264"/>
                    </a:lnTo>
                    <a:lnTo>
                      <a:pt x="1173" y="1272"/>
                    </a:lnTo>
                    <a:lnTo>
                      <a:pt x="1169" y="1281"/>
                    </a:lnTo>
                    <a:lnTo>
                      <a:pt x="1169" y="1289"/>
                    </a:lnTo>
                    <a:lnTo>
                      <a:pt x="1167" y="1296"/>
                    </a:lnTo>
                    <a:lnTo>
                      <a:pt x="1167" y="1304"/>
                    </a:lnTo>
                    <a:lnTo>
                      <a:pt x="1167" y="1312"/>
                    </a:lnTo>
                    <a:lnTo>
                      <a:pt x="1171" y="1319"/>
                    </a:lnTo>
                    <a:lnTo>
                      <a:pt x="1173" y="1327"/>
                    </a:lnTo>
                    <a:lnTo>
                      <a:pt x="1177" y="1334"/>
                    </a:lnTo>
                    <a:lnTo>
                      <a:pt x="1181" y="1342"/>
                    </a:lnTo>
                    <a:lnTo>
                      <a:pt x="1186" y="1350"/>
                    </a:lnTo>
                    <a:lnTo>
                      <a:pt x="1192" y="1357"/>
                    </a:lnTo>
                    <a:lnTo>
                      <a:pt x="1202" y="1367"/>
                    </a:lnTo>
                    <a:lnTo>
                      <a:pt x="1203" y="1371"/>
                    </a:lnTo>
                    <a:lnTo>
                      <a:pt x="1209" y="1376"/>
                    </a:lnTo>
                    <a:lnTo>
                      <a:pt x="1213" y="1382"/>
                    </a:lnTo>
                    <a:lnTo>
                      <a:pt x="1219" y="1390"/>
                    </a:lnTo>
                    <a:lnTo>
                      <a:pt x="1223" y="1395"/>
                    </a:lnTo>
                    <a:lnTo>
                      <a:pt x="1226" y="1401"/>
                    </a:lnTo>
                    <a:lnTo>
                      <a:pt x="1230" y="1409"/>
                    </a:lnTo>
                    <a:lnTo>
                      <a:pt x="1236" y="1416"/>
                    </a:lnTo>
                    <a:lnTo>
                      <a:pt x="1240" y="1424"/>
                    </a:lnTo>
                    <a:lnTo>
                      <a:pt x="1245" y="1433"/>
                    </a:lnTo>
                    <a:lnTo>
                      <a:pt x="1249" y="1443"/>
                    </a:lnTo>
                    <a:lnTo>
                      <a:pt x="1255" y="1452"/>
                    </a:lnTo>
                    <a:lnTo>
                      <a:pt x="1259" y="1460"/>
                    </a:lnTo>
                    <a:lnTo>
                      <a:pt x="1261" y="1469"/>
                    </a:lnTo>
                    <a:lnTo>
                      <a:pt x="1264" y="1481"/>
                    </a:lnTo>
                    <a:lnTo>
                      <a:pt x="1268" y="1490"/>
                    </a:lnTo>
                    <a:lnTo>
                      <a:pt x="1270" y="1502"/>
                    </a:lnTo>
                    <a:lnTo>
                      <a:pt x="1274" y="1513"/>
                    </a:lnTo>
                    <a:lnTo>
                      <a:pt x="1274" y="1519"/>
                    </a:lnTo>
                    <a:lnTo>
                      <a:pt x="1276" y="1525"/>
                    </a:lnTo>
                    <a:lnTo>
                      <a:pt x="1276" y="1532"/>
                    </a:lnTo>
                    <a:lnTo>
                      <a:pt x="1278" y="1538"/>
                    </a:lnTo>
                    <a:lnTo>
                      <a:pt x="1278" y="1546"/>
                    </a:lnTo>
                    <a:lnTo>
                      <a:pt x="1278" y="1551"/>
                    </a:lnTo>
                    <a:lnTo>
                      <a:pt x="1278" y="1557"/>
                    </a:lnTo>
                    <a:lnTo>
                      <a:pt x="1280" y="1565"/>
                    </a:lnTo>
                    <a:lnTo>
                      <a:pt x="1280" y="1570"/>
                    </a:lnTo>
                    <a:lnTo>
                      <a:pt x="1280" y="1578"/>
                    </a:lnTo>
                    <a:lnTo>
                      <a:pt x="1280" y="1585"/>
                    </a:lnTo>
                    <a:lnTo>
                      <a:pt x="1280" y="1593"/>
                    </a:lnTo>
                    <a:lnTo>
                      <a:pt x="1278" y="1599"/>
                    </a:lnTo>
                    <a:lnTo>
                      <a:pt x="1278" y="1606"/>
                    </a:lnTo>
                    <a:lnTo>
                      <a:pt x="1278" y="1614"/>
                    </a:lnTo>
                    <a:lnTo>
                      <a:pt x="1278" y="1622"/>
                    </a:lnTo>
                    <a:lnTo>
                      <a:pt x="1276" y="1629"/>
                    </a:lnTo>
                    <a:lnTo>
                      <a:pt x="1276" y="1637"/>
                    </a:lnTo>
                    <a:lnTo>
                      <a:pt x="1274" y="1644"/>
                    </a:lnTo>
                    <a:lnTo>
                      <a:pt x="1274" y="1654"/>
                    </a:lnTo>
                    <a:lnTo>
                      <a:pt x="1270" y="1662"/>
                    </a:lnTo>
                    <a:lnTo>
                      <a:pt x="1268" y="1669"/>
                    </a:lnTo>
                    <a:lnTo>
                      <a:pt x="1266" y="1677"/>
                    </a:lnTo>
                    <a:lnTo>
                      <a:pt x="1264" y="1686"/>
                    </a:lnTo>
                    <a:lnTo>
                      <a:pt x="1261" y="1696"/>
                    </a:lnTo>
                    <a:lnTo>
                      <a:pt x="1259" y="1703"/>
                    </a:lnTo>
                    <a:lnTo>
                      <a:pt x="1257" y="1713"/>
                    </a:lnTo>
                    <a:lnTo>
                      <a:pt x="1255" y="1722"/>
                    </a:lnTo>
                    <a:lnTo>
                      <a:pt x="1251" y="1730"/>
                    </a:lnTo>
                    <a:lnTo>
                      <a:pt x="1247" y="1738"/>
                    </a:lnTo>
                    <a:lnTo>
                      <a:pt x="1245" y="1747"/>
                    </a:lnTo>
                    <a:lnTo>
                      <a:pt x="1242" y="1757"/>
                    </a:lnTo>
                    <a:lnTo>
                      <a:pt x="1238" y="1764"/>
                    </a:lnTo>
                    <a:lnTo>
                      <a:pt x="1234" y="1774"/>
                    </a:lnTo>
                    <a:lnTo>
                      <a:pt x="1230" y="1783"/>
                    </a:lnTo>
                    <a:lnTo>
                      <a:pt x="1226" y="1793"/>
                    </a:lnTo>
                    <a:lnTo>
                      <a:pt x="1221" y="1800"/>
                    </a:lnTo>
                    <a:lnTo>
                      <a:pt x="1217" y="1810"/>
                    </a:lnTo>
                    <a:lnTo>
                      <a:pt x="1213" y="1817"/>
                    </a:lnTo>
                    <a:lnTo>
                      <a:pt x="1209" y="1827"/>
                    </a:lnTo>
                    <a:lnTo>
                      <a:pt x="1203" y="1836"/>
                    </a:lnTo>
                    <a:lnTo>
                      <a:pt x="1200" y="1844"/>
                    </a:lnTo>
                    <a:lnTo>
                      <a:pt x="1194" y="1854"/>
                    </a:lnTo>
                    <a:lnTo>
                      <a:pt x="1190" y="1863"/>
                    </a:lnTo>
                    <a:lnTo>
                      <a:pt x="1184" y="1871"/>
                    </a:lnTo>
                    <a:lnTo>
                      <a:pt x="1181" y="1880"/>
                    </a:lnTo>
                    <a:lnTo>
                      <a:pt x="1175" y="1886"/>
                    </a:lnTo>
                    <a:lnTo>
                      <a:pt x="1171" y="1895"/>
                    </a:lnTo>
                    <a:lnTo>
                      <a:pt x="1164" y="1903"/>
                    </a:lnTo>
                    <a:lnTo>
                      <a:pt x="1160" y="1913"/>
                    </a:lnTo>
                    <a:lnTo>
                      <a:pt x="1154" y="1920"/>
                    </a:lnTo>
                    <a:lnTo>
                      <a:pt x="1148" y="1930"/>
                    </a:lnTo>
                    <a:lnTo>
                      <a:pt x="1143" y="1935"/>
                    </a:lnTo>
                    <a:lnTo>
                      <a:pt x="1137" y="1945"/>
                    </a:lnTo>
                    <a:lnTo>
                      <a:pt x="1131" y="1951"/>
                    </a:lnTo>
                    <a:lnTo>
                      <a:pt x="1126" y="1958"/>
                    </a:lnTo>
                    <a:lnTo>
                      <a:pt x="1120" y="1966"/>
                    </a:lnTo>
                    <a:lnTo>
                      <a:pt x="1114" y="1973"/>
                    </a:lnTo>
                    <a:lnTo>
                      <a:pt x="1108" y="1979"/>
                    </a:lnTo>
                    <a:lnTo>
                      <a:pt x="1103" y="1987"/>
                    </a:lnTo>
                    <a:lnTo>
                      <a:pt x="1097" y="1992"/>
                    </a:lnTo>
                    <a:lnTo>
                      <a:pt x="1089" y="1998"/>
                    </a:lnTo>
                    <a:lnTo>
                      <a:pt x="1084" y="2004"/>
                    </a:lnTo>
                    <a:lnTo>
                      <a:pt x="1078" y="2011"/>
                    </a:lnTo>
                    <a:lnTo>
                      <a:pt x="1072" y="2015"/>
                    </a:lnTo>
                    <a:lnTo>
                      <a:pt x="1065" y="2023"/>
                    </a:lnTo>
                    <a:lnTo>
                      <a:pt x="1059" y="2029"/>
                    </a:lnTo>
                    <a:lnTo>
                      <a:pt x="1053" y="2032"/>
                    </a:lnTo>
                    <a:lnTo>
                      <a:pt x="1048" y="2038"/>
                    </a:lnTo>
                    <a:lnTo>
                      <a:pt x="1042" y="2042"/>
                    </a:lnTo>
                    <a:lnTo>
                      <a:pt x="1034" y="2046"/>
                    </a:lnTo>
                    <a:lnTo>
                      <a:pt x="1029" y="2049"/>
                    </a:lnTo>
                    <a:lnTo>
                      <a:pt x="1023" y="2053"/>
                    </a:lnTo>
                    <a:lnTo>
                      <a:pt x="1015" y="2057"/>
                    </a:lnTo>
                    <a:lnTo>
                      <a:pt x="1010" y="2059"/>
                    </a:lnTo>
                    <a:lnTo>
                      <a:pt x="1004" y="2063"/>
                    </a:lnTo>
                    <a:lnTo>
                      <a:pt x="998" y="2067"/>
                    </a:lnTo>
                    <a:lnTo>
                      <a:pt x="992" y="2068"/>
                    </a:lnTo>
                    <a:lnTo>
                      <a:pt x="985" y="2070"/>
                    </a:lnTo>
                    <a:lnTo>
                      <a:pt x="979" y="2072"/>
                    </a:lnTo>
                    <a:lnTo>
                      <a:pt x="968" y="2074"/>
                    </a:lnTo>
                    <a:lnTo>
                      <a:pt x="956" y="2076"/>
                    </a:lnTo>
                    <a:lnTo>
                      <a:pt x="951" y="2074"/>
                    </a:lnTo>
                    <a:lnTo>
                      <a:pt x="943" y="2074"/>
                    </a:lnTo>
                    <a:lnTo>
                      <a:pt x="937" y="2074"/>
                    </a:lnTo>
                    <a:lnTo>
                      <a:pt x="932" y="2074"/>
                    </a:lnTo>
                    <a:lnTo>
                      <a:pt x="926" y="2074"/>
                    </a:lnTo>
                    <a:lnTo>
                      <a:pt x="920" y="2074"/>
                    </a:lnTo>
                    <a:lnTo>
                      <a:pt x="915" y="2074"/>
                    </a:lnTo>
                    <a:lnTo>
                      <a:pt x="909" y="2074"/>
                    </a:lnTo>
                    <a:lnTo>
                      <a:pt x="903" y="2074"/>
                    </a:lnTo>
                    <a:lnTo>
                      <a:pt x="896" y="2074"/>
                    </a:lnTo>
                    <a:lnTo>
                      <a:pt x="890" y="2074"/>
                    </a:lnTo>
                    <a:lnTo>
                      <a:pt x="884" y="2074"/>
                    </a:lnTo>
                    <a:lnTo>
                      <a:pt x="873" y="2074"/>
                    </a:lnTo>
                    <a:lnTo>
                      <a:pt x="863" y="2074"/>
                    </a:lnTo>
                    <a:lnTo>
                      <a:pt x="852" y="2070"/>
                    </a:lnTo>
                    <a:lnTo>
                      <a:pt x="840" y="2070"/>
                    </a:lnTo>
                    <a:lnTo>
                      <a:pt x="829" y="2068"/>
                    </a:lnTo>
                    <a:lnTo>
                      <a:pt x="818" y="2068"/>
                    </a:lnTo>
                    <a:lnTo>
                      <a:pt x="806" y="2067"/>
                    </a:lnTo>
                    <a:lnTo>
                      <a:pt x="797" y="2065"/>
                    </a:lnTo>
                    <a:lnTo>
                      <a:pt x="787" y="2063"/>
                    </a:lnTo>
                    <a:lnTo>
                      <a:pt x="778" y="2061"/>
                    </a:lnTo>
                    <a:lnTo>
                      <a:pt x="766" y="2059"/>
                    </a:lnTo>
                    <a:lnTo>
                      <a:pt x="757" y="2055"/>
                    </a:lnTo>
                    <a:lnTo>
                      <a:pt x="747" y="2051"/>
                    </a:lnTo>
                    <a:lnTo>
                      <a:pt x="740" y="2049"/>
                    </a:lnTo>
                    <a:lnTo>
                      <a:pt x="730" y="2046"/>
                    </a:lnTo>
                    <a:lnTo>
                      <a:pt x="721" y="2042"/>
                    </a:lnTo>
                    <a:lnTo>
                      <a:pt x="713" y="2038"/>
                    </a:lnTo>
                    <a:lnTo>
                      <a:pt x="705" y="2034"/>
                    </a:lnTo>
                    <a:lnTo>
                      <a:pt x="696" y="2029"/>
                    </a:lnTo>
                    <a:lnTo>
                      <a:pt x="688" y="2023"/>
                    </a:lnTo>
                    <a:lnTo>
                      <a:pt x="683" y="2017"/>
                    </a:lnTo>
                    <a:lnTo>
                      <a:pt x="677" y="2011"/>
                    </a:lnTo>
                    <a:lnTo>
                      <a:pt x="669" y="2004"/>
                    </a:lnTo>
                    <a:lnTo>
                      <a:pt x="665" y="1996"/>
                    </a:lnTo>
                    <a:lnTo>
                      <a:pt x="660" y="1990"/>
                    </a:lnTo>
                    <a:lnTo>
                      <a:pt x="656" y="1983"/>
                    </a:lnTo>
                    <a:lnTo>
                      <a:pt x="650" y="1973"/>
                    </a:lnTo>
                    <a:lnTo>
                      <a:pt x="646" y="1966"/>
                    </a:lnTo>
                    <a:lnTo>
                      <a:pt x="641" y="1956"/>
                    </a:lnTo>
                    <a:lnTo>
                      <a:pt x="639" y="1949"/>
                    </a:lnTo>
                    <a:lnTo>
                      <a:pt x="635" y="1939"/>
                    </a:lnTo>
                    <a:lnTo>
                      <a:pt x="631" y="1932"/>
                    </a:lnTo>
                    <a:lnTo>
                      <a:pt x="629" y="1922"/>
                    </a:lnTo>
                    <a:lnTo>
                      <a:pt x="627" y="1916"/>
                    </a:lnTo>
                    <a:lnTo>
                      <a:pt x="624" y="1905"/>
                    </a:lnTo>
                    <a:lnTo>
                      <a:pt x="624" y="1899"/>
                    </a:lnTo>
                    <a:lnTo>
                      <a:pt x="622" y="1890"/>
                    </a:lnTo>
                    <a:lnTo>
                      <a:pt x="620" y="1882"/>
                    </a:lnTo>
                    <a:lnTo>
                      <a:pt x="620" y="1874"/>
                    </a:lnTo>
                    <a:lnTo>
                      <a:pt x="620" y="1867"/>
                    </a:lnTo>
                    <a:lnTo>
                      <a:pt x="620" y="1857"/>
                    </a:lnTo>
                    <a:lnTo>
                      <a:pt x="620" y="1852"/>
                    </a:lnTo>
                    <a:lnTo>
                      <a:pt x="620" y="1844"/>
                    </a:lnTo>
                    <a:lnTo>
                      <a:pt x="620" y="1836"/>
                    </a:lnTo>
                    <a:lnTo>
                      <a:pt x="620" y="1827"/>
                    </a:lnTo>
                    <a:lnTo>
                      <a:pt x="622" y="1819"/>
                    </a:lnTo>
                    <a:lnTo>
                      <a:pt x="622" y="1814"/>
                    </a:lnTo>
                    <a:lnTo>
                      <a:pt x="624" y="1806"/>
                    </a:lnTo>
                    <a:lnTo>
                      <a:pt x="626" y="1798"/>
                    </a:lnTo>
                    <a:lnTo>
                      <a:pt x="629" y="1791"/>
                    </a:lnTo>
                    <a:lnTo>
                      <a:pt x="631" y="1783"/>
                    </a:lnTo>
                    <a:lnTo>
                      <a:pt x="633" y="1778"/>
                    </a:lnTo>
                    <a:lnTo>
                      <a:pt x="637" y="1770"/>
                    </a:lnTo>
                    <a:lnTo>
                      <a:pt x="639" y="1762"/>
                    </a:lnTo>
                    <a:lnTo>
                      <a:pt x="643" y="1757"/>
                    </a:lnTo>
                    <a:lnTo>
                      <a:pt x="646" y="1751"/>
                    </a:lnTo>
                    <a:lnTo>
                      <a:pt x="650" y="1743"/>
                    </a:lnTo>
                    <a:lnTo>
                      <a:pt x="656" y="1738"/>
                    </a:lnTo>
                    <a:lnTo>
                      <a:pt x="658" y="1728"/>
                    </a:lnTo>
                    <a:lnTo>
                      <a:pt x="665" y="1720"/>
                    </a:lnTo>
                    <a:lnTo>
                      <a:pt x="669" y="1711"/>
                    </a:lnTo>
                    <a:lnTo>
                      <a:pt x="677" y="1701"/>
                    </a:lnTo>
                    <a:lnTo>
                      <a:pt x="681" y="1696"/>
                    </a:lnTo>
                    <a:lnTo>
                      <a:pt x="684" y="1690"/>
                    </a:lnTo>
                    <a:lnTo>
                      <a:pt x="688" y="1684"/>
                    </a:lnTo>
                    <a:lnTo>
                      <a:pt x="692" y="1679"/>
                    </a:lnTo>
                    <a:lnTo>
                      <a:pt x="696" y="1671"/>
                    </a:lnTo>
                    <a:lnTo>
                      <a:pt x="702" y="1665"/>
                    </a:lnTo>
                    <a:lnTo>
                      <a:pt x="705" y="1660"/>
                    </a:lnTo>
                    <a:lnTo>
                      <a:pt x="711" y="1652"/>
                    </a:lnTo>
                    <a:lnTo>
                      <a:pt x="713" y="1644"/>
                    </a:lnTo>
                    <a:lnTo>
                      <a:pt x="719" y="1639"/>
                    </a:lnTo>
                    <a:lnTo>
                      <a:pt x="723" y="1631"/>
                    </a:lnTo>
                    <a:lnTo>
                      <a:pt x="728" y="1624"/>
                    </a:lnTo>
                    <a:lnTo>
                      <a:pt x="732" y="1616"/>
                    </a:lnTo>
                    <a:lnTo>
                      <a:pt x="738" y="1610"/>
                    </a:lnTo>
                    <a:lnTo>
                      <a:pt x="743" y="1601"/>
                    </a:lnTo>
                    <a:lnTo>
                      <a:pt x="749" y="1595"/>
                    </a:lnTo>
                    <a:lnTo>
                      <a:pt x="753" y="1585"/>
                    </a:lnTo>
                    <a:lnTo>
                      <a:pt x="759" y="1578"/>
                    </a:lnTo>
                    <a:lnTo>
                      <a:pt x="762" y="1570"/>
                    </a:lnTo>
                    <a:lnTo>
                      <a:pt x="770" y="1565"/>
                    </a:lnTo>
                    <a:lnTo>
                      <a:pt x="774" y="1555"/>
                    </a:lnTo>
                    <a:lnTo>
                      <a:pt x="780" y="1549"/>
                    </a:lnTo>
                    <a:lnTo>
                      <a:pt x="783" y="1540"/>
                    </a:lnTo>
                    <a:lnTo>
                      <a:pt x="791" y="1534"/>
                    </a:lnTo>
                    <a:lnTo>
                      <a:pt x="795" y="1525"/>
                    </a:lnTo>
                    <a:lnTo>
                      <a:pt x="800" y="1519"/>
                    </a:lnTo>
                    <a:lnTo>
                      <a:pt x="804" y="1509"/>
                    </a:lnTo>
                    <a:lnTo>
                      <a:pt x="810" y="1502"/>
                    </a:lnTo>
                    <a:lnTo>
                      <a:pt x="814" y="1494"/>
                    </a:lnTo>
                    <a:lnTo>
                      <a:pt x="819" y="1487"/>
                    </a:lnTo>
                    <a:lnTo>
                      <a:pt x="825" y="1479"/>
                    </a:lnTo>
                    <a:lnTo>
                      <a:pt x="829" y="1473"/>
                    </a:lnTo>
                    <a:lnTo>
                      <a:pt x="835" y="1466"/>
                    </a:lnTo>
                    <a:lnTo>
                      <a:pt x="838" y="1458"/>
                    </a:lnTo>
                    <a:lnTo>
                      <a:pt x="842" y="1450"/>
                    </a:lnTo>
                    <a:lnTo>
                      <a:pt x="848" y="1445"/>
                    </a:lnTo>
                    <a:lnTo>
                      <a:pt x="852" y="1437"/>
                    </a:lnTo>
                    <a:lnTo>
                      <a:pt x="856" y="1430"/>
                    </a:lnTo>
                    <a:lnTo>
                      <a:pt x="859" y="1424"/>
                    </a:lnTo>
                    <a:lnTo>
                      <a:pt x="865" y="1418"/>
                    </a:lnTo>
                    <a:lnTo>
                      <a:pt x="867" y="1412"/>
                    </a:lnTo>
                    <a:lnTo>
                      <a:pt x="871" y="1407"/>
                    </a:lnTo>
                    <a:lnTo>
                      <a:pt x="875" y="1399"/>
                    </a:lnTo>
                    <a:lnTo>
                      <a:pt x="876" y="1393"/>
                    </a:lnTo>
                    <a:lnTo>
                      <a:pt x="884" y="1384"/>
                    </a:lnTo>
                    <a:lnTo>
                      <a:pt x="890" y="1374"/>
                    </a:lnTo>
                    <a:lnTo>
                      <a:pt x="894" y="1365"/>
                    </a:lnTo>
                    <a:lnTo>
                      <a:pt x="899" y="1357"/>
                    </a:lnTo>
                    <a:lnTo>
                      <a:pt x="901" y="1352"/>
                    </a:lnTo>
                    <a:lnTo>
                      <a:pt x="903" y="1346"/>
                    </a:lnTo>
                    <a:lnTo>
                      <a:pt x="905" y="1336"/>
                    </a:lnTo>
                    <a:lnTo>
                      <a:pt x="909" y="1329"/>
                    </a:lnTo>
                    <a:lnTo>
                      <a:pt x="909" y="1323"/>
                    </a:lnTo>
                    <a:lnTo>
                      <a:pt x="911" y="1319"/>
                    </a:lnTo>
                    <a:lnTo>
                      <a:pt x="909" y="1314"/>
                    </a:lnTo>
                    <a:lnTo>
                      <a:pt x="905" y="1310"/>
                    </a:lnTo>
                    <a:lnTo>
                      <a:pt x="899" y="1308"/>
                    </a:lnTo>
                    <a:lnTo>
                      <a:pt x="896" y="1308"/>
                    </a:lnTo>
                    <a:lnTo>
                      <a:pt x="890" y="1308"/>
                    </a:lnTo>
                    <a:lnTo>
                      <a:pt x="882" y="1308"/>
                    </a:lnTo>
                    <a:lnTo>
                      <a:pt x="875" y="1306"/>
                    </a:lnTo>
                    <a:lnTo>
                      <a:pt x="865" y="1306"/>
                    </a:lnTo>
                    <a:lnTo>
                      <a:pt x="856" y="1306"/>
                    </a:lnTo>
                    <a:lnTo>
                      <a:pt x="846" y="1306"/>
                    </a:lnTo>
                    <a:lnTo>
                      <a:pt x="838" y="1304"/>
                    </a:lnTo>
                    <a:lnTo>
                      <a:pt x="829" y="1304"/>
                    </a:lnTo>
                    <a:lnTo>
                      <a:pt x="819" y="1304"/>
                    </a:lnTo>
                    <a:lnTo>
                      <a:pt x="810" y="1306"/>
                    </a:lnTo>
                    <a:lnTo>
                      <a:pt x="804" y="1306"/>
                    </a:lnTo>
                    <a:lnTo>
                      <a:pt x="799" y="1306"/>
                    </a:lnTo>
                    <a:lnTo>
                      <a:pt x="791" y="1306"/>
                    </a:lnTo>
                    <a:lnTo>
                      <a:pt x="785" y="1308"/>
                    </a:lnTo>
                    <a:lnTo>
                      <a:pt x="778" y="1308"/>
                    </a:lnTo>
                    <a:lnTo>
                      <a:pt x="772" y="1308"/>
                    </a:lnTo>
                    <a:lnTo>
                      <a:pt x="764" y="1310"/>
                    </a:lnTo>
                    <a:lnTo>
                      <a:pt x="759" y="1312"/>
                    </a:lnTo>
                    <a:lnTo>
                      <a:pt x="749" y="1312"/>
                    </a:lnTo>
                    <a:lnTo>
                      <a:pt x="742" y="1314"/>
                    </a:lnTo>
                    <a:lnTo>
                      <a:pt x="732" y="1314"/>
                    </a:lnTo>
                    <a:lnTo>
                      <a:pt x="724" y="1315"/>
                    </a:lnTo>
                    <a:lnTo>
                      <a:pt x="715" y="1315"/>
                    </a:lnTo>
                    <a:lnTo>
                      <a:pt x="705" y="1317"/>
                    </a:lnTo>
                    <a:lnTo>
                      <a:pt x="698" y="1317"/>
                    </a:lnTo>
                    <a:lnTo>
                      <a:pt x="688" y="1319"/>
                    </a:lnTo>
                    <a:lnTo>
                      <a:pt x="679" y="1319"/>
                    </a:lnTo>
                    <a:lnTo>
                      <a:pt x="669" y="1321"/>
                    </a:lnTo>
                    <a:lnTo>
                      <a:pt x="660" y="1321"/>
                    </a:lnTo>
                    <a:lnTo>
                      <a:pt x="650" y="1323"/>
                    </a:lnTo>
                    <a:lnTo>
                      <a:pt x="641" y="1323"/>
                    </a:lnTo>
                    <a:lnTo>
                      <a:pt x="631" y="1325"/>
                    </a:lnTo>
                    <a:lnTo>
                      <a:pt x="620" y="1325"/>
                    </a:lnTo>
                    <a:lnTo>
                      <a:pt x="610" y="1327"/>
                    </a:lnTo>
                    <a:lnTo>
                      <a:pt x="599" y="1327"/>
                    </a:lnTo>
                    <a:lnTo>
                      <a:pt x="589" y="1329"/>
                    </a:lnTo>
                    <a:lnTo>
                      <a:pt x="578" y="1329"/>
                    </a:lnTo>
                    <a:lnTo>
                      <a:pt x="567" y="1329"/>
                    </a:lnTo>
                    <a:lnTo>
                      <a:pt x="555" y="1329"/>
                    </a:lnTo>
                    <a:lnTo>
                      <a:pt x="546" y="1331"/>
                    </a:lnTo>
                    <a:lnTo>
                      <a:pt x="534" y="1331"/>
                    </a:lnTo>
                    <a:lnTo>
                      <a:pt x="525" y="1333"/>
                    </a:lnTo>
                    <a:lnTo>
                      <a:pt x="511" y="1331"/>
                    </a:lnTo>
                    <a:lnTo>
                      <a:pt x="502" y="1331"/>
                    </a:lnTo>
                    <a:lnTo>
                      <a:pt x="491" y="1331"/>
                    </a:lnTo>
                    <a:lnTo>
                      <a:pt x="481" y="1331"/>
                    </a:lnTo>
                    <a:lnTo>
                      <a:pt x="470" y="1331"/>
                    </a:lnTo>
                    <a:lnTo>
                      <a:pt x="458" y="1331"/>
                    </a:lnTo>
                    <a:lnTo>
                      <a:pt x="447" y="1331"/>
                    </a:lnTo>
                    <a:lnTo>
                      <a:pt x="437" y="1331"/>
                    </a:lnTo>
                    <a:lnTo>
                      <a:pt x="426" y="1329"/>
                    </a:lnTo>
                    <a:lnTo>
                      <a:pt x="415" y="1329"/>
                    </a:lnTo>
                    <a:lnTo>
                      <a:pt x="403" y="1327"/>
                    </a:lnTo>
                    <a:lnTo>
                      <a:pt x="394" y="1327"/>
                    </a:lnTo>
                    <a:lnTo>
                      <a:pt x="382" y="1325"/>
                    </a:lnTo>
                    <a:lnTo>
                      <a:pt x="371" y="1323"/>
                    </a:lnTo>
                    <a:lnTo>
                      <a:pt x="361" y="1321"/>
                    </a:lnTo>
                    <a:lnTo>
                      <a:pt x="352" y="1319"/>
                    </a:lnTo>
                    <a:lnTo>
                      <a:pt x="340" y="1317"/>
                    </a:lnTo>
                    <a:lnTo>
                      <a:pt x="331" y="1315"/>
                    </a:lnTo>
                    <a:lnTo>
                      <a:pt x="319" y="1314"/>
                    </a:lnTo>
                    <a:lnTo>
                      <a:pt x="310" y="1312"/>
                    </a:lnTo>
                    <a:lnTo>
                      <a:pt x="300" y="1308"/>
                    </a:lnTo>
                    <a:lnTo>
                      <a:pt x="291" y="1306"/>
                    </a:lnTo>
                    <a:lnTo>
                      <a:pt x="281" y="1302"/>
                    </a:lnTo>
                    <a:lnTo>
                      <a:pt x="274" y="1300"/>
                    </a:lnTo>
                    <a:lnTo>
                      <a:pt x="264" y="1296"/>
                    </a:lnTo>
                    <a:lnTo>
                      <a:pt x="255" y="1293"/>
                    </a:lnTo>
                    <a:lnTo>
                      <a:pt x="245" y="1289"/>
                    </a:lnTo>
                    <a:lnTo>
                      <a:pt x="238" y="1285"/>
                    </a:lnTo>
                    <a:lnTo>
                      <a:pt x="228" y="1281"/>
                    </a:lnTo>
                    <a:lnTo>
                      <a:pt x="221" y="1277"/>
                    </a:lnTo>
                    <a:lnTo>
                      <a:pt x="211" y="1276"/>
                    </a:lnTo>
                    <a:lnTo>
                      <a:pt x="205" y="1272"/>
                    </a:lnTo>
                    <a:lnTo>
                      <a:pt x="198" y="1268"/>
                    </a:lnTo>
                    <a:lnTo>
                      <a:pt x="190" y="1264"/>
                    </a:lnTo>
                    <a:lnTo>
                      <a:pt x="183" y="1260"/>
                    </a:lnTo>
                    <a:lnTo>
                      <a:pt x="177" y="1257"/>
                    </a:lnTo>
                    <a:lnTo>
                      <a:pt x="169" y="1253"/>
                    </a:lnTo>
                    <a:lnTo>
                      <a:pt x="164" y="1251"/>
                    </a:lnTo>
                    <a:lnTo>
                      <a:pt x="158" y="1247"/>
                    </a:lnTo>
                    <a:lnTo>
                      <a:pt x="152" y="1243"/>
                    </a:lnTo>
                    <a:lnTo>
                      <a:pt x="146" y="1239"/>
                    </a:lnTo>
                    <a:lnTo>
                      <a:pt x="141" y="1236"/>
                    </a:lnTo>
                    <a:lnTo>
                      <a:pt x="135" y="1234"/>
                    </a:lnTo>
                    <a:lnTo>
                      <a:pt x="131" y="1230"/>
                    </a:lnTo>
                    <a:lnTo>
                      <a:pt x="120" y="1222"/>
                    </a:lnTo>
                    <a:lnTo>
                      <a:pt x="112" y="1217"/>
                    </a:lnTo>
                    <a:lnTo>
                      <a:pt x="103" y="1209"/>
                    </a:lnTo>
                    <a:lnTo>
                      <a:pt x="95" y="1203"/>
                    </a:lnTo>
                    <a:lnTo>
                      <a:pt x="88" y="1196"/>
                    </a:lnTo>
                    <a:lnTo>
                      <a:pt x="84" y="1190"/>
                    </a:lnTo>
                    <a:lnTo>
                      <a:pt x="76" y="1182"/>
                    </a:lnTo>
                    <a:lnTo>
                      <a:pt x="70" y="1177"/>
                    </a:lnTo>
                    <a:lnTo>
                      <a:pt x="65" y="1169"/>
                    </a:lnTo>
                    <a:lnTo>
                      <a:pt x="61" y="1161"/>
                    </a:lnTo>
                    <a:lnTo>
                      <a:pt x="57" y="1156"/>
                    </a:lnTo>
                    <a:lnTo>
                      <a:pt x="55" y="1148"/>
                    </a:lnTo>
                    <a:lnTo>
                      <a:pt x="51" y="1141"/>
                    </a:lnTo>
                    <a:lnTo>
                      <a:pt x="50" y="1135"/>
                    </a:lnTo>
                    <a:lnTo>
                      <a:pt x="46" y="1127"/>
                    </a:lnTo>
                    <a:lnTo>
                      <a:pt x="44" y="1122"/>
                    </a:lnTo>
                    <a:lnTo>
                      <a:pt x="42" y="1114"/>
                    </a:lnTo>
                    <a:lnTo>
                      <a:pt x="40" y="1106"/>
                    </a:lnTo>
                    <a:lnTo>
                      <a:pt x="40" y="1101"/>
                    </a:lnTo>
                    <a:lnTo>
                      <a:pt x="38" y="1093"/>
                    </a:lnTo>
                    <a:lnTo>
                      <a:pt x="38" y="1085"/>
                    </a:lnTo>
                    <a:lnTo>
                      <a:pt x="38" y="1080"/>
                    </a:lnTo>
                    <a:lnTo>
                      <a:pt x="38" y="1070"/>
                    </a:lnTo>
                    <a:lnTo>
                      <a:pt x="36" y="1064"/>
                    </a:lnTo>
                    <a:lnTo>
                      <a:pt x="36" y="1055"/>
                    </a:lnTo>
                    <a:lnTo>
                      <a:pt x="38" y="1047"/>
                    </a:lnTo>
                    <a:lnTo>
                      <a:pt x="38" y="1038"/>
                    </a:lnTo>
                    <a:lnTo>
                      <a:pt x="38" y="1030"/>
                    </a:lnTo>
                    <a:lnTo>
                      <a:pt x="40" y="1021"/>
                    </a:lnTo>
                    <a:lnTo>
                      <a:pt x="42" y="1013"/>
                    </a:lnTo>
                    <a:lnTo>
                      <a:pt x="42" y="1004"/>
                    </a:lnTo>
                    <a:lnTo>
                      <a:pt x="46" y="994"/>
                    </a:lnTo>
                    <a:lnTo>
                      <a:pt x="48" y="985"/>
                    </a:lnTo>
                    <a:lnTo>
                      <a:pt x="51" y="975"/>
                    </a:lnTo>
                    <a:lnTo>
                      <a:pt x="55" y="966"/>
                    </a:lnTo>
                    <a:lnTo>
                      <a:pt x="59" y="956"/>
                    </a:lnTo>
                    <a:lnTo>
                      <a:pt x="63" y="947"/>
                    </a:lnTo>
                    <a:lnTo>
                      <a:pt x="69" y="937"/>
                    </a:lnTo>
                    <a:lnTo>
                      <a:pt x="72" y="928"/>
                    </a:lnTo>
                    <a:lnTo>
                      <a:pt x="78" y="918"/>
                    </a:lnTo>
                    <a:lnTo>
                      <a:pt x="84" y="909"/>
                    </a:lnTo>
                    <a:lnTo>
                      <a:pt x="89" y="899"/>
                    </a:lnTo>
                    <a:lnTo>
                      <a:pt x="95" y="890"/>
                    </a:lnTo>
                    <a:lnTo>
                      <a:pt x="103" y="880"/>
                    </a:lnTo>
                    <a:lnTo>
                      <a:pt x="108" y="871"/>
                    </a:lnTo>
                    <a:lnTo>
                      <a:pt x="116" y="863"/>
                    </a:lnTo>
                    <a:lnTo>
                      <a:pt x="124" y="853"/>
                    </a:lnTo>
                    <a:lnTo>
                      <a:pt x="131" y="844"/>
                    </a:lnTo>
                    <a:lnTo>
                      <a:pt x="139" y="836"/>
                    </a:lnTo>
                    <a:lnTo>
                      <a:pt x="148" y="829"/>
                    </a:lnTo>
                    <a:lnTo>
                      <a:pt x="158" y="819"/>
                    </a:lnTo>
                    <a:lnTo>
                      <a:pt x="167" y="813"/>
                    </a:lnTo>
                    <a:lnTo>
                      <a:pt x="177" y="806"/>
                    </a:lnTo>
                    <a:lnTo>
                      <a:pt x="188" y="800"/>
                    </a:lnTo>
                    <a:lnTo>
                      <a:pt x="198" y="793"/>
                    </a:lnTo>
                    <a:lnTo>
                      <a:pt x="207" y="787"/>
                    </a:lnTo>
                    <a:lnTo>
                      <a:pt x="219" y="781"/>
                    </a:lnTo>
                    <a:lnTo>
                      <a:pt x="230" y="777"/>
                    </a:lnTo>
                    <a:lnTo>
                      <a:pt x="236" y="774"/>
                    </a:lnTo>
                    <a:lnTo>
                      <a:pt x="242" y="772"/>
                    </a:lnTo>
                    <a:lnTo>
                      <a:pt x="247" y="770"/>
                    </a:lnTo>
                    <a:lnTo>
                      <a:pt x="255" y="768"/>
                    </a:lnTo>
                    <a:lnTo>
                      <a:pt x="261" y="764"/>
                    </a:lnTo>
                    <a:lnTo>
                      <a:pt x="266" y="764"/>
                    </a:lnTo>
                    <a:lnTo>
                      <a:pt x="274" y="762"/>
                    </a:lnTo>
                    <a:lnTo>
                      <a:pt x="280" y="760"/>
                    </a:lnTo>
                    <a:lnTo>
                      <a:pt x="285" y="758"/>
                    </a:lnTo>
                    <a:lnTo>
                      <a:pt x="293" y="758"/>
                    </a:lnTo>
                    <a:lnTo>
                      <a:pt x="299" y="755"/>
                    </a:lnTo>
                    <a:lnTo>
                      <a:pt x="304" y="755"/>
                    </a:lnTo>
                    <a:lnTo>
                      <a:pt x="312" y="755"/>
                    </a:lnTo>
                    <a:lnTo>
                      <a:pt x="319" y="753"/>
                    </a:lnTo>
                    <a:lnTo>
                      <a:pt x="325" y="753"/>
                    </a:lnTo>
                    <a:lnTo>
                      <a:pt x="333" y="753"/>
                    </a:lnTo>
                    <a:lnTo>
                      <a:pt x="338" y="751"/>
                    </a:lnTo>
                    <a:lnTo>
                      <a:pt x="346" y="751"/>
                    </a:lnTo>
                    <a:lnTo>
                      <a:pt x="352" y="751"/>
                    </a:lnTo>
                    <a:lnTo>
                      <a:pt x="359" y="751"/>
                    </a:lnTo>
                    <a:lnTo>
                      <a:pt x="367" y="751"/>
                    </a:lnTo>
                    <a:lnTo>
                      <a:pt x="375" y="751"/>
                    </a:lnTo>
                    <a:lnTo>
                      <a:pt x="380" y="751"/>
                    </a:lnTo>
                    <a:lnTo>
                      <a:pt x="388" y="751"/>
                    </a:lnTo>
                    <a:lnTo>
                      <a:pt x="396" y="751"/>
                    </a:lnTo>
                    <a:lnTo>
                      <a:pt x="401" y="751"/>
                    </a:lnTo>
                    <a:lnTo>
                      <a:pt x="409" y="751"/>
                    </a:lnTo>
                    <a:lnTo>
                      <a:pt x="416" y="751"/>
                    </a:lnTo>
                    <a:lnTo>
                      <a:pt x="422" y="751"/>
                    </a:lnTo>
                    <a:lnTo>
                      <a:pt x="430" y="753"/>
                    </a:lnTo>
                    <a:lnTo>
                      <a:pt x="435" y="753"/>
                    </a:lnTo>
                    <a:lnTo>
                      <a:pt x="443" y="753"/>
                    </a:lnTo>
                    <a:lnTo>
                      <a:pt x="451" y="753"/>
                    </a:lnTo>
                    <a:lnTo>
                      <a:pt x="458" y="755"/>
                    </a:lnTo>
                    <a:lnTo>
                      <a:pt x="464" y="755"/>
                    </a:lnTo>
                    <a:lnTo>
                      <a:pt x="472" y="756"/>
                    </a:lnTo>
                    <a:lnTo>
                      <a:pt x="477" y="758"/>
                    </a:lnTo>
                    <a:lnTo>
                      <a:pt x="485" y="760"/>
                    </a:lnTo>
                    <a:lnTo>
                      <a:pt x="492" y="760"/>
                    </a:lnTo>
                    <a:lnTo>
                      <a:pt x="500" y="762"/>
                    </a:lnTo>
                    <a:lnTo>
                      <a:pt x="506" y="762"/>
                    </a:lnTo>
                    <a:lnTo>
                      <a:pt x="511" y="764"/>
                    </a:lnTo>
                    <a:lnTo>
                      <a:pt x="519" y="764"/>
                    </a:lnTo>
                    <a:lnTo>
                      <a:pt x="525" y="768"/>
                    </a:lnTo>
                    <a:lnTo>
                      <a:pt x="530" y="768"/>
                    </a:lnTo>
                    <a:lnTo>
                      <a:pt x="538" y="770"/>
                    </a:lnTo>
                    <a:lnTo>
                      <a:pt x="544" y="772"/>
                    </a:lnTo>
                    <a:lnTo>
                      <a:pt x="551" y="775"/>
                    </a:lnTo>
                    <a:lnTo>
                      <a:pt x="557" y="775"/>
                    </a:lnTo>
                    <a:lnTo>
                      <a:pt x="565" y="777"/>
                    </a:lnTo>
                    <a:lnTo>
                      <a:pt x="570" y="779"/>
                    </a:lnTo>
                    <a:lnTo>
                      <a:pt x="576" y="781"/>
                    </a:lnTo>
                    <a:lnTo>
                      <a:pt x="582" y="783"/>
                    </a:lnTo>
                    <a:lnTo>
                      <a:pt x="589" y="785"/>
                    </a:lnTo>
                    <a:lnTo>
                      <a:pt x="595" y="787"/>
                    </a:lnTo>
                    <a:lnTo>
                      <a:pt x="601" y="791"/>
                    </a:lnTo>
                    <a:lnTo>
                      <a:pt x="607" y="791"/>
                    </a:lnTo>
                    <a:lnTo>
                      <a:pt x="612" y="794"/>
                    </a:lnTo>
                    <a:lnTo>
                      <a:pt x="618" y="796"/>
                    </a:lnTo>
                    <a:lnTo>
                      <a:pt x="624" y="798"/>
                    </a:lnTo>
                    <a:lnTo>
                      <a:pt x="631" y="800"/>
                    </a:lnTo>
                    <a:lnTo>
                      <a:pt x="637" y="804"/>
                    </a:lnTo>
                    <a:lnTo>
                      <a:pt x="643" y="808"/>
                    </a:lnTo>
                    <a:lnTo>
                      <a:pt x="650" y="810"/>
                    </a:lnTo>
                    <a:lnTo>
                      <a:pt x="656" y="813"/>
                    </a:lnTo>
                    <a:lnTo>
                      <a:pt x="662" y="817"/>
                    </a:lnTo>
                    <a:lnTo>
                      <a:pt x="669" y="819"/>
                    </a:lnTo>
                    <a:lnTo>
                      <a:pt x="677" y="825"/>
                    </a:lnTo>
                    <a:lnTo>
                      <a:pt x="683" y="827"/>
                    </a:lnTo>
                    <a:lnTo>
                      <a:pt x="690" y="832"/>
                    </a:lnTo>
                    <a:lnTo>
                      <a:pt x="698" y="836"/>
                    </a:lnTo>
                    <a:lnTo>
                      <a:pt x="705" y="840"/>
                    </a:lnTo>
                    <a:lnTo>
                      <a:pt x="711" y="844"/>
                    </a:lnTo>
                    <a:lnTo>
                      <a:pt x="719" y="848"/>
                    </a:lnTo>
                    <a:lnTo>
                      <a:pt x="726" y="852"/>
                    </a:lnTo>
                    <a:lnTo>
                      <a:pt x="734" y="855"/>
                    </a:lnTo>
                    <a:lnTo>
                      <a:pt x="740" y="861"/>
                    </a:lnTo>
                    <a:lnTo>
                      <a:pt x="747" y="865"/>
                    </a:lnTo>
                    <a:lnTo>
                      <a:pt x="755" y="869"/>
                    </a:lnTo>
                    <a:lnTo>
                      <a:pt x="762" y="874"/>
                    </a:lnTo>
                    <a:lnTo>
                      <a:pt x="768" y="878"/>
                    </a:lnTo>
                    <a:lnTo>
                      <a:pt x="776" y="882"/>
                    </a:lnTo>
                    <a:lnTo>
                      <a:pt x="781" y="888"/>
                    </a:lnTo>
                    <a:lnTo>
                      <a:pt x="789" y="891"/>
                    </a:lnTo>
                    <a:lnTo>
                      <a:pt x="797" y="895"/>
                    </a:lnTo>
                    <a:lnTo>
                      <a:pt x="802" y="901"/>
                    </a:lnTo>
                    <a:lnTo>
                      <a:pt x="810" y="905"/>
                    </a:lnTo>
                    <a:lnTo>
                      <a:pt x="818" y="910"/>
                    </a:lnTo>
                    <a:lnTo>
                      <a:pt x="825" y="912"/>
                    </a:lnTo>
                    <a:lnTo>
                      <a:pt x="831" y="918"/>
                    </a:lnTo>
                    <a:lnTo>
                      <a:pt x="837" y="922"/>
                    </a:lnTo>
                    <a:lnTo>
                      <a:pt x="844" y="926"/>
                    </a:lnTo>
                    <a:lnTo>
                      <a:pt x="850" y="929"/>
                    </a:lnTo>
                    <a:lnTo>
                      <a:pt x="856" y="935"/>
                    </a:lnTo>
                    <a:lnTo>
                      <a:pt x="863" y="939"/>
                    </a:lnTo>
                    <a:lnTo>
                      <a:pt x="869" y="943"/>
                    </a:lnTo>
                    <a:lnTo>
                      <a:pt x="880" y="950"/>
                    </a:lnTo>
                    <a:lnTo>
                      <a:pt x="892" y="958"/>
                    </a:lnTo>
                    <a:lnTo>
                      <a:pt x="901" y="966"/>
                    </a:lnTo>
                    <a:lnTo>
                      <a:pt x="913" y="973"/>
                    </a:lnTo>
                    <a:lnTo>
                      <a:pt x="920" y="977"/>
                    </a:lnTo>
                    <a:lnTo>
                      <a:pt x="930" y="983"/>
                    </a:lnTo>
                    <a:lnTo>
                      <a:pt x="937" y="987"/>
                    </a:lnTo>
                    <a:lnTo>
                      <a:pt x="945" y="992"/>
                    </a:lnTo>
                    <a:lnTo>
                      <a:pt x="951" y="996"/>
                    </a:lnTo>
                    <a:lnTo>
                      <a:pt x="956" y="1000"/>
                    </a:lnTo>
                    <a:lnTo>
                      <a:pt x="962" y="1002"/>
                    </a:lnTo>
                    <a:lnTo>
                      <a:pt x="966" y="1004"/>
                    </a:lnTo>
                    <a:lnTo>
                      <a:pt x="972" y="1006"/>
                    </a:lnTo>
                    <a:lnTo>
                      <a:pt x="977" y="1007"/>
                    </a:lnTo>
                    <a:lnTo>
                      <a:pt x="985" y="1007"/>
                    </a:lnTo>
                    <a:lnTo>
                      <a:pt x="991" y="1009"/>
                    </a:lnTo>
                    <a:lnTo>
                      <a:pt x="996" y="1009"/>
                    </a:lnTo>
                    <a:lnTo>
                      <a:pt x="1002" y="1009"/>
                    </a:lnTo>
                    <a:lnTo>
                      <a:pt x="1006" y="1009"/>
                    </a:lnTo>
                    <a:lnTo>
                      <a:pt x="1011" y="1009"/>
                    </a:lnTo>
                    <a:lnTo>
                      <a:pt x="1017" y="1004"/>
                    </a:lnTo>
                    <a:lnTo>
                      <a:pt x="1017" y="998"/>
                    </a:lnTo>
                    <a:lnTo>
                      <a:pt x="1015" y="992"/>
                    </a:lnTo>
                    <a:lnTo>
                      <a:pt x="1013" y="987"/>
                    </a:lnTo>
                    <a:lnTo>
                      <a:pt x="1008" y="981"/>
                    </a:lnTo>
                    <a:lnTo>
                      <a:pt x="1004" y="975"/>
                    </a:lnTo>
                    <a:lnTo>
                      <a:pt x="1004" y="975"/>
                    </a:lnTo>
                    <a:close/>
                  </a:path>
                </a:pathLst>
              </a:custGeom>
              <a:solidFill>
                <a:srgbClr val="17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652000" y="2377800"/>
                <a:ext cx="474840" cy="259920"/>
              </a:xfrm>
              <a:custGeom>
                <a:avLst/>
                <a:gdLst/>
                <a:ahLst/>
                <a:rect l="l" t="t" r="r" b="b"/>
                <a:pathLst>
                  <a:path w="717" h="384">
                    <a:moveTo>
                      <a:pt x="717" y="284"/>
                    </a:moveTo>
                    <a:lnTo>
                      <a:pt x="717" y="278"/>
                    </a:lnTo>
                    <a:lnTo>
                      <a:pt x="713" y="274"/>
                    </a:lnTo>
                    <a:lnTo>
                      <a:pt x="711" y="266"/>
                    </a:lnTo>
                    <a:lnTo>
                      <a:pt x="707" y="259"/>
                    </a:lnTo>
                    <a:lnTo>
                      <a:pt x="702" y="249"/>
                    </a:lnTo>
                    <a:lnTo>
                      <a:pt x="696" y="242"/>
                    </a:lnTo>
                    <a:lnTo>
                      <a:pt x="690" y="232"/>
                    </a:lnTo>
                    <a:lnTo>
                      <a:pt x="683" y="223"/>
                    </a:lnTo>
                    <a:lnTo>
                      <a:pt x="677" y="217"/>
                    </a:lnTo>
                    <a:lnTo>
                      <a:pt x="673" y="211"/>
                    </a:lnTo>
                    <a:lnTo>
                      <a:pt x="669" y="204"/>
                    </a:lnTo>
                    <a:lnTo>
                      <a:pt x="665" y="200"/>
                    </a:lnTo>
                    <a:lnTo>
                      <a:pt x="658" y="192"/>
                    </a:lnTo>
                    <a:lnTo>
                      <a:pt x="654" y="187"/>
                    </a:lnTo>
                    <a:lnTo>
                      <a:pt x="648" y="181"/>
                    </a:lnTo>
                    <a:lnTo>
                      <a:pt x="645" y="175"/>
                    </a:lnTo>
                    <a:lnTo>
                      <a:pt x="637" y="169"/>
                    </a:lnTo>
                    <a:lnTo>
                      <a:pt x="633" y="162"/>
                    </a:lnTo>
                    <a:lnTo>
                      <a:pt x="626" y="156"/>
                    </a:lnTo>
                    <a:lnTo>
                      <a:pt x="620" y="149"/>
                    </a:lnTo>
                    <a:lnTo>
                      <a:pt x="614" y="143"/>
                    </a:lnTo>
                    <a:lnTo>
                      <a:pt x="608" y="137"/>
                    </a:lnTo>
                    <a:lnTo>
                      <a:pt x="601" y="129"/>
                    </a:lnTo>
                    <a:lnTo>
                      <a:pt x="595" y="126"/>
                    </a:lnTo>
                    <a:lnTo>
                      <a:pt x="587" y="118"/>
                    </a:lnTo>
                    <a:lnTo>
                      <a:pt x="580" y="112"/>
                    </a:lnTo>
                    <a:lnTo>
                      <a:pt x="572" y="107"/>
                    </a:lnTo>
                    <a:lnTo>
                      <a:pt x="567" y="99"/>
                    </a:lnTo>
                    <a:lnTo>
                      <a:pt x="559" y="93"/>
                    </a:lnTo>
                    <a:lnTo>
                      <a:pt x="551" y="88"/>
                    </a:lnTo>
                    <a:lnTo>
                      <a:pt x="544" y="80"/>
                    </a:lnTo>
                    <a:lnTo>
                      <a:pt x="536" y="74"/>
                    </a:lnTo>
                    <a:lnTo>
                      <a:pt x="527" y="69"/>
                    </a:lnTo>
                    <a:lnTo>
                      <a:pt x="521" y="63"/>
                    </a:lnTo>
                    <a:lnTo>
                      <a:pt x="511" y="59"/>
                    </a:lnTo>
                    <a:lnTo>
                      <a:pt x="504" y="53"/>
                    </a:lnTo>
                    <a:lnTo>
                      <a:pt x="496" y="48"/>
                    </a:lnTo>
                    <a:lnTo>
                      <a:pt x="487" y="44"/>
                    </a:lnTo>
                    <a:lnTo>
                      <a:pt x="479" y="38"/>
                    </a:lnTo>
                    <a:lnTo>
                      <a:pt x="472" y="34"/>
                    </a:lnTo>
                    <a:lnTo>
                      <a:pt x="462" y="31"/>
                    </a:lnTo>
                    <a:lnTo>
                      <a:pt x="454" y="25"/>
                    </a:lnTo>
                    <a:lnTo>
                      <a:pt x="445" y="23"/>
                    </a:lnTo>
                    <a:lnTo>
                      <a:pt x="437" y="19"/>
                    </a:lnTo>
                    <a:lnTo>
                      <a:pt x="428" y="15"/>
                    </a:lnTo>
                    <a:lnTo>
                      <a:pt x="420" y="14"/>
                    </a:lnTo>
                    <a:lnTo>
                      <a:pt x="411" y="10"/>
                    </a:lnTo>
                    <a:lnTo>
                      <a:pt x="403" y="8"/>
                    </a:lnTo>
                    <a:lnTo>
                      <a:pt x="394" y="6"/>
                    </a:lnTo>
                    <a:lnTo>
                      <a:pt x="384" y="4"/>
                    </a:lnTo>
                    <a:lnTo>
                      <a:pt x="375" y="2"/>
                    </a:lnTo>
                    <a:lnTo>
                      <a:pt x="367" y="2"/>
                    </a:lnTo>
                    <a:lnTo>
                      <a:pt x="357" y="0"/>
                    </a:lnTo>
                    <a:lnTo>
                      <a:pt x="348" y="0"/>
                    </a:lnTo>
                    <a:lnTo>
                      <a:pt x="340" y="0"/>
                    </a:lnTo>
                    <a:lnTo>
                      <a:pt x="333" y="2"/>
                    </a:lnTo>
                    <a:lnTo>
                      <a:pt x="323" y="2"/>
                    </a:lnTo>
                    <a:lnTo>
                      <a:pt x="314" y="2"/>
                    </a:lnTo>
                    <a:lnTo>
                      <a:pt x="304" y="4"/>
                    </a:lnTo>
                    <a:lnTo>
                      <a:pt x="295" y="6"/>
                    </a:lnTo>
                    <a:lnTo>
                      <a:pt x="285" y="6"/>
                    </a:lnTo>
                    <a:lnTo>
                      <a:pt x="276" y="8"/>
                    </a:lnTo>
                    <a:lnTo>
                      <a:pt x="266" y="8"/>
                    </a:lnTo>
                    <a:lnTo>
                      <a:pt x="259" y="12"/>
                    </a:lnTo>
                    <a:lnTo>
                      <a:pt x="249" y="14"/>
                    </a:lnTo>
                    <a:lnTo>
                      <a:pt x="240" y="15"/>
                    </a:lnTo>
                    <a:lnTo>
                      <a:pt x="230" y="15"/>
                    </a:lnTo>
                    <a:lnTo>
                      <a:pt x="222" y="19"/>
                    </a:lnTo>
                    <a:lnTo>
                      <a:pt x="213" y="21"/>
                    </a:lnTo>
                    <a:lnTo>
                      <a:pt x="203" y="25"/>
                    </a:lnTo>
                    <a:lnTo>
                      <a:pt x="196" y="27"/>
                    </a:lnTo>
                    <a:lnTo>
                      <a:pt x="186" y="31"/>
                    </a:lnTo>
                    <a:lnTo>
                      <a:pt x="177" y="33"/>
                    </a:lnTo>
                    <a:lnTo>
                      <a:pt x="169" y="36"/>
                    </a:lnTo>
                    <a:lnTo>
                      <a:pt x="160" y="40"/>
                    </a:lnTo>
                    <a:lnTo>
                      <a:pt x="152" y="42"/>
                    </a:lnTo>
                    <a:lnTo>
                      <a:pt x="143" y="46"/>
                    </a:lnTo>
                    <a:lnTo>
                      <a:pt x="137" y="50"/>
                    </a:lnTo>
                    <a:lnTo>
                      <a:pt x="127" y="53"/>
                    </a:lnTo>
                    <a:lnTo>
                      <a:pt x="122" y="57"/>
                    </a:lnTo>
                    <a:lnTo>
                      <a:pt x="112" y="61"/>
                    </a:lnTo>
                    <a:lnTo>
                      <a:pt x="105" y="63"/>
                    </a:lnTo>
                    <a:lnTo>
                      <a:pt x="99" y="69"/>
                    </a:lnTo>
                    <a:lnTo>
                      <a:pt x="93" y="72"/>
                    </a:lnTo>
                    <a:lnTo>
                      <a:pt x="86" y="76"/>
                    </a:lnTo>
                    <a:lnTo>
                      <a:pt x="80" y="82"/>
                    </a:lnTo>
                    <a:lnTo>
                      <a:pt x="72" y="86"/>
                    </a:lnTo>
                    <a:lnTo>
                      <a:pt x="67" y="91"/>
                    </a:lnTo>
                    <a:lnTo>
                      <a:pt x="61" y="95"/>
                    </a:lnTo>
                    <a:lnTo>
                      <a:pt x="55" y="99"/>
                    </a:lnTo>
                    <a:lnTo>
                      <a:pt x="48" y="105"/>
                    </a:lnTo>
                    <a:lnTo>
                      <a:pt x="44" y="109"/>
                    </a:lnTo>
                    <a:lnTo>
                      <a:pt x="34" y="118"/>
                    </a:lnTo>
                    <a:lnTo>
                      <a:pt x="27" y="128"/>
                    </a:lnTo>
                    <a:lnTo>
                      <a:pt x="17" y="137"/>
                    </a:lnTo>
                    <a:lnTo>
                      <a:pt x="11" y="149"/>
                    </a:lnTo>
                    <a:lnTo>
                      <a:pt x="6" y="160"/>
                    </a:lnTo>
                    <a:lnTo>
                      <a:pt x="4" y="171"/>
                    </a:lnTo>
                    <a:lnTo>
                      <a:pt x="0" y="183"/>
                    </a:lnTo>
                    <a:lnTo>
                      <a:pt x="0" y="194"/>
                    </a:lnTo>
                    <a:lnTo>
                      <a:pt x="0" y="200"/>
                    </a:lnTo>
                    <a:lnTo>
                      <a:pt x="0" y="204"/>
                    </a:lnTo>
                    <a:lnTo>
                      <a:pt x="2" y="211"/>
                    </a:lnTo>
                    <a:lnTo>
                      <a:pt x="6" y="217"/>
                    </a:lnTo>
                    <a:lnTo>
                      <a:pt x="6" y="223"/>
                    </a:lnTo>
                    <a:lnTo>
                      <a:pt x="10" y="228"/>
                    </a:lnTo>
                    <a:lnTo>
                      <a:pt x="11" y="234"/>
                    </a:lnTo>
                    <a:lnTo>
                      <a:pt x="15" y="240"/>
                    </a:lnTo>
                    <a:lnTo>
                      <a:pt x="19" y="245"/>
                    </a:lnTo>
                    <a:lnTo>
                      <a:pt x="25" y="251"/>
                    </a:lnTo>
                    <a:lnTo>
                      <a:pt x="29" y="259"/>
                    </a:lnTo>
                    <a:lnTo>
                      <a:pt x="34" y="265"/>
                    </a:lnTo>
                    <a:lnTo>
                      <a:pt x="38" y="270"/>
                    </a:lnTo>
                    <a:lnTo>
                      <a:pt x="44" y="276"/>
                    </a:lnTo>
                    <a:lnTo>
                      <a:pt x="51" y="282"/>
                    </a:lnTo>
                    <a:lnTo>
                      <a:pt x="57" y="287"/>
                    </a:lnTo>
                    <a:lnTo>
                      <a:pt x="63" y="291"/>
                    </a:lnTo>
                    <a:lnTo>
                      <a:pt x="70" y="297"/>
                    </a:lnTo>
                    <a:lnTo>
                      <a:pt x="76" y="301"/>
                    </a:lnTo>
                    <a:lnTo>
                      <a:pt x="84" y="306"/>
                    </a:lnTo>
                    <a:lnTo>
                      <a:pt x="91" y="310"/>
                    </a:lnTo>
                    <a:lnTo>
                      <a:pt x="99" y="314"/>
                    </a:lnTo>
                    <a:lnTo>
                      <a:pt x="105" y="318"/>
                    </a:lnTo>
                    <a:lnTo>
                      <a:pt x="112" y="322"/>
                    </a:lnTo>
                    <a:lnTo>
                      <a:pt x="120" y="325"/>
                    </a:lnTo>
                    <a:lnTo>
                      <a:pt x="129" y="329"/>
                    </a:lnTo>
                    <a:lnTo>
                      <a:pt x="137" y="333"/>
                    </a:lnTo>
                    <a:lnTo>
                      <a:pt x="146" y="337"/>
                    </a:lnTo>
                    <a:lnTo>
                      <a:pt x="152" y="339"/>
                    </a:lnTo>
                    <a:lnTo>
                      <a:pt x="162" y="342"/>
                    </a:lnTo>
                    <a:lnTo>
                      <a:pt x="169" y="346"/>
                    </a:lnTo>
                    <a:lnTo>
                      <a:pt x="179" y="348"/>
                    </a:lnTo>
                    <a:lnTo>
                      <a:pt x="186" y="350"/>
                    </a:lnTo>
                    <a:lnTo>
                      <a:pt x="196" y="354"/>
                    </a:lnTo>
                    <a:lnTo>
                      <a:pt x="205" y="356"/>
                    </a:lnTo>
                    <a:lnTo>
                      <a:pt x="215" y="360"/>
                    </a:lnTo>
                    <a:lnTo>
                      <a:pt x="222" y="360"/>
                    </a:lnTo>
                    <a:lnTo>
                      <a:pt x="232" y="361"/>
                    </a:lnTo>
                    <a:lnTo>
                      <a:pt x="241" y="365"/>
                    </a:lnTo>
                    <a:lnTo>
                      <a:pt x="251" y="367"/>
                    </a:lnTo>
                    <a:lnTo>
                      <a:pt x="261" y="367"/>
                    </a:lnTo>
                    <a:lnTo>
                      <a:pt x="270" y="369"/>
                    </a:lnTo>
                    <a:lnTo>
                      <a:pt x="280" y="371"/>
                    </a:lnTo>
                    <a:lnTo>
                      <a:pt x="289" y="375"/>
                    </a:lnTo>
                    <a:lnTo>
                      <a:pt x="297" y="375"/>
                    </a:lnTo>
                    <a:lnTo>
                      <a:pt x="306" y="375"/>
                    </a:lnTo>
                    <a:lnTo>
                      <a:pt x="316" y="377"/>
                    </a:lnTo>
                    <a:lnTo>
                      <a:pt x="325" y="377"/>
                    </a:lnTo>
                    <a:lnTo>
                      <a:pt x="335" y="377"/>
                    </a:lnTo>
                    <a:lnTo>
                      <a:pt x="344" y="379"/>
                    </a:lnTo>
                    <a:lnTo>
                      <a:pt x="354" y="379"/>
                    </a:lnTo>
                    <a:lnTo>
                      <a:pt x="363" y="380"/>
                    </a:lnTo>
                    <a:lnTo>
                      <a:pt x="371" y="380"/>
                    </a:lnTo>
                    <a:lnTo>
                      <a:pt x="380" y="380"/>
                    </a:lnTo>
                    <a:lnTo>
                      <a:pt x="390" y="380"/>
                    </a:lnTo>
                    <a:lnTo>
                      <a:pt x="399" y="382"/>
                    </a:lnTo>
                    <a:lnTo>
                      <a:pt x="407" y="382"/>
                    </a:lnTo>
                    <a:lnTo>
                      <a:pt x="416" y="382"/>
                    </a:lnTo>
                    <a:lnTo>
                      <a:pt x="424" y="382"/>
                    </a:lnTo>
                    <a:lnTo>
                      <a:pt x="435" y="384"/>
                    </a:lnTo>
                    <a:lnTo>
                      <a:pt x="441" y="384"/>
                    </a:lnTo>
                    <a:lnTo>
                      <a:pt x="451" y="384"/>
                    </a:lnTo>
                    <a:lnTo>
                      <a:pt x="458" y="384"/>
                    </a:lnTo>
                    <a:lnTo>
                      <a:pt x="468" y="384"/>
                    </a:lnTo>
                    <a:lnTo>
                      <a:pt x="475" y="384"/>
                    </a:lnTo>
                    <a:lnTo>
                      <a:pt x="485" y="384"/>
                    </a:lnTo>
                    <a:lnTo>
                      <a:pt x="492" y="384"/>
                    </a:lnTo>
                    <a:lnTo>
                      <a:pt x="500" y="384"/>
                    </a:lnTo>
                    <a:lnTo>
                      <a:pt x="508" y="382"/>
                    </a:lnTo>
                    <a:lnTo>
                      <a:pt x="515" y="382"/>
                    </a:lnTo>
                    <a:lnTo>
                      <a:pt x="523" y="382"/>
                    </a:lnTo>
                    <a:lnTo>
                      <a:pt x="530" y="382"/>
                    </a:lnTo>
                    <a:lnTo>
                      <a:pt x="536" y="380"/>
                    </a:lnTo>
                    <a:lnTo>
                      <a:pt x="544" y="380"/>
                    </a:lnTo>
                    <a:lnTo>
                      <a:pt x="549" y="380"/>
                    </a:lnTo>
                    <a:lnTo>
                      <a:pt x="557" y="380"/>
                    </a:lnTo>
                    <a:lnTo>
                      <a:pt x="568" y="380"/>
                    </a:lnTo>
                    <a:lnTo>
                      <a:pt x="580" y="379"/>
                    </a:lnTo>
                    <a:lnTo>
                      <a:pt x="589" y="379"/>
                    </a:lnTo>
                    <a:lnTo>
                      <a:pt x="601" y="379"/>
                    </a:lnTo>
                    <a:lnTo>
                      <a:pt x="608" y="377"/>
                    </a:lnTo>
                    <a:lnTo>
                      <a:pt x="618" y="377"/>
                    </a:lnTo>
                    <a:lnTo>
                      <a:pt x="627" y="375"/>
                    </a:lnTo>
                    <a:lnTo>
                      <a:pt x="635" y="375"/>
                    </a:lnTo>
                    <a:lnTo>
                      <a:pt x="643" y="373"/>
                    </a:lnTo>
                    <a:lnTo>
                      <a:pt x="648" y="373"/>
                    </a:lnTo>
                    <a:lnTo>
                      <a:pt x="654" y="371"/>
                    </a:lnTo>
                    <a:lnTo>
                      <a:pt x="662" y="371"/>
                    </a:lnTo>
                    <a:lnTo>
                      <a:pt x="669" y="369"/>
                    </a:lnTo>
                    <a:lnTo>
                      <a:pt x="677" y="367"/>
                    </a:lnTo>
                    <a:lnTo>
                      <a:pt x="684" y="360"/>
                    </a:lnTo>
                    <a:lnTo>
                      <a:pt x="686" y="354"/>
                    </a:lnTo>
                    <a:lnTo>
                      <a:pt x="683" y="350"/>
                    </a:lnTo>
                    <a:lnTo>
                      <a:pt x="679" y="346"/>
                    </a:lnTo>
                    <a:lnTo>
                      <a:pt x="673" y="341"/>
                    </a:lnTo>
                    <a:lnTo>
                      <a:pt x="665" y="337"/>
                    </a:lnTo>
                    <a:lnTo>
                      <a:pt x="660" y="333"/>
                    </a:lnTo>
                    <a:lnTo>
                      <a:pt x="654" y="331"/>
                    </a:lnTo>
                    <a:lnTo>
                      <a:pt x="645" y="331"/>
                    </a:lnTo>
                    <a:lnTo>
                      <a:pt x="637" y="331"/>
                    </a:lnTo>
                    <a:lnTo>
                      <a:pt x="629" y="329"/>
                    </a:lnTo>
                    <a:lnTo>
                      <a:pt x="626" y="329"/>
                    </a:lnTo>
                    <a:lnTo>
                      <a:pt x="618" y="329"/>
                    </a:lnTo>
                    <a:lnTo>
                      <a:pt x="614" y="329"/>
                    </a:lnTo>
                    <a:lnTo>
                      <a:pt x="607" y="329"/>
                    </a:lnTo>
                    <a:lnTo>
                      <a:pt x="599" y="331"/>
                    </a:lnTo>
                    <a:lnTo>
                      <a:pt x="593" y="331"/>
                    </a:lnTo>
                    <a:lnTo>
                      <a:pt x="587" y="331"/>
                    </a:lnTo>
                    <a:lnTo>
                      <a:pt x="578" y="331"/>
                    </a:lnTo>
                    <a:lnTo>
                      <a:pt x="570" y="331"/>
                    </a:lnTo>
                    <a:lnTo>
                      <a:pt x="563" y="333"/>
                    </a:lnTo>
                    <a:lnTo>
                      <a:pt x="555" y="333"/>
                    </a:lnTo>
                    <a:lnTo>
                      <a:pt x="546" y="333"/>
                    </a:lnTo>
                    <a:lnTo>
                      <a:pt x="538" y="335"/>
                    </a:lnTo>
                    <a:lnTo>
                      <a:pt x="529" y="337"/>
                    </a:lnTo>
                    <a:lnTo>
                      <a:pt x="521" y="337"/>
                    </a:lnTo>
                    <a:lnTo>
                      <a:pt x="511" y="337"/>
                    </a:lnTo>
                    <a:lnTo>
                      <a:pt x="504" y="337"/>
                    </a:lnTo>
                    <a:lnTo>
                      <a:pt x="494" y="339"/>
                    </a:lnTo>
                    <a:lnTo>
                      <a:pt x="485" y="339"/>
                    </a:lnTo>
                    <a:lnTo>
                      <a:pt x="475" y="339"/>
                    </a:lnTo>
                    <a:lnTo>
                      <a:pt x="466" y="341"/>
                    </a:lnTo>
                    <a:lnTo>
                      <a:pt x="456" y="341"/>
                    </a:lnTo>
                    <a:lnTo>
                      <a:pt x="449" y="342"/>
                    </a:lnTo>
                    <a:lnTo>
                      <a:pt x="437" y="342"/>
                    </a:lnTo>
                    <a:lnTo>
                      <a:pt x="428" y="342"/>
                    </a:lnTo>
                    <a:lnTo>
                      <a:pt x="418" y="342"/>
                    </a:lnTo>
                    <a:lnTo>
                      <a:pt x="409" y="342"/>
                    </a:lnTo>
                    <a:lnTo>
                      <a:pt x="399" y="342"/>
                    </a:lnTo>
                    <a:lnTo>
                      <a:pt x="390" y="342"/>
                    </a:lnTo>
                    <a:lnTo>
                      <a:pt x="380" y="342"/>
                    </a:lnTo>
                    <a:lnTo>
                      <a:pt x="371" y="342"/>
                    </a:lnTo>
                    <a:lnTo>
                      <a:pt x="361" y="342"/>
                    </a:lnTo>
                    <a:lnTo>
                      <a:pt x="352" y="342"/>
                    </a:lnTo>
                    <a:lnTo>
                      <a:pt x="342" y="342"/>
                    </a:lnTo>
                    <a:lnTo>
                      <a:pt x="333" y="342"/>
                    </a:lnTo>
                    <a:lnTo>
                      <a:pt x="323" y="341"/>
                    </a:lnTo>
                    <a:lnTo>
                      <a:pt x="314" y="341"/>
                    </a:lnTo>
                    <a:lnTo>
                      <a:pt x="304" y="339"/>
                    </a:lnTo>
                    <a:lnTo>
                      <a:pt x="295" y="339"/>
                    </a:lnTo>
                    <a:lnTo>
                      <a:pt x="285" y="337"/>
                    </a:lnTo>
                    <a:lnTo>
                      <a:pt x="276" y="337"/>
                    </a:lnTo>
                    <a:lnTo>
                      <a:pt x="268" y="333"/>
                    </a:lnTo>
                    <a:lnTo>
                      <a:pt x="259" y="333"/>
                    </a:lnTo>
                    <a:lnTo>
                      <a:pt x="249" y="331"/>
                    </a:lnTo>
                    <a:lnTo>
                      <a:pt x="241" y="329"/>
                    </a:lnTo>
                    <a:lnTo>
                      <a:pt x="234" y="327"/>
                    </a:lnTo>
                    <a:lnTo>
                      <a:pt x="226" y="325"/>
                    </a:lnTo>
                    <a:lnTo>
                      <a:pt x="217" y="322"/>
                    </a:lnTo>
                    <a:lnTo>
                      <a:pt x="211" y="320"/>
                    </a:lnTo>
                    <a:lnTo>
                      <a:pt x="202" y="316"/>
                    </a:lnTo>
                    <a:lnTo>
                      <a:pt x="196" y="314"/>
                    </a:lnTo>
                    <a:lnTo>
                      <a:pt x="188" y="310"/>
                    </a:lnTo>
                    <a:lnTo>
                      <a:pt x="183" y="306"/>
                    </a:lnTo>
                    <a:lnTo>
                      <a:pt x="177" y="303"/>
                    </a:lnTo>
                    <a:lnTo>
                      <a:pt x="171" y="301"/>
                    </a:lnTo>
                    <a:lnTo>
                      <a:pt x="165" y="295"/>
                    </a:lnTo>
                    <a:lnTo>
                      <a:pt x="158" y="291"/>
                    </a:lnTo>
                    <a:lnTo>
                      <a:pt x="152" y="285"/>
                    </a:lnTo>
                    <a:lnTo>
                      <a:pt x="148" y="284"/>
                    </a:lnTo>
                    <a:lnTo>
                      <a:pt x="137" y="274"/>
                    </a:lnTo>
                    <a:lnTo>
                      <a:pt x="127" y="268"/>
                    </a:lnTo>
                    <a:lnTo>
                      <a:pt x="118" y="259"/>
                    </a:lnTo>
                    <a:lnTo>
                      <a:pt x="110" y="251"/>
                    </a:lnTo>
                    <a:lnTo>
                      <a:pt x="101" y="245"/>
                    </a:lnTo>
                    <a:lnTo>
                      <a:pt x="95" y="240"/>
                    </a:lnTo>
                    <a:lnTo>
                      <a:pt x="87" y="232"/>
                    </a:lnTo>
                    <a:lnTo>
                      <a:pt x="82" y="226"/>
                    </a:lnTo>
                    <a:lnTo>
                      <a:pt x="74" y="221"/>
                    </a:lnTo>
                    <a:lnTo>
                      <a:pt x="72" y="213"/>
                    </a:lnTo>
                    <a:lnTo>
                      <a:pt x="63" y="202"/>
                    </a:lnTo>
                    <a:lnTo>
                      <a:pt x="59" y="192"/>
                    </a:lnTo>
                    <a:lnTo>
                      <a:pt x="55" y="181"/>
                    </a:lnTo>
                    <a:lnTo>
                      <a:pt x="55" y="171"/>
                    </a:lnTo>
                    <a:lnTo>
                      <a:pt x="57" y="162"/>
                    </a:lnTo>
                    <a:lnTo>
                      <a:pt x="63" y="152"/>
                    </a:lnTo>
                    <a:lnTo>
                      <a:pt x="67" y="147"/>
                    </a:lnTo>
                    <a:lnTo>
                      <a:pt x="70" y="143"/>
                    </a:lnTo>
                    <a:lnTo>
                      <a:pt x="74" y="137"/>
                    </a:lnTo>
                    <a:lnTo>
                      <a:pt x="82" y="133"/>
                    </a:lnTo>
                    <a:lnTo>
                      <a:pt x="86" y="128"/>
                    </a:lnTo>
                    <a:lnTo>
                      <a:pt x="93" y="124"/>
                    </a:lnTo>
                    <a:lnTo>
                      <a:pt x="101" y="118"/>
                    </a:lnTo>
                    <a:lnTo>
                      <a:pt x="110" y="116"/>
                    </a:lnTo>
                    <a:lnTo>
                      <a:pt x="118" y="110"/>
                    </a:lnTo>
                    <a:lnTo>
                      <a:pt x="127" y="107"/>
                    </a:lnTo>
                    <a:lnTo>
                      <a:pt x="133" y="101"/>
                    </a:lnTo>
                    <a:lnTo>
                      <a:pt x="143" y="97"/>
                    </a:lnTo>
                    <a:lnTo>
                      <a:pt x="152" y="91"/>
                    </a:lnTo>
                    <a:lnTo>
                      <a:pt x="162" y="88"/>
                    </a:lnTo>
                    <a:lnTo>
                      <a:pt x="171" y="84"/>
                    </a:lnTo>
                    <a:lnTo>
                      <a:pt x="181" y="82"/>
                    </a:lnTo>
                    <a:lnTo>
                      <a:pt x="188" y="78"/>
                    </a:lnTo>
                    <a:lnTo>
                      <a:pt x="198" y="72"/>
                    </a:lnTo>
                    <a:lnTo>
                      <a:pt x="207" y="71"/>
                    </a:lnTo>
                    <a:lnTo>
                      <a:pt x="217" y="69"/>
                    </a:lnTo>
                    <a:lnTo>
                      <a:pt x="226" y="65"/>
                    </a:lnTo>
                    <a:lnTo>
                      <a:pt x="236" y="61"/>
                    </a:lnTo>
                    <a:lnTo>
                      <a:pt x="245" y="59"/>
                    </a:lnTo>
                    <a:lnTo>
                      <a:pt x="257" y="59"/>
                    </a:lnTo>
                    <a:lnTo>
                      <a:pt x="266" y="55"/>
                    </a:lnTo>
                    <a:lnTo>
                      <a:pt x="276" y="53"/>
                    </a:lnTo>
                    <a:lnTo>
                      <a:pt x="285" y="52"/>
                    </a:lnTo>
                    <a:lnTo>
                      <a:pt x="295" y="52"/>
                    </a:lnTo>
                    <a:lnTo>
                      <a:pt x="304" y="50"/>
                    </a:lnTo>
                    <a:lnTo>
                      <a:pt x="314" y="50"/>
                    </a:lnTo>
                    <a:lnTo>
                      <a:pt x="323" y="50"/>
                    </a:lnTo>
                    <a:lnTo>
                      <a:pt x="335" y="50"/>
                    </a:lnTo>
                    <a:lnTo>
                      <a:pt x="342" y="50"/>
                    </a:lnTo>
                    <a:lnTo>
                      <a:pt x="352" y="50"/>
                    </a:lnTo>
                    <a:lnTo>
                      <a:pt x="361" y="52"/>
                    </a:lnTo>
                    <a:lnTo>
                      <a:pt x="371" y="53"/>
                    </a:lnTo>
                    <a:lnTo>
                      <a:pt x="380" y="55"/>
                    </a:lnTo>
                    <a:lnTo>
                      <a:pt x="390" y="57"/>
                    </a:lnTo>
                    <a:lnTo>
                      <a:pt x="399" y="61"/>
                    </a:lnTo>
                    <a:lnTo>
                      <a:pt x="409" y="65"/>
                    </a:lnTo>
                    <a:lnTo>
                      <a:pt x="418" y="67"/>
                    </a:lnTo>
                    <a:lnTo>
                      <a:pt x="426" y="71"/>
                    </a:lnTo>
                    <a:lnTo>
                      <a:pt x="435" y="74"/>
                    </a:lnTo>
                    <a:lnTo>
                      <a:pt x="445" y="80"/>
                    </a:lnTo>
                    <a:lnTo>
                      <a:pt x="454" y="84"/>
                    </a:lnTo>
                    <a:lnTo>
                      <a:pt x="464" y="90"/>
                    </a:lnTo>
                    <a:lnTo>
                      <a:pt x="473" y="95"/>
                    </a:lnTo>
                    <a:lnTo>
                      <a:pt x="483" y="101"/>
                    </a:lnTo>
                    <a:lnTo>
                      <a:pt x="492" y="107"/>
                    </a:lnTo>
                    <a:lnTo>
                      <a:pt x="502" y="114"/>
                    </a:lnTo>
                    <a:lnTo>
                      <a:pt x="510" y="120"/>
                    </a:lnTo>
                    <a:lnTo>
                      <a:pt x="519" y="126"/>
                    </a:lnTo>
                    <a:lnTo>
                      <a:pt x="527" y="133"/>
                    </a:lnTo>
                    <a:lnTo>
                      <a:pt x="536" y="139"/>
                    </a:lnTo>
                    <a:lnTo>
                      <a:pt x="546" y="147"/>
                    </a:lnTo>
                    <a:lnTo>
                      <a:pt x="555" y="154"/>
                    </a:lnTo>
                    <a:lnTo>
                      <a:pt x="563" y="162"/>
                    </a:lnTo>
                    <a:lnTo>
                      <a:pt x="570" y="169"/>
                    </a:lnTo>
                    <a:lnTo>
                      <a:pt x="578" y="175"/>
                    </a:lnTo>
                    <a:lnTo>
                      <a:pt x="586" y="183"/>
                    </a:lnTo>
                    <a:lnTo>
                      <a:pt x="593" y="188"/>
                    </a:lnTo>
                    <a:lnTo>
                      <a:pt x="601" y="196"/>
                    </a:lnTo>
                    <a:lnTo>
                      <a:pt x="607" y="204"/>
                    </a:lnTo>
                    <a:lnTo>
                      <a:pt x="614" y="211"/>
                    </a:lnTo>
                    <a:lnTo>
                      <a:pt x="620" y="217"/>
                    </a:lnTo>
                    <a:lnTo>
                      <a:pt x="626" y="223"/>
                    </a:lnTo>
                    <a:lnTo>
                      <a:pt x="629" y="228"/>
                    </a:lnTo>
                    <a:lnTo>
                      <a:pt x="635" y="234"/>
                    </a:lnTo>
                    <a:lnTo>
                      <a:pt x="637" y="240"/>
                    </a:lnTo>
                    <a:lnTo>
                      <a:pt x="643" y="245"/>
                    </a:lnTo>
                    <a:lnTo>
                      <a:pt x="645" y="249"/>
                    </a:lnTo>
                    <a:lnTo>
                      <a:pt x="648" y="255"/>
                    </a:lnTo>
                    <a:lnTo>
                      <a:pt x="652" y="263"/>
                    </a:lnTo>
                    <a:lnTo>
                      <a:pt x="658" y="272"/>
                    </a:lnTo>
                    <a:lnTo>
                      <a:pt x="664" y="278"/>
                    </a:lnTo>
                    <a:lnTo>
                      <a:pt x="669" y="287"/>
                    </a:lnTo>
                    <a:lnTo>
                      <a:pt x="675" y="293"/>
                    </a:lnTo>
                    <a:lnTo>
                      <a:pt x="681" y="301"/>
                    </a:lnTo>
                    <a:lnTo>
                      <a:pt x="686" y="304"/>
                    </a:lnTo>
                    <a:lnTo>
                      <a:pt x="692" y="310"/>
                    </a:lnTo>
                    <a:lnTo>
                      <a:pt x="702" y="314"/>
                    </a:lnTo>
                    <a:lnTo>
                      <a:pt x="711" y="312"/>
                    </a:lnTo>
                    <a:lnTo>
                      <a:pt x="713" y="308"/>
                    </a:lnTo>
                    <a:lnTo>
                      <a:pt x="715" y="303"/>
                    </a:lnTo>
                    <a:lnTo>
                      <a:pt x="715" y="299"/>
                    </a:lnTo>
                    <a:lnTo>
                      <a:pt x="717" y="293"/>
                    </a:lnTo>
                    <a:lnTo>
                      <a:pt x="717" y="287"/>
                    </a:lnTo>
                    <a:lnTo>
                      <a:pt x="717" y="284"/>
                    </a:lnTo>
                    <a:lnTo>
                      <a:pt x="717" y="284"/>
                    </a:lnTo>
                    <a:close/>
                  </a:path>
                </a:pathLst>
              </a:custGeom>
              <a:solidFill>
                <a:srgbClr val="17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086160" y="2785680"/>
                <a:ext cx="248040" cy="354960"/>
              </a:xfrm>
              <a:custGeom>
                <a:avLst/>
                <a:gdLst/>
                <a:ahLst/>
                <a:rect l="l" t="t" r="r" b="b"/>
                <a:pathLst>
                  <a:path w="373" h="525">
                    <a:moveTo>
                      <a:pt x="257" y="4"/>
                    </a:moveTo>
                    <a:lnTo>
                      <a:pt x="251" y="4"/>
                    </a:lnTo>
                    <a:lnTo>
                      <a:pt x="245" y="6"/>
                    </a:lnTo>
                    <a:lnTo>
                      <a:pt x="238" y="8"/>
                    </a:lnTo>
                    <a:lnTo>
                      <a:pt x="232" y="13"/>
                    </a:lnTo>
                    <a:lnTo>
                      <a:pt x="222" y="17"/>
                    </a:lnTo>
                    <a:lnTo>
                      <a:pt x="215" y="25"/>
                    </a:lnTo>
                    <a:lnTo>
                      <a:pt x="205" y="32"/>
                    </a:lnTo>
                    <a:lnTo>
                      <a:pt x="196" y="40"/>
                    </a:lnTo>
                    <a:lnTo>
                      <a:pt x="186" y="48"/>
                    </a:lnTo>
                    <a:lnTo>
                      <a:pt x="175" y="57"/>
                    </a:lnTo>
                    <a:lnTo>
                      <a:pt x="165" y="67"/>
                    </a:lnTo>
                    <a:lnTo>
                      <a:pt x="156" y="76"/>
                    </a:lnTo>
                    <a:lnTo>
                      <a:pt x="143" y="88"/>
                    </a:lnTo>
                    <a:lnTo>
                      <a:pt x="133" y="99"/>
                    </a:lnTo>
                    <a:lnTo>
                      <a:pt x="127" y="107"/>
                    </a:lnTo>
                    <a:lnTo>
                      <a:pt x="122" y="112"/>
                    </a:lnTo>
                    <a:lnTo>
                      <a:pt x="116" y="118"/>
                    </a:lnTo>
                    <a:lnTo>
                      <a:pt x="112" y="126"/>
                    </a:lnTo>
                    <a:lnTo>
                      <a:pt x="104" y="131"/>
                    </a:lnTo>
                    <a:lnTo>
                      <a:pt x="101" y="139"/>
                    </a:lnTo>
                    <a:lnTo>
                      <a:pt x="95" y="145"/>
                    </a:lnTo>
                    <a:lnTo>
                      <a:pt x="89" y="152"/>
                    </a:lnTo>
                    <a:lnTo>
                      <a:pt x="84" y="158"/>
                    </a:lnTo>
                    <a:lnTo>
                      <a:pt x="80" y="165"/>
                    </a:lnTo>
                    <a:lnTo>
                      <a:pt x="74" y="173"/>
                    </a:lnTo>
                    <a:lnTo>
                      <a:pt x="70" y="181"/>
                    </a:lnTo>
                    <a:lnTo>
                      <a:pt x="65" y="186"/>
                    </a:lnTo>
                    <a:lnTo>
                      <a:pt x="61" y="194"/>
                    </a:lnTo>
                    <a:lnTo>
                      <a:pt x="55" y="202"/>
                    </a:lnTo>
                    <a:lnTo>
                      <a:pt x="51" y="211"/>
                    </a:lnTo>
                    <a:lnTo>
                      <a:pt x="46" y="219"/>
                    </a:lnTo>
                    <a:lnTo>
                      <a:pt x="42" y="226"/>
                    </a:lnTo>
                    <a:lnTo>
                      <a:pt x="38" y="234"/>
                    </a:lnTo>
                    <a:lnTo>
                      <a:pt x="34" y="242"/>
                    </a:lnTo>
                    <a:lnTo>
                      <a:pt x="30" y="249"/>
                    </a:lnTo>
                    <a:lnTo>
                      <a:pt x="27" y="259"/>
                    </a:lnTo>
                    <a:lnTo>
                      <a:pt x="23" y="266"/>
                    </a:lnTo>
                    <a:lnTo>
                      <a:pt x="19" y="274"/>
                    </a:lnTo>
                    <a:lnTo>
                      <a:pt x="17" y="281"/>
                    </a:lnTo>
                    <a:lnTo>
                      <a:pt x="13" y="289"/>
                    </a:lnTo>
                    <a:lnTo>
                      <a:pt x="11" y="297"/>
                    </a:lnTo>
                    <a:lnTo>
                      <a:pt x="9" y="306"/>
                    </a:lnTo>
                    <a:lnTo>
                      <a:pt x="6" y="314"/>
                    </a:lnTo>
                    <a:lnTo>
                      <a:pt x="6" y="323"/>
                    </a:lnTo>
                    <a:lnTo>
                      <a:pt x="2" y="331"/>
                    </a:lnTo>
                    <a:lnTo>
                      <a:pt x="2" y="340"/>
                    </a:lnTo>
                    <a:lnTo>
                      <a:pt x="0" y="350"/>
                    </a:lnTo>
                    <a:lnTo>
                      <a:pt x="0" y="358"/>
                    </a:lnTo>
                    <a:lnTo>
                      <a:pt x="0" y="367"/>
                    </a:lnTo>
                    <a:lnTo>
                      <a:pt x="0" y="377"/>
                    </a:lnTo>
                    <a:lnTo>
                      <a:pt x="0" y="384"/>
                    </a:lnTo>
                    <a:lnTo>
                      <a:pt x="0" y="390"/>
                    </a:lnTo>
                    <a:lnTo>
                      <a:pt x="0" y="397"/>
                    </a:lnTo>
                    <a:lnTo>
                      <a:pt x="0" y="407"/>
                    </a:lnTo>
                    <a:lnTo>
                      <a:pt x="0" y="413"/>
                    </a:lnTo>
                    <a:lnTo>
                      <a:pt x="2" y="420"/>
                    </a:lnTo>
                    <a:lnTo>
                      <a:pt x="2" y="426"/>
                    </a:lnTo>
                    <a:lnTo>
                      <a:pt x="6" y="434"/>
                    </a:lnTo>
                    <a:lnTo>
                      <a:pt x="6" y="439"/>
                    </a:lnTo>
                    <a:lnTo>
                      <a:pt x="8" y="445"/>
                    </a:lnTo>
                    <a:lnTo>
                      <a:pt x="8" y="451"/>
                    </a:lnTo>
                    <a:lnTo>
                      <a:pt x="11" y="456"/>
                    </a:lnTo>
                    <a:lnTo>
                      <a:pt x="15" y="466"/>
                    </a:lnTo>
                    <a:lnTo>
                      <a:pt x="21" y="477"/>
                    </a:lnTo>
                    <a:lnTo>
                      <a:pt x="27" y="485"/>
                    </a:lnTo>
                    <a:lnTo>
                      <a:pt x="34" y="493"/>
                    </a:lnTo>
                    <a:lnTo>
                      <a:pt x="40" y="500"/>
                    </a:lnTo>
                    <a:lnTo>
                      <a:pt x="47" y="506"/>
                    </a:lnTo>
                    <a:lnTo>
                      <a:pt x="55" y="510"/>
                    </a:lnTo>
                    <a:lnTo>
                      <a:pt x="65" y="515"/>
                    </a:lnTo>
                    <a:lnTo>
                      <a:pt x="74" y="519"/>
                    </a:lnTo>
                    <a:lnTo>
                      <a:pt x="84" y="523"/>
                    </a:lnTo>
                    <a:lnTo>
                      <a:pt x="93" y="523"/>
                    </a:lnTo>
                    <a:lnTo>
                      <a:pt x="103" y="525"/>
                    </a:lnTo>
                    <a:lnTo>
                      <a:pt x="112" y="525"/>
                    </a:lnTo>
                    <a:lnTo>
                      <a:pt x="124" y="525"/>
                    </a:lnTo>
                    <a:lnTo>
                      <a:pt x="133" y="523"/>
                    </a:lnTo>
                    <a:lnTo>
                      <a:pt x="146" y="521"/>
                    </a:lnTo>
                    <a:lnTo>
                      <a:pt x="156" y="519"/>
                    </a:lnTo>
                    <a:lnTo>
                      <a:pt x="167" y="517"/>
                    </a:lnTo>
                    <a:lnTo>
                      <a:pt x="179" y="513"/>
                    </a:lnTo>
                    <a:lnTo>
                      <a:pt x="190" y="508"/>
                    </a:lnTo>
                    <a:lnTo>
                      <a:pt x="196" y="506"/>
                    </a:lnTo>
                    <a:lnTo>
                      <a:pt x="201" y="504"/>
                    </a:lnTo>
                    <a:lnTo>
                      <a:pt x="207" y="502"/>
                    </a:lnTo>
                    <a:lnTo>
                      <a:pt x="213" y="500"/>
                    </a:lnTo>
                    <a:lnTo>
                      <a:pt x="224" y="493"/>
                    </a:lnTo>
                    <a:lnTo>
                      <a:pt x="236" y="489"/>
                    </a:lnTo>
                    <a:lnTo>
                      <a:pt x="241" y="485"/>
                    </a:lnTo>
                    <a:lnTo>
                      <a:pt x="247" y="481"/>
                    </a:lnTo>
                    <a:lnTo>
                      <a:pt x="253" y="479"/>
                    </a:lnTo>
                    <a:lnTo>
                      <a:pt x="258" y="475"/>
                    </a:lnTo>
                    <a:lnTo>
                      <a:pt x="268" y="466"/>
                    </a:lnTo>
                    <a:lnTo>
                      <a:pt x="278" y="460"/>
                    </a:lnTo>
                    <a:lnTo>
                      <a:pt x="287" y="451"/>
                    </a:lnTo>
                    <a:lnTo>
                      <a:pt x="297" y="443"/>
                    </a:lnTo>
                    <a:lnTo>
                      <a:pt x="304" y="434"/>
                    </a:lnTo>
                    <a:lnTo>
                      <a:pt x="312" y="426"/>
                    </a:lnTo>
                    <a:lnTo>
                      <a:pt x="317" y="416"/>
                    </a:lnTo>
                    <a:lnTo>
                      <a:pt x="325" y="407"/>
                    </a:lnTo>
                    <a:lnTo>
                      <a:pt x="331" y="397"/>
                    </a:lnTo>
                    <a:lnTo>
                      <a:pt x="336" y="388"/>
                    </a:lnTo>
                    <a:lnTo>
                      <a:pt x="342" y="377"/>
                    </a:lnTo>
                    <a:lnTo>
                      <a:pt x="346" y="367"/>
                    </a:lnTo>
                    <a:lnTo>
                      <a:pt x="350" y="358"/>
                    </a:lnTo>
                    <a:lnTo>
                      <a:pt x="354" y="348"/>
                    </a:lnTo>
                    <a:lnTo>
                      <a:pt x="357" y="337"/>
                    </a:lnTo>
                    <a:lnTo>
                      <a:pt x="361" y="327"/>
                    </a:lnTo>
                    <a:lnTo>
                      <a:pt x="363" y="316"/>
                    </a:lnTo>
                    <a:lnTo>
                      <a:pt x="365" y="304"/>
                    </a:lnTo>
                    <a:lnTo>
                      <a:pt x="365" y="295"/>
                    </a:lnTo>
                    <a:lnTo>
                      <a:pt x="367" y="283"/>
                    </a:lnTo>
                    <a:lnTo>
                      <a:pt x="369" y="274"/>
                    </a:lnTo>
                    <a:lnTo>
                      <a:pt x="371" y="262"/>
                    </a:lnTo>
                    <a:lnTo>
                      <a:pt x="371" y="253"/>
                    </a:lnTo>
                    <a:lnTo>
                      <a:pt x="373" y="243"/>
                    </a:lnTo>
                    <a:lnTo>
                      <a:pt x="371" y="232"/>
                    </a:lnTo>
                    <a:lnTo>
                      <a:pt x="371" y="223"/>
                    </a:lnTo>
                    <a:lnTo>
                      <a:pt x="371" y="213"/>
                    </a:lnTo>
                    <a:lnTo>
                      <a:pt x="371" y="204"/>
                    </a:lnTo>
                    <a:lnTo>
                      <a:pt x="371" y="194"/>
                    </a:lnTo>
                    <a:lnTo>
                      <a:pt x="371" y="185"/>
                    </a:lnTo>
                    <a:lnTo>
                      <a:pt x="369" y="175"/>
                    </a:lnTo>
                    <a:lnTo>
                      <a:pt x="369" y="167"/>
                    </a:lnTo>
                    <a:lnTo>
                      <a:pt x="367" y="158"/>
                    </a:lnTo>
                    <a:lnTo>
                      <a:pt x="365" y="150"/>
                    </a:lnTo>
                    <a:lnTo>
                      <a:pt x="365" y="141"/>
                    </a:lnTo>
                    <a:lnTo>
                      <a:pt x="363" y="135"/>
                    </a:lnTo>
                    <a:lnTo>
                      <a:pt x="363" y="126"/>
                    </a:lnTo>
                    <a:lnTo>
                      <a:pt x="361" y="118"/>
                    </a:lnTo>
                    <a:lnTo>
                      <a:pt x="361" y="110"/>
                    </a:lnTo>
                    <a:lnTo>
                      <a:pt x="361" y="105"/>
                    </a:lnTo>
                    <a:lnTo>
                      <a:pt x="359" y="97"/>
                    </a:lnTo>
                    <a:lnTo>
                      <a:pt x="357" y="91"/>
                    </a:lnTo>
                    <a:lnTo>
                      <a:pt x="357" y="84"/>
                    </a:lnTo>
                    <a:lnTo>
                      <a:pt x="355" y="80"/>
                    </a:lnTo>
                    <a:lnTo>
                      <a:pt x="354" y="69"/>
                    </a:lnTo>
                    <a:lnTo>
                      <a:pt x="354" y="61"/>
                    </a:lnTo>
                    <a:lnTo>
                      <a:pt x="350" y="51"/>
                    </a:lnTo>
                    <a:lnTo>
                      <a:pt x="348" y="46"/>
                    </a:lnTo>
                    <a:lnTo>
                      <a:pt x="344" y="42"/>
                    </a:lnTo>
                    <a:lnTo>
                      <a:pt x="342" y="40"/>
                    </a:lnTo>
                    <a:lnTo>
                      <a:pt x="336" y="38"/>
                    </a:lnTo>
                    <a:lnTo>
                      <a:pt x="333" y="42"/>
                    </a:lnTo>
                    <a:lnTo>
                      <a:pt x="327" y="44"/>
                    </a:lnTo>
                    <a:lnTo>
                      <a:pt x="321" y="51"/>
                    </a:lnTo>
                    <a:lnTo>
                      <a:pt x="316" y="57"/>
                    </a:lnTo>
                    <a:lnTo>
                      <a:pt x="312" y="67"/>
                    </a:lnTo>
                    <a:lnTo>
                      <a:pt x="310" y="70"/>
                    </a:lnTo>
                    <a:lnTo>
                      <a:pt x="310" y="76"/>
                    </a:lnTo>
                    <a:lnTo>
                      <a:pt x="310" y="82"/>
                    </a:lnTo>
                    <a:lnTo>
                      <a:pt x="310" y="89"/>
                    </a:lnTo>
                    <a:lnTo>
                      <a:pt x="310" y="93"/>
                    </a:lnTo>
                    <a:lnTo>
                      <a:pt x="310" y="101"/>
                    </a:lnTo>
                    <a:lnTo>
                      <a:pt x="310" y="107"/>
                    </a:lnTo>
                    <a:lnTo>
                      <a:pt x="312" y="114"/>
                    </a:lnTo>
                    <a:lnTo>
                      <a:pt x="314" y="120"/>
                    </a:lnTo>
                    <a:lnTo>
                      <a:pt x="316" y="129"/>
                    </a:lnTo>
                    <a:lnTo>
                      <a:pt x="316" y="137"/>
                    </a:lnTo>
                    <a:lnTo>
                      <a:pt x="317" y="146"/>
                    </a:lnTo>
                    <a:lnTo>
                      <a:pt x="319" y="154"/>
                    </a:lnTo>
                    <a:lnTo>
                      <a:pt x="319" y="162"/>
                    </a:lnTo>
                    <a:lnTo>
                      <a:pt x="321" y="169"/>
                    </a:lnTo>
                    <a:lnTo>
                      <a:pt x="323" y="179"/>
                    </a:lnTo>
                    <a:lnTo>
                      <a:pt x="323" y="186"/>
                    </a:lnTo>
                    <a:lnTo>
                      <a:pt x="325" y="196"/>
                    </a:lnTo>
                    <a:lnTo>
                      <a:pt x="325" y="205"/>
                    </a:lnTo>
                    <a:lnTo>
                      <a:pt x="327" y="217"/>
                    </a:lnTo>
                    <a:lnTo>
                      <a:pt x="325" y="226"/>
                    </a:lnTo>
                    <a:lnTo>
                      <a:pt x="325" y="236"/>
                    </a:lnTo>
                    <a:lnTo>
                      <a:pt x="325" y="247"/>
                    </a:lnTo>
                    <a:lnTo>
                      <a:pt x="325" y="259"/>
                    </a:lnTo>
                    <a:lnTo>
                      <a:pt x="323" y="268"/>
                    </a:lnTo>
                    <a:lnTo>
                      <a:pt x="321" y="280"/>
                    </a:lnTo>
                    <a:lnTo>
                      <a:pt x="319" y="285"/>
                    </a:lnTo>
                    <a:lnTo>
                      <a:pt x="319" y="291"/>
                    </a:lnTo>
                    <a:lnTo>
                      <a:pt x="317" y="297"/>
                    </a:lnTo>
                    <a:lnTo>
                      <a:pt x="317" y="304"/>
                    </a:lnTo>
                    <a:lnTo>
                      <a:pt x="314" y="314"/>
                    </a:lnTo>
                    <a:lnTo>
                      <a:pt x="308" y="325"/>
                    </a:lnTo>
                    <a:lnTo>
                      <a:pt x="304" y="335"/>
                    </a:lnTo>
                    <a:lnTo>
                      <a:pt x="300" y="346"/>
                    </a:lnTo>
                    <a:lnTo>
                      <a:pt x="295" y="356"/>
                    </a:lnTo>
                    <a:lnTo>
                      <a:pt x="289" y="365"/>
                    </a:lnTo>
                    <a:lnTo>
                      <a:pt x="283" y="375"/>
                    </a:lnTo>
                    <a:lnTo>
                      <a:pt x="279" y="384"/>
                    </a:lnTo>
                    <a:lnTo>
                      <a:pt x="272" y="390"/>
                    </a:lnTo>
                    <a:lnTo>
                      <a:pt x="264" y="399"/>
                    </a:lnTo>
                    <a:lnTo>
                      <a:pt x="258" y="407"/>
                    </a:lnTo>
                    <a:lnTo>
                      <a:pt x="253" y="415"/>
                    </a:lnTo>
                    <a:lnTo>
                      <a:pt x="245" y="420"/>
                    </a:lnTo>
                    <a:lnTo>
                      <a:pt x="239" y="426"/>
                    </a:lnTo>
                    <a:lnTo>
                      <a:pt x="232" y="434"/>
                    </a:lnTo>
                    <a:lnTo>
                      <a:pt x="224" y="439"/>
                    </a:lnTo>
                    <a:lnTo>
                      <a:pt x="217" y="443"/>
                    </a:lnTo>
                    <a:lnTo>
                      <a:pt x="211" y="449"/>
                    </a:lnTo>
                    <a:lnTo>
                      <a:pt x="201" y="453"/>
                    </a:lnTo>
                    <a:lnTo>
                      <a:pt x="196" y="456"/>
                    </a:lnTo>
                    <a:lnTo>
                      <a:pt x="188" y="460"/>
                    </a:lnTo>
                    <a:lnTo>
                      <a:pt x="181" y="464"/>
                    </a:lnTo>
                    <a:lnTo>
                      <a:pt x="173" y="466"/>
                    </a:lnTo>
                    <a:lnTo>
                      <a:pt x="167" y="470"/>
                    </a:lnTo>
                    <a:lnTo>
                      <a:pt x="160" y="470"/>
                    </a:lnTo>
                    <a:lnTo>
                      <a:pt x="152" y="472"/>
                    </a:lnTo>
                    <a:lnTo>
                      <a:pt x="146" y="472"/>
                    </a:lnTo>
                    <a:lnTo>
                      <a:pt x="139" y="474"/>
                    </a:lnTo>
                    <a:lnTo>
                      <a:pt x="133" y="472"/>
                    </a:lnTo>
                    <a:lnTo>
                      <a:pt x="127" y="472"/>
                    </a:lnTo>
                    <a:lnTo>
                      <a:pt x="122" y="472"/>
                    </a:lnTo>
                    <a:lnTo>
                      <a:pt x="118" y="472"/>
                    </a:lnTo>
                    <a:lnTo>
                      <a:pt x="104" y="466"/>
                    </a:lnTo>
                    <a:lnTo>
                      <a:pt x="95" y="460"/>
                    </a:lnTo>
                    <a:lnTo>
                      <a:pt x="85" y="453"/>
                    </a:lnTo>
                    <a:lnTo>
                      <a:pt x="76" y="443"/>
                    </a:lnTo>
                    <a:lnTo>
                      <a:pt x="72" y="437"/>
                    </a:lnTo>
                    <a:lnTo>
                      <a:pt x="68" y="434"/>
                    </a:lnTo>
                    <a:lnTo>
                      <a:pt x="65" y="426"/>
                    </a:lnTo>
                    <a:lnTo>
                      <a:pt x="63" y="422"/>
                    </a:lnTo>
                    <a:lnTo>
                      <a:pt x="59" y="415"/>
                    </a:lnTo>
                    <a:lnTo>
                      <a:pt x="55" y="407"/>
                    </a:lnTo>
                    <a:lnTo>
                      <a:pt x="53" y="401"/>
                    </a:lnTo>
                    <a:lnTo>
                      <a:pt x="51" y="396"/>
                    </a:lnTo>
                    <a:lnTo>
                      <a:pt x="47" y="386"/>
                    </a:lnTo>
                    <a:lnTo>
                      <a:pt x="47" y="378"/>
                    </a:lnTo>
                    <a:lnTo>
                      <a:pt x="46" y="371"/>
                    </a:lnTo>
                    <a:lnTo>
                      <a:pt x="46" y="363"/>
                    </a:lnTo>
                    <a:lnTo>
                      <a:pt x="44" y="356"/>
                    </a:lnTo>
                    <a:lnTo>
                      <a:pt x="44" y="348"/>
                    </a:lnTo>
                    <a:lnTo>
                      <a:pt x="44" y="340"/>
                    </a:lnTo>
                    <a:lnTo>
                      <a:pt x="46" y="333"/>
                    </a:lnTo>
                    <a:lnTo>
                      <a:pt x="46" y="323"/>
                    </a:lnTo>
                    <a:lnTo>
                      <a:pt x="46" y="316"/>
                    </a:lnTo>
                    <a:lnTo>
                      <a:pt x="47" y="306"/>
                    </a:lnTo>
                    <a:lnTo>
                      <a:pt x="51" y="299"/>
                    </a:lnTo>
                    <a:lnTo>
                      <a:pt x="53" y="291"/>
                    </a:lnTo>
                    <a:lnTo>
                      <a:pt x="55" y="283"/>
                    </a:lnTo>
                    <a:lnTo>
                      <a:pt x="59" y="276"/>
                    </a:lnTo>
                    <a:lnTo>
                      <a:pt x="65" y="268"/>
                    </a:lnTo>
                    <a:lnTo>
                      <a:pt x="66" y="261"/>
                    </a:lnTo>
                    <a:lnTo>
                      <a:pt x="72" y="253"/>
                    </a:lnTo>
                    <a:lnTo>
                      <a:pt x="76" y="245"/>
                    </a:lnTo>
                    <a:lnTo>
                      <a:pt x="82" y="238"/>
                    </a:lnTo>
                    <a:lnTo>
                      <a:pt x="87" y="228"/>
                    </a:lnTo>
                    <a:lnTo>
                      <a:pt x="93" y="221"/>
                    </a:lnTo>
                    <a:lnTo>
                      <a:pt x="99" y="213"/>
                    </a:lnTo>
                    <a:lnTo>
                      <a:pt x="104" y="205"/>
                    </a:lnTo>
                    <a:lnTo>
                      <a:pt x="110" y="196"/>
                    </a:lnTo>
                    <a:lnTo>
                      <a:pt x="116" y="190"/>
                    </a:lnTo>
                    <a:lnTo>
                      <a:pt x="122" y="181"/>
                    </a:lnTo>
                    <a:lnTo>
                      <a:pt x="129" y="173"/>
                    </a:lnTo>
                    <a:lnTo>
                      <a:pt x="135" y="165"/>
                    </a:lnTo>
                    <a:lnTo>
                      <a:pt x="141" y="158"/>
                    </a:lnTo>
                    <a:lnTo>
                      <a:pt x="148" y="150"/>
                    </a:lnTo>
                    <a:lnTo>
                      <a:pt x="156" y="145"/>
                    </a:lnTo>
                    <a:lnTo>
                      <a:pt x="160" y="137"/>
                    </a:lnTo>
                    <a:lnTo>
                      <a:pt x="167" y="129"/>
                    </a:lnTo>
                    <a:lnTo>
                      <a:pt x="173" y="122"/>
                    </a:lnTo>
                    <a:lnTo>
                      <a:pt x="179" y="116"/>
                    </a:lnTo>
                    <a:lnTo>
                      <a:pt x="186" y="110"/>
                    </a:lnTo>
                    <a:lnTo>
                      <a:pt x="192" y="103"/>
                    </a:lnTo>
                    <a:lnTo>
                      <a:pt x="198" y="97"/>
                    </a:lnTo>
                    <a:lnTo>
                      <a:pt x="205" y="93"/>
                    </a:lnTo>
                    <a:lnTo>
                      <a:pt x="215" y="82"/>
                    </a:lnTo>
                    <a:lnTo>
                      <a:pt x="226" y="74"/>
                    </a:lnTo>
                    <a:lnTo>
                      <a:pt x="236" y="67"/>
                    </a:lnTo>
                    <a:lnTo>
                      <a:pt x="245" y="61"/>
                    </a:lnTo>
                    <a:lnTo>
                      <a:pt x="251" y="55"/>
                    </a:lnTo>
                    <a:lnTo>
                      <a:pt x="258" y="49"/>
                    </a:lnTo>
                    <a:lnTo>
                      <a:pt x="262" y="44"/>
                    </a:lnTo>
                    <a:lnTo>
                      <a:pt x="270" y="38"/>
                    </a:lnTo>
                    <a:lnTo>
                      <a:pt x="276" y="27"/>
                    </a:lnTo>
                    <a:lnTo>
                      <a:pt x="281" y="17"/>
                    </a:lnTo>
                    <a:lnTo>
                      <a:pt x="281" y="8"/>
                    </a:lnTo>
                    <a:lnTo>
                      <a:pt x="278" y="4"/>
                    </a:lnTo>
                    <a:lnTo>
                      <a:pt x="274" y="0"/>
                    </a:lnTo>
                    <a:lnTo>
                      <a:pt x="270" y="0"/>
                    </a:lnTo>
                    <a:lnTo>
                      <a:pt x="262" y="0"/>
                    </a:lnTo>
                    <a:lnTo>
                      <a:pt x="257" y="4"/>
                    </a:lnTo>
                    <a:lnTo>
                      <a:pt x="257" y="4"/>
                    </a:lnTo>
                    <a:close/>
                  </a:path>
                </a:pathLst>
              </a:custGeom>
              <a:solidFill>
                <a:srgbClr val="17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266520" y="2532240"/>
                <a:ext cx="100800" cy="108000"/>
              </a:xfrm>
              <a:custGeom>
                <a:avLst/>
                <a:gdLst/>
                <a:ahLst/>
                <a:rect l="l" t="t" r="r" b="b"/>
                <a:pathLst>
                  <a:path w="152" h="160">
                    <a:moveTo>
                      <a:pt x="38" y="10"/>
                    </a:moveTo>
                    <a:lnTo>
                      <a:pt x="44" y="8"/>
                    </a:lnTo>
                    <a:lnTo>
                      <a:pt x="51" y="4"/>
                    </a:lnTo>
                    <a:lnTo>
                      <a:pt x="57" y="2"/>
                    </a:lnTo>
                    <a:lnTo>
                      <a:pt x="64" y="0"/>
                    </a:lnTo>
                    <a:lnTo>
                      <a:pt x="72" y="0"/>
                    </a:lnTo>
                    <a:lnTo>
                      <a:pt x="82" y="0"/>
                    </a:lnTo>
                    <a:lnTo>
                      <a:pt x="91" y="0"/>
                    </a:lnTo>
                    <a:lnTo>
                      <a:pt x="101" y="2"/>
                    </a:lnTo>
                    <a:lnTo>
                      <a:pt x="110" y="4"/>
                    </a:lnTo>
                    <a:lnTo>
                      <a:pt x="118" y="10"/>
                    </a:lnTo>
                    <a:lnTo>
                      <a:pt x="125" y="14"/>
                    </a:lnTo>
                    <a:lnTo>
                      <a:pt x="133" y="21"/>
                    </a:lnTo>
                    <a:lnTo>
                      <a:pt x="139" y="27"/>
                    </a:lnTo>
                    <a:lnTo>
                      <a:pt x="144" y="37"/>
                    </a:lnTo>
                    <a:lnTo>
                      <a:pt x="146" y="42"/>
                    </a:lnTo>
                    <a:lnTo>
                      <a:pt x="148" y="48"/>
                    </a:lnTo>
                    <a:lnTo>
                      <a:pt x="150" y="54"/>
                    </a:lnTo>
                    <a:lnTo>
                      <a:pt x="152" y="59"/>
                    </a:lnTo>
                    <a:lnTo>
                      <a:pt x="150" y="65"/>
                    </a:lnTo>
                    <a:lnTo>
                      <a:pt x="150" y="73"/>
                    </a:lnTo>
                    <a:lnTo>
                      <a:pt x="150" y="76"/>
                    </a:lnTo>
                    <a:lnTo>
                      <a:pt x="150" y="84"/>
                    </a:lnTo>
                    <a:lnTo>
                      <a:pt x="148" y="94"/>
                    </a:lnTo>
                    <a:lnTo>
                      <a:pt x="146" y="105"/>
                    </a:lnTo>
                    <a:lnTo>
                      <a:pt x="142" y="113"/>
                    </a:lnTo>
                    <a:lnTo>
                      <a:pt x="139" y="122"/>
                    </a:lnTo>
                    <a:lnTo>
                      <a:pt x="133" y="130"/>
                    </a:lnTo>
                    <a:lnTo>
                      <a:pt x="129" y="139"/>
                    </a:lnTo>
                    <a:lnTo>
                      <a:pt x="121" y="143"/>
                    </a:lnTo>
                    <a:lnTo>
                      <a:pt x="114" y="149"/>
                    </a:lnTo>
                    <a:lnTo>
                      <a:pt x="106" y="152"/>
                    </a:lnTo>
                    <a:lnTo>
                      <a:pt x="99" y="156"/>
                    </a:lnTo>
                    <a:lnTo>
                      <a:pt x="91" y="158"/>
                    </a:lnTo>
                    <a:lnTo>
                      <a:pt x="82" y="160"/>
                    </a:lnTo>
                    <a:lnTo>
                      <a:pt x="72" y="160"/>
                    </a:lnTo>
                    <a:lnTo>
                      <a:pt x="64" y="160"/>
                    </a:lnTo>
                    <a:lnTo>
                      <a:pt x="55" y="156"/>
                    </a:lnTo>
                    <a:lnTo>
                      <a:pt x="45" y="152"/>
                    </a:lnTo>
                    <a:lnTo>
                      <a:pt x="36" y="151"/>
                    </a:lnTo>
                    <a:lnTo>
                      <a:pt x="30" y="149"/>
                    </a:lnTo>
                    <a:lnTo>
                      <a:pt x="23" y="143"/>
                    </a:lnTo>
                    <a:lnTo>
                      <a:pt x="17" y="139"/>
                    </a:lnTo>
                    <a:lnTo>
                      <a:pt x="11" y="135"/>
                    </a:lnTo>
                    <a:lnTo>
                      <a:pt x="9" y="132"/>
                    </a:lnTo>
                    <a:lnTo>
                      <a:pt x="2" y="124"/>
                    </a:lnTo>
                    <a:lnTo>
                      <a:pt x="0" y="116"/>
                    </a:lnTo>
                    <a:lnTo>
                      <a:pt x="2" y="109"/>
                    </a:lnTo>
                    <a:lnTo>
                      <a:pt x="7" y="105"/>
                    </a:lnTo>
                    <a:lnTo>
                      <a:pt x="15" y="103"/>
                    </a:lnTo>
                    <a:lnTo>
                      <a:pt x="21" y="105"/>
                    </a:lnTo>
                    <a:lnTo>
                      <a:pt x="26" y="109"/>
                    </a:lnTo>
                    <a:lnTo>
                      <a:pt x="34" y="114"/>
                    </a:lnTo>
                    <a:lnTo>
                      <a:pt x="42" y="120"/>
                    </a:lnTo>
                    <a:lnTo>
                      <a:pt x="53" y="124"/>
                    </a:lnTo>
                    <a:lnTo>
                      <a:pt x="59" y="126"/>
                    </a:lnTo>
                    <a:lnTo>
                      <a:pt x="66" y="128"/>
                    </a:lnTo>
                    <a:lnTo>
                      <a:pt x="74" y="128"/>
                    </a:lnTo>
                    <a:lnTo>
                      <a:pt x="83" y="128"/>
                    </a:lnTo>
                    <a:lnTo>
                      <a:pt x="91" y="124"/>
                    </a:lnTo>
                    <a:lnTo>
                      <a:pt x="99" y="120"/>
                    </a:lnTo>
                    <a:lnTo>
                      <a:pt x="104" y="114"/>
                    </a:lnTo>
                    <a:lnTo>
                      <a:pt x="110" y="111"/>
                    </a:lnTo>
                    <a:lnTo>
                      <a:pt x="114" y="105"/>
                    </a:lnTo>
                    <a:lnTo>
                      <a:pt x="118" y="99"/>
                    </a:lnTo>
                    <a:lnTo>
                      <a:pt x="120" y="94"/>
                    </a:lnTo>
                    <a:lnTo>
                      <a:pt x="121" y="88"/>
                    </a:lnTo>
                    <a:lnTo>
                      <a:pt x="121" y="80"/>
                    </a:lnTo>
                    <a:lnTo>
                      <a:pt x="123" y="75"/>
                    </a:lnTo>
                    <a:lnTo>
                      <a:pt x="121" y="67"/>
                    </a:lnTo>
                    <a:lnTo>
                      <a:pt x="121" y="61"/>
                    </a:lnTo>
                    <a:lnTo>
                      <a:pt x="118" y="50"/>
                    </a:lnTo>
                    <a:lnTo>
                      <a:pt x="112" y="44"/>
                    </a:lnTo>
                    <a:lnTo>
                      <a:pt x="104" y="37"/>
                    </a:lnTo>
                    <a:lnTo>
                      <a:pt x="95" y="35"/>
                    </a:lnTo>
                    <a:lnTo>
                      <a:pt x="83" y="31"/>
                    </a:lnTo>
                    <a:lnTo>
                      <a:pt x="74" y="33"/>
                    </a:lnTo>
                    <a:lnTo>
                      <a:pt x="63" y="35"/>
                    </a:lnTo>
                    <a:lnTo>
                      <a:pt x="53" y="38"/>
                    </a:lnTo>
                    <a:lnTo>
                      <a:pt x="44" y="40"/>
                    </a:lnTo>
                    <a:lnTo>
                      <a:pt x="38" y="48"/>
                    </a:lnTo>
                    <a:lnTo>
                      <a:pt x="34" y="50"/>
                    </a:lnTo>
                    <a:lnTo>
                      <a:pt x="28" y="48"/>
                    </a:lnTo>
                    <a:lnTo>
                      <a:pt x="26" y="46"/>
                    </a:lnTo>
                    <a:lnTo>
                      <a:pt x="25" y="40"/>
                    </a:lnTo>
                    <a:lnTo>
                      <a:pt x="23" y="31"/>
                    </a:lnTo>
                    <a:lnTo>
                      <a:pt x="26" y="23"/>
                    </a:lnTo>
                    <a:lnTo>
                      <a:pt x="30" y="17"/>
                    </a:lnTo>
                    <a:lnTo>
                      <a:pt x="38" y="10"/>
                    </a:lnTo>
                    <a:lnTo>
                      <a:pt x="38" y="10"/>
                    </a:lnTo>
                    <a:close/>
                  </a:path>
                </a:pathLst>
              </a:custGeom>
              <a:solidFill>
                <a:srgbClr val="17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305040" y="1952280"/>
                <a:ext cx="462960" cy="578520"/>
              </a:xfrm>
              <a:custGeom>
                <a:avLst/>
                <a:gdLst/>
                <a:ahLst/>
                <a:rect l="l" t="t" r="r" b="b"/>
                <a:pathLst>
                  <a:path w="698" h="853">
                    <a:moveTo>
                      <a:pt x="642" y="11"/>
                    </a:moveTo>
                    <a:lnTo>
                      <a:pt x="633" y="13"/>
                    </a:lnTo>
                    <a:lnTo>
                      <a:pt x="623" y="17"/>
                    </a:lnTo>
                    <a:lnTo>
                      <a:pt x="612" y="21"/>
                    </a:lnTo>
                    <a:lnTo>
                      <a:pt x="601" y="24"/>
                    </a:lnTo>
                    <a:lnTo>
                      <a:pt x="589" y="28"/>
                    </a:lnTo>
                    <a:lnTo>
                      <a:pt x="580" y="34"/>
                    </a:lnTo>
                    <a:lnTo>
                      <a:pt x="568" y="40"/>
                    </a:lnTo>
                    <a:lnTo>
                      <a:pt x="559" y="47"/>
                    </a:lnTo>
                    <a:lnTo>
                      <a:pt x="551" y="51"/>
                    </a:lnTo>
                    <a:lnTo>
                      <a:pt x="545" y="53"/>
                    </a:lnTo>
                    <a:lnTo>
                      <a:pt x="540" y="57"/>
                    </a:lnTo>
                    <a:lnTo>
                      <a:pt x="532" y="61"/>
                    </a:lnTo>
                    <a:lnTo>
                      <a:pt x="526" y="64"/>
                    </a:lnTo>
                    <a:lnTo>
                      <a:pt x="521" y="68"/>
                    </a:lnTo>
                    <a:lnTo>
                      <a:pt x="513" y="74"/>
                    </a:lnTo>
                    <a:lnTo>
                      <a:pt x="507" y="78"/>
                    </a:lnTo>
                    <a:lnTo>
                      <a:pt x="500" y="83"/>
                    </a:lnTo>
                    <a:lnTo>
                      <a:pt x="494" y="87"/>
                    </a:lnTo>
                    <a:lnTo>
                      <a:pt x="487" y="93"/>
                    </a:lnTo>
                    <a:lnTo>
                      <a:pt x="481" y="99"/>
                    </a:lnTo>
                    <a:lnTo>
                      <a:pt x="473" y="102"/>
                    </a:lnTo>
                    <a:lnTo>
                      <a:pt x="468" y="110"/>
                    </a:lnTo>
                    <a:lnTo>
                      <a:pt x="460" y="116"/>
                    </a:lnTo>
                    <a:lnTo>
                      <a:pt x="454" y="121"/>
                    </a:lnTo>
                    <a:lnTo>
                      <a:pt x="447" y="127"/>
                    </a:lnTo>
                    <a:lnTo>
                      <a:pt x="439" y="133"/>
                    </a:lnTo>
                    <a:lnTo>
                      <a:pt x="431" y="140"/>
                    </a:lnTo>
                    <a:lnTo>
                      <a:pt x="426" y="148"/>
                    </a:lnTo>
                    <a:lnTo>
                      <a:pt x="416" y="154"/>
                    </a:lnTo>
                    <a:lnTo>
                      <a:pt x="410" y="159"/>
                    </a:lnTo>
                    <a:lnTo>
                      <a:pt x="401" y="167"/>
                    </a:lnTo>
                    <a:lnTo>
                      <a:pt x="395" y="177"/>
                    </a:lnTo>
                    <a:lnTo>
                      <a:pt x="386" y="182"/>
                    </a:lnTo>
                    <a:lnTo>
                      <a:pt x="380" y="190"/>
                    </a:lnTo>
                    <a:lnTo>
                      <a:pt x="372" y="197"/>
                    </a:lnTo>
                    <a:lnTo>
                      <a:pt x="365" y="207"/>
                    </a:lnTo>
                    <a:lnTo>
                      <a:pt x="355" y="216"/>
                    </a:lnTo>
                    <a:lnTo>
                      <a:pt x="348" y="226"/>
                    </a:lnTo>
                    <a:lnTo>
                      <a:pt x="342" y="235"/>
                    </a:lnTo>
                    <a:lnTo>
                      <a:pt x="334" y="245"/>
                    </a:lnTo>
                    <a:lnTo>
                      <a:pt x="325" y="255"/>
                    </a:lnTo>
                    <a:lnTo>
                      <a:pt x="317" y="264"/>
                    </a:lnTo>
                    <a:lnTo>
                      <a:pt x="308" y="274"/>
                    </a:lnTo>
                    <a:lnTo>
                      <a:pt x="300" y="285"/>
                    </a:lnTo>
                    <a:lnTo>
                      <a:pt x="291" y="294"/>
                    </a:lnTo>
                    <a:lnTo>
                      <a:pt x="283" y="306"/>
                    </a:lnTo>
                    <a:lnTo>
                      <a:pt x="275" y="317"/>
                    </a:lnTo>
                    <a:lnTo>
                      <a:pt x="268" y="331"/>
                    </a:lnTo>
                    <a:lnTo>
                      <a:pt x="258" y="342"/>
                    </a:lnTo>
                    <a:lnTo>
                      <a:pt x="249" y="353"/>
                    </a:lnTo>
                    <a:lnTo>
                      <a:pt x="241" y="367"/>
                    </a:lnTo>
                    <a:lnTo>
                      <a:pt x="232" y="380"/>
                    </a:lnTo>
                    <a:lnTo>
                      <a:pt x="222" y="393"/>
                    </a:lnTo>
                    <a:lnTo>
                      <a:pt x="215" y="407"/>
                    </a:lnTo>
                    <a:lnTo>
                      <a:pt x="205" y="420"/>
                    </a:lnTo>
                    <a:lnTo>
                      <a:pt x="198" y="435"/>
                    </a:lnTo>
                    <a:lnTo>
                      <a:pt x="188" y="448"/>
                    </a:lnTo>
                    <a:lnTo>
                      <a:pt x="179" y="462"/>
                    </a:lnTo>
                    <a:lnTo>
                      <a:pt x="169" y="475"/>
                    </a:lnTo>
                    <a:lnTo>
                      <a:pt x="163" y="488"/>
                    </a:lnTo>
                    <a:lnTo>
                      <a:pt x="154" y="500"/>
                    </a:lnTo>
                    <a:lnTo>
                      <a:pt x="146" y="513"/>
                    </a:lnTo>
                    <a:lnTo>
                      <a:pt x="139" y="525"/>
                    </a:lnTo>
                    <a:lnTo>
                      <a:pt x="133" y="536"/>
                    </a:lnTo>
                    <a:lnTo>
                      <a:pt x="125" y="547"/>
                    </a:lnTo>
                    <a:lnTo>
                      <a:pt x="118" y="557"/>
                    </a:lnTo>
                    <a:lnTo>
                      <a:pt x="112" y="568"/>
                    </a:lnTo>
                    <a:lnTo>
                      <a:pt x="104" y="580"/>
                    </a:lnTo>
                    <a:lnTo>
                      <a:pt x="99" y="589"/>
                    </a:lnTo>
                    <a:lnTo>
                      <a:pt x="93" y="599"/>
                    </a:lnTo>
                    <a:lnTo>
                      <a:pt x="87" y="608"/>
                    </a:lnTo>
                    <a:lnTo>
                      <a:pt x="82" y="618"/>
                    </a:lnTo>
                    <a:lnTo>
                      <a:pt x="76" y="625"/>
                    </a:lnTo>
                    <a:lnTo>
                      <a:pt x="70" y="635"/>
                    </a:lnTo>
                    <a:lnTo>
                      <a:pt x="64" y="642"/>
                    </a:lnTo>
                    <a:lnTo>
                      <a:pt x="61" y="652"/>
                    </a:lnTo>
                    <a:lnTo>
                      <a:pt x="55" y="660"/>
                    </a:lnTo>
                    <a:lnTo>
                      <a:pt x="51" y="667"/>
                    </a:lnTo>
                    <a:lnTo>
                      <a:pt x="47" y="673"/>
                    </a:lnTo>
                    <a:lnTo>
                      <a:pt x="44" y="680"/>
                    </a:lnTo>
                    <a:lnTo>
                      <a:pt x="40" y="688"/>
                    </a:lnTo>
                    <a:lnTo>
                      <a:pt x="36" y="694"/>
                    </a:lnTo>
                    <a:lnTo>
                      <a:pt x="32" y="699"/>
                    </a:lnTo>
                    <a:lnTo>
                      <a:pt x="28" y="707"/>
                    </a:lnTo>
                    <a:lnTo>
                      <a:pt x="26" y="711"/>
                    </a:lnTo>
                    <a:lnTo>
                      <a:pt x="23" y="718"/>
                    </a:lnTo>
                    <a:lnTo>
                      <a:pt x="21" y="724"/>
                    </a:lnTo>
                    <a:lnTo>
                      <a:pt x="19" y="730"/>
                    </a:lnTo>
                    <a:lnTo>
                      <a:pt x="13" y="737"/>
                    </a:lnTo>
                    <a:lnTo>
                      <a:pt x="9" y="747"/>
                    </a:lnTo>
                    <a:lnTo>
                      <a:pt x="6" y="755"/>
                    </a:lnTo>
                    <a:lnTo>
                      <a:pt x="4" y="764"/>
                    </a:lnTo>
                    <a:lnTo>
                      <a:pt x="0" y="770"/>
                    </a:lnTo>
                    <a:lnTo>
                      <a:pt x="0" y="776"/>
                    </a:lnTo>
                    <a:lnTo>
                      <a:pt x="0" y="781"/>
                    </a:lnTo>
                    <a:lnTo>
                      <a:pt x="0" y="787"/>
                    </a:lnTo>
                    <a:lnTo>
                      <a:pt x="2" y="795"/>
                    </a:lnTo>
                    <a:lnTo>
                      <a:pt x="6" y="802"/>
                    </a:lnTo>
                    <a:lnTo>
                      <a:pt x="11" y="806"/>
                    </a:lnTo>
                    <a:lnTo>
                      <a:pt x="21" y="810"/>
                    </a:lnTo>
                    <a:lnTo>
                      <a:pt x="28" y="812"/>
                    </a:lnTo>
                    <a:lnTo>
                      <a:pt x="36" y="817"/>
                    </a:lnTo>
                    <a:lnTo>
                      <a:pt x="44" y="821"/>
                    </a:lnTo>
                    <a:lnTo>
                      <a:pt x="53" y="827"/>
                    </a:lnTo>
                    <a:lnTo>
                      <a:pt x="59" y="831"/>
                    </a:lnTo>
                    <a:lnTo>
                      <a:pt x="64" y="836"/>
                    </a:lnTo>
                    <a:lnTo>
                      <a:pt x="72" y="840"/>
                    </a:lnTo>
                    <a:lnTo>
                      <a:pt x="78" y="846"/>
                    </a:lnTo>
                    <a:lnTo>
                      <a:pt x="83" y="848"/>
                    </a:lnTo>
                    <a:lnTo>
                      <a:pt x="89" y="852"/>
                    </a:lnTo>
                    <a:lnTo>
                      <a:pt x="95" y="853"/>
                    </a:lnTo>
                    <a:lnTo>
                      <a:pt x="101" y="853"/>
                    </a:lnTo>
                    <a:lnTo>
                      <a:pt x="108" y="850"/>
                    </a:lnTo>
                    <a:lnTo>
                      <a:pt x="114" y="846"/>
                    </a:lnTo>
                    <a:lnTo>
                      <a:pt x="122" y="840"/>
                    </a:lnTo>
                    <a:lnTo>
                      <a:pt x="129" y="831"/>
                    </a:lnTo>
                    <a:lnTo>
                      <a:pt x="133" y="825"/>
                    </a:lnTo>
                    <a:lnTo>
                      <a:pt x="137" y="817"/>
                    </a:lnTo>
                    <a:lnTo>
                      <a:pt x="141" y="810"/>
                    </a:lnTo>
                    <a:lnTo>
                      <a:pt x="146" y="800"/>
                    </a:lnTo>
                    <a:lnTo>
                      <a:pt x="146" y="796"/>
                    </a:lnTo>
                    <a:lnTo>
                      <a:pt x="148" y="791"/>
                    </a:lnTo>
                    <a:lnTo>
                      <a:pt x="150" y="783"/>
                    </a:lnTo>
                    <a:lnTo>
                      <a:pt x="154" y="779"/>
                    </a:lnTo>
                    <a:lnTo>
                      <a:pt x="156" y="772"/>
                    </a:lnTo>
                    <a:lnTo>
                      <a:pt x="158" y="766"/>
                    </a:lnTo>
                    <a:lnTo>
                      <a:pt x="161" y="760"/>
                    </a:lnTo>
                    <a:lnTo>
                      <a:pt x="165" y="755"/>
                    </a:lnTo>
                    <a:lnTo>
                      <a:pt x="167" y="747"/>
                    </a:lnTo>
                    <a:lnTo>
                      <a:pt x="169" y="739"/>
                    </a:lnTo>
                    <a:lnTo>
                      <a:pt x="173" y="732"/>
                    </a:lnTo>
                    <a:lnTo>
                      <a:pt x="175" y="726"/>
                    </a:lnTo>
                    <a:lnTo>
                      <a:pt x="179" y="717"/>
                    </a:lnTo>
                    <a:lnTo>
                      <a:pt x="182" y="709"/>
                    </a:lnTo>
                    <a:lnTo>
                      <a:pt x="184" y="701"/>
                    </a:lnTo>
                    <a:lnTo>
                      <a:pt x="188" y="694"/>
                    </a:lnTo>
                    <a:lnTo>
                      <a:pt x="192" y="684"/>
                    </a:lnTo>
                    <a:lnTo>
                      <a:pt x="196" y="677"/>
                    </a:lnTo>
                    <a:lnTo>
                      <a:pt x="198" y="667"/>
                    </a:lnTo>
                    <a:lnTo>
                      <a:pt x="203" y="660"/>
                    </a:lnTo>
                    <a:lnTo>
                      <a:pt x="205" y="650"/>
                    </a:lnTo>
                    <a:lnTo>
                      <a:pt x="211" y="641"/>
                    </a:lnTo>
                    <a:lnTo>
                      <a:pt x="215" y="633"/>
                    </a:lnTo>
                    <a:lnTo>
                      <a:pt x="220" y="623"/>
                    </a:lnTo>
                    <a:lnTo>
                      <a:pt x="222" y="614"/>
                    </a:lnTo>
                    <a:lnTo>
                      <a:pt x="226" y="604"/>
                    </a:lnTo>
                    <a:lnTo>
                      <a:pt x="232" y="595"/>
                    </a:lnTo>
                    <a:lnTo>
                      <a:pt x="236" y="585"/>
                    </a:lnTo>
                    <a:lnTo>
                      <a:pt x="241" y="574"/>
                    </a:lnTo>
                    <a:lnTo>
                      <a:pt x="245" y="564"/>
                    </a:lnTo>
                    <a:lnTo>
                      <a:pt x="251" y="555"/>
                    </a:lnTo>
                    <a:lnTo>
                      <a:pt x="256" y="545"/>
                    </a:lnTo>
                    <a:lnTo>
                      <a:pt x="260" y="534"/>
                    </a:lnTo>
                    <a:lnTo>
                      <a:pt x="266" y="525"/>
                    </a:lnTo>
                    <a:lnTo>
                      <a:pt x="270" y="513"/>
                    </a:lnTo>
                    <a:lnTo>
                      <a:pt x="277" y="504"/>
                    </a:lnTo>
                    <a:lnTo>
                      <a:pt x="283" y="494"/>
                    </a:lnTo>
                    <a:lnTo>
                      <a:pt x="289" y="483"/>
                    </a:lnTo>
                    <a:lnTo>
                      <a:pt x="296" y="473"/>
                    </a:lnTo>
                    <a:lnTo>
                      <a:pt x="302" y="464"/>
                    </a:lnTo>
                    <a:lnTo>
                      <a:pt x="308" y="450"/>
                    </a:lnTo>
                    <a:lnTo>
                      <a:pt x="314" y="441"/>
                    </a:lnTo>
                    <a:lnTo>
                      <a:pt x="319" y="429"/>
                    </a:lnTo>
                    <a:lnTo>
                      <a:pt x="327" y="420"/>
                    </a:lnTo>
                    <a:lnTo>
                      <a:pt x="334" y="410"/>
                    </a:lnTo>
                    <a:lnTo>
                      <a:pt x="340" y="399"/>
                    </a:lnTo>
                    <a:lnTo>
                      <a:pt x="348" y="390"/>
                    </a:lnTo>
                    <a:lnTo>
                      <a:pt x="355" y="380"/>
                    </a:lnTo>
                    <a:lnTo>
                      <a:pt x="363" y="369"/>
                    </a:lnTo>
                    <a:lnTo>
                      <a:pt x="371" y="357"/>
                    </a:lnTo>
                    <a:lnTo>
                      <a:pt x="378" y="348"/>
                    </a:lnTo>
                    <a:lnTo>
                      <a:pt x="388" y="338"/>
                    </a:lnTo>
                    <a:lnTo>
                      <a:pt x="395" y="327"/>
                    </a:lnTo>
                    <a:lnTo>
                      <a:pt x="403" y="317"/>
                    </a:lnTo>
                    <a:lnTo>
                      <a:pt x="412" y="308"/>
                    </a:lnTo>
                    <a:lnTo>
                      <a:pt x="422" y="298"/>
                    </a:lnTo>
                    <a:lnTo>
                      <a:pt x="431" y="289"/>
                    </a:lnTo>
                    <a:lnTo>
                      <a:pt x="439" y="279"/>
                    </a:lnTo>
                    <a:lnTo>
                      <a:pt x="448" y="270"/>
                    </a:lnTo>
                    <a:lnTo>
                      <a:pt x="458" y="260"/>
                    </a:lnTo>
                    <a:lnTo>
                      <a:pt x="466" y="251"/>
                    </a:lnTo>
                    <a:lnTo>
                      <a:pt x="475" y="241"/>
                    </a:lnTo>
                    <a:lnTo>
                      <a:pt x="483" y="232"/>
                    </a:lnTo>
                    <a:lnTo>
                      <a:pt x="492" y="222"/>
                    </a:lnTo>
                    <a:lnTo>
                      <a:pt x="500" y="213"/>
                    </a:lnTo>
                    <a:lnTo>
                      <a:pt x="509" y="205"/>
                    </a:lnTo>
                    <a:lnTo>
                      <a:pt x="517" y="196"/>
                    </a:lnTo>
                    <a:lnTo>
                      <a:pt x="526" y="188"/>
                    </a:lnTo>
                    <a:lnTo>
                      <a:pt x="534" y="178"/>
                    </a:lnTo>
                    <a:lnTo>
                      <a:pt x="542" y="171"/>
                    </a:lnTo>
                    <a:lnTo>
                      <a:pt x="551" y="163"/>
                    </a:lnTo>
                    <a:lnTo>
                      <a:pt x="559" y="158"/>
                    </a:lnTo>
                    <a:lnTo>
                      <a:pt x="566" y="148"/>
                    </a:lnTo>
                    <a:lnTo>
                      <a:pt x="572" y="140"/>
                    </a:lnTo>
                    <a:lnTo>
                      <a:pt x="580" y="133"/>
                    </a:lnTo>
                    <a:lnTo>
                      <a:pt x="587" y="127"/>
                    </a:lnTo>
                    <a:lnTo>
                      <a:pt x="595" y="120"/>
                    </a:lnTo>
                    <a:lnTo>
                      <a:pt x="601" y="114"/>
                    </a:lnTo>
                    <a:lnTo>
                      <a:pt x="608" y="106"/>
                    </a:lnTo>
                    <a:lnTo>
                      <a:pt x="616" y="100"/>
                    </a:lnTo>
                    <a:lnTo>
                      <a:pt x="620" y="95"/>
                    </a:lnTo>
                    <a:lnTo>
                      <a:pt x="627" y="87"/>
                    </a:lnTo>
                    <a:lnTo>
                      <a:pt x="633" y="83"/>
                    </a:lnTo>
                    <a:lnTo>
                      <a:pt x="639" y="78"/>
                    </a:lnTo>
                    <a:lnTo>
                      <a:pt x="650" y="66"/>
                    </a:lnTo>
                    <a:lnTo>
                      <a:pt x="661" y="57"/>
                    </a:lnTo>
                    <a:lnTo>
                      <a:pt x="669" y="47"/>
                    </a:lnTo>
                    <a:lnTo>
                      <a:pt x="675" y="38"/>
                    </a:lnTo>
                    <a:lnTo>
                      <a:pt x="682" y="30"/>
                    </a:lnTo>
                    <a:lnTo>
                      <a:pt x="688" y="24"/>
                    </a:lnTo>
                    <a:lnTo>
                      <a:pt x="692" y="19"/>
                    </a:lnTo>
                    <a:lnTo>
                      <a:pt x="694" y="13"/>
                    </a:lnTo>
                    <a:lnTo>
                      <a:pt x="698" y="9"/>
                    </a:lnTo>
                    <a:lnTo>
                      <a:pt x="698" y="5"/>
                    </a:lnTo>
                    <a:lnTo>
                      <a:pt x="696" y="2"/>
                    </a:lnTo>
                    <a:lnTo>
                      <a:pt x="694" y="2"/>
                    </a:lnTo>
                    <a:lnTo>
                      <a:pt x="688" y="0"/>
                    </a:lnTo>
                    <a:lnTo>
                      <a:pt x="682" y="0"/>
                    </a:lnTo>
                    <a:lnTo>
                      <a:pt x="675" y="0"/>
                    </a:lnTo>
                    <a:lnTo>
                      <a:pt x="665" y="4"/>
                    </a:lnTo>
                    <a:lnTo>
                      <a:pt x="660" y="4"/>
                    </a:lnTo>
                    <a:lnTo>
                      <a:pt x="654" y="5"/>
                    </a:lnTo>
                    <a:lnTo>
                      <a:pt x="648" y="9"/>
                    </a:lnTo>
                    <a:lnTo>
                      <a:pt x="642" y="11"/>
                    </a:lnTo>
                    <a:lnTo>
                      <a:pt x="642" y="11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003720" y="2682720"/>
                <a:ext cx="312120" cy="521640"/>
              </a:xfrm>
              <a:custGeom>
                <a:avLst/>
                <a:gdLst/>
                <a:ahLst/>
                <a:rect l="l" t="t" r="r" b="b"/>
                <a:pathLst>
                  <a:path w="470" h="770">
                    <a:moveTo>
                      <a:pt x="278" y="110"/>
                    </a:moveTo>
                    <a:lnTo>
                      <a:pt x="274" y="112"/>
                    </a:lnTo>
                    <a:lnTo>
                      <a:pt x="272" y="118"/>
                    </a:lnTo>
                    <a:lnTo>
                      <a:pt x="267" y="123"/>
                    </a:lnTo>
                    <a:lnTo>
                      <a:pt x="263" y="131"/>
                    </a:lnTo>
                    <a:lnTo>
                      <a:pt x="255" y="139"/>
                    </a:lnTo>
                    <a:lnTo>
                      <a:pt x="250" y="148"/>
                    </a:lnTo>
                    <a:lnTo>
                      <a:pt x="242" y="158"/>
                    </a:lnTo>
                    <a:lnTo>
                      <a:pt x="234" y="169"/>
                    </a:lnTo>
                    <a:lnTo>
                      <a:pt x="225" y="180"/>
                    </a:lnTo>
                    <a:lnTo>
                      <a:pt x="217" y="192"/>
                    </a:lnTo>
                    <a:lnTo>
                      <a:pt x="211" y="198"/>
                    </a:lnTo>
                    <a:lnTo>
                      <a:pt x="208" y="205"/>
                    </a:lnTo>
                    <a:lnTo>
                      <a:pt x="202" y="211"/>
                    </a:lnTo>
                    <a:lnTo>
                      <a:pt x="198" y="219"/>
                    </a:lnTo>
                    <a:lnTo>
                      <a:pt x="192" y="224"/>
                    </a:lnTo>
                    <a:lnTo>
                      <a:pt x="187" y="232"/>
                    </a:lnTo>
                    <a:lnTo>
                      <a:pt x="181" y="238"/>
                    </a:lnTo>
                    <a:lnTo>
                      <a:pt x="177" y="245"/>
                    </a:lnTo>
                    <a:lnTo>
                      <a:pt x="172" y="251"/>
                    </a:lnTo>
                    <a:lnTo>
                      <a:pt x="166" y="258"/>
                    </a:lnTo>
                    <a:lnTo>
                      <a:pt x="160" y="266"/>
                    </a:lnTo>
                    <a:lnTo>
                      <a:pt x="156" y="274"/>
                    </a:lnTo>
                    <a:lnTo>
                      <a:pt x="151" y="279"/>
                    </a:lnTo>
                    <a:lnTo>
                      <a:pt x="145" y="287"/>
                    </a:lnTo>
                    <a:lnTo>
                      <a:pt x="139" y="295"/>
                    </a:lnTo>
                    <a:lnTo>
                      <a:pt x="134" y="302"/>
                    </a:lnTo>
                    <a:lnTo>
                      <a:pt x="128" y="308"/>
                    </a:lnTo>
                    <a:lnTo>
                      <a:pt x="122" y="315"/>
                    </a:lnTo>
                    <a:lnTo>
                      <a:pt x="116" y="323"/>
                    </a:lnTo>
                    <a:lnTo>
                      <a:pt x="113" y="333"/>
                    </a:lnTo>
                    <a:lnTo>
                      <a:pt x="107" y="338"/>
                    </a:lnTo>
                    <a:lnTo>
                      <a:pt x="103" y="346"/>
                    </a:lnTo>
                    <a:lnTo>
                      <a:pt x="96" y="354"/>
                    </a:lnTo>
                    <a:lnTo>
                      <a:pt x="92" y="361"/>
                    </a:lnTo>
                    <a:lnTo>
                      <a:pt x="86" y="367"/>
                    </a:lnTo>
                    <a:lnTo>
                      <a:pt x="82" y="374"/>
                    </a:lnTo>
                    <a:lnTo>
                      <a:pt x="77" y="382"/>
                    </a:lnTo>
                    <a:lnTo>
                      <a:pt x="73" y="390"/>
                    </a:lnTo>
                    <a:lnTo>
                      <a:pt x="67" y="397"/>
                    </a:lnTo>
                    <a:lnTo>
                      <a:pt x="63" y="405"/>
                    </a:lnTo>
                    <a:lnTo>
                      <a:pt x="57" y="411"/>
                    </a:lnTo>
                    <a:lnTo>
                      <a:pt x="56" y="418"/>
                    </a:lnTo>
                    <a:lnTo>
                      <a:pt x="50" y="424"/>
                    </a:lnTo>
                    <a:lnTo>
                      <a:pt x="46" y="431"/>
                    </a:lnTo>
                    <a:lnTo>
                      <a:pt x="42" y="437"/>
                    </a:lnTo>
                    <a:lnTo>
                      <a:pt x="40" y="445"/>
                    </a:lnTo>
                    <a:lnTo>
                      <a:pt x="37" y="452"/>
                    </a:lnTo>
                    <a:lnTo>
                      <a:pt x="33" y="458"/>
                    </a:lnTo>
                    <a:lnTo>
                      <a:pt x="29" y="464"/>
                    </a:lnTo>
                    <a:lnTo>
                      <a:pt x="27" y="471"/>
                    </a:lnTo>
                    <a:lnTo>
                      <a:pt x="23" y="475"/>
                    </a:lnTo>
                    <a:lnTo>
                      <a:pt x="21" y="483"/>
                    </a:lnTo>
                    <a:lnTo>
                      <a:pt x="19" y="489"/>
                    </a:lnTo>
                    <a:lnTo>
                      <a:pt x="18" y="494"/>
                    </a:lnTo>
                    <a:lnTo>
                      <a:pt x="14" y="504"/>
                    </a:lnTo>
                    <a:lnTo>
                      <a:pt x="10" y="515"/>
                    </a:lnTo>
                    <a:lnTo>
                      <a:pt x="6" y="525"/>
                    </a:lnTo>
                    <a:lnTo>
                      <a:pt x="4" y="536"/>
                    </a:lnTo>
                    <a:lnTo>
                      <a:pt x="2" y="544"/>
                    </a:lnTo>
                    <a:lnTo>
                      <a:pt x="2" y="553"/>
                    </a:lnTo>
                    <a:lnTo>
                      <a:pt x="0" y="563"/>
                    </a:lnTo>
                    <a:lnTo>
                      <a:pt x="0" y="572"/>
                    </a:lnTo>
                    <a:lnTo>
                      <a:pt x="0" y="580"/>
                    </a:lnTo>
                    <a:lnTo>
                      <a:pt x="0" y="587"/>
                    </a:lnTo>
                    <a:lnTo>
                      <a:pt x="2" y="597"/>
                    </a:lnTo>
                    <a:lnTo>
                      <a:pt x="4" y="605"/>
                    </a:lnTo>
                    <a:lnTo>
                      <a:pt x="4" y="612"/>
                    </a:lnTo>
                    <a:lnTo>
                      <a:pt x="6" y="622"/>
                    </a:lnTo>
                    <a:lnTo>
                      <a:pt x="10" y="629"/>
                    </a:lnTo>
                    <a:lnTo>
                      <a:pt x="14" y="637"/>
                    </a:lnTo>
                    <a:lnTo>
                      <a:pt x="18" y="643"/>
                    </a:lnTo>
                    <a:lnTo>
                      <a:pt x="21" y="650"/>
                    </a:lnTo>
                    <a:lnTo>
                      <a:pt x="25" y="656"/>
                    </a:lnTo>
                    <a:lnTo>
                      <a:pt x="31" y="663"/>
                    </a:lnTo>
                    <a:lnTo>
                      <a:pt x="37" y="669"/>
                    </a:lnTo>
                    <a:lnTo>
                      <a:pt x="40" y="677"/>
                    </a:lnTo>
                    <a:lnTo>
                      <a:pt x="48" y="682"/>
                    </a:lnTo>
                    <a:lnTo>
                      <a:pt x="56" y="690"/>
                    </a:lnTo>
                    <a:lnTo>
                      <a:pt x="61" y="696"/>
                    </a:lnTo>
                    <a:lnTo>
                      <a:pt x="69" y="701"/>
                    </a:lnTo>
                    <a:lnTo>
                      <a:pt x="77" y="707"/>
                    </a:lnTo>
                    <a:lnTo>
                      <a:pt x="86" y="713"/>
                    </a:lnTo>
                    <a:lnTo>
                      <a:pt x="96" y="719"/>
                    </a:lnTo>
                    <a:lnTo>
                      <a:pt x="105" y="724"/>
                    </a:lnTo>
                    <a:lnTo>
                      <a:pt x="115" y="732"/>
                    </a:lnTo>
                    <a:lnTo>
                      <a:pt x="124" y="738"/>
                    </a:lnTo>
                    <a:lnTo>
                      <a:pt x="134" y="741"/>
                    </a:lnTo>
                    <a:lnTo>
                      <a:pt x="143" y="747"/>
                    </a:lnTo>
                    <a:lnTo>
                      <a:pt x="153" y="751"/>
                    </a:lnTo>
                    <a:lnTo>
                      <a:pt x="164" y="755"/>
                    </a:lnTo>
                    <a:lnTo>
                      <a:pt x="173" y="759"/>
                    </a:lnTo>
                    <a:lnTo>
                      <a:pt x="183" y="760"/>
                    </a:lnTo>
                    <a:lnTo>
                      <a:pt x="192" y="762"/>
                    </a:lnTo>
                    <a:lnTo>
                      <a:pt x="204" y="766"/>
                    </a:lnTo>
                    <a:lnTo>
                      <a:pt x="211" y="768"/>
                    </a:lnTo>
                    <a:lnTo>
                      <a:pt x="221" y="768"/>
                    </a:lnTo>
                    <a:lnTo>
                      <a:pt x="230" y="768"/>
                    </a:lnTo>
                    <a:lnTo>
                      <a:pt x="240" y="770"/>
                    </a:lnTo>
                    <a:lnTo>
                      <a:pt x="250" y="768"/>
                    </a:lnTo>
                    <a:lnTo>
                      <a:pt x="259" y="768"/>
                    </a:lnTo>
                    <a:lnTo>
                      <a:pt x="269" y="768"/>
                    </a:lnTo>
                    <a:lnTo>
                      <a:pt x="278" y="768"/>
                    </a:lnTo>
                    <a:lnTo>
                      <a:pt x="286" y="764"/>
                    </a:lnTo>
                    <a:lnTo>
                      <a:pt x="293" y="762"/>
                    </a:lnTo>
                    <a:lnTo>
                      <a:pt x="301" y="760"/>
                    </a:lnTo>
                    <a:lnTo>
                      <a:pt x="310" y="760"/>
                    </a:lnTo>
                    <a:lnTo>
                      <a:pt x="318" y="757"/>
                    </a:lnTo>
                    <a:lnTo>
                      <a:pt x="324" y="755"/>
                    </a:lnTo>
                    <a:lnTo>
                      <a:pt x="331" y="753"/>
                    </a:lnTo>
                    <a:lnTo>
                      <a:pt x="341" y="751"/>
                    </a:lnTo>
                    <a:lnTo>
                      <a:pt x="346" y="747"/>
                    </a:lnTo>
                    <a:lnTo>
                      <a:pt x="352" y="743"/>
                    </a:lnTo>
                    <a:lnTo>
                      <a:pt x="360" y="741"/>
                    </a:lnTo>
                    <a:lnTo>
                      <a:pt x="367" y="740"/>
                    </a:lnTo>
                    <a:lnTo>
                      <a:pt x="371" y="736"/>
                    </a:lnTo>
                    <a:lnTo>
                      <a:pt x="379" y="734"/>
                    </a:lnTo>
                    <a:lnTo>
                      <a:pt x="384" y="730"/>
                    </a:lnTo>
                    <a:lnTo>
                      <a:pt x="390" y="728"/>
                    </a:lnTo>
                    <a:lnTo>
                      <a:pt x="400" y="720"/>
                    </a:lnTo>
                    <a:lnTo>
                      <a:pt x="409" y="715"/>
                    </a:lnTo>
                    <a:lnTo>
                      <a:pt x="419" y="707"/>
                    </a:lnTo>
                    <a:lnTo>
                      <a:pt x="428" y="700"/>
                    </a:lnTo>
                    <a:lnTo>
                      <a:pt x="436" y="692"/>
                    </a:lnTo>
                    <a:lnTo>
                      <a:pt x="443" y="682"/>
                    </a:lnTo>
                    <a:lnTo>
                      <a:pt x="451" y="675"/>
                    </a:lnTo>
                    <a:lnTo>
                      <a:pt x="459" y="667"/>
                    </a:lnTo>
                    <a:lnTo>
                      <a:pt x="462" y="660"/>
                    </a:lnTo>
                    <a:lnTo>
                      <a:pt x="466" y="652"/>
                    </a:lnTo>
                    <a:lnTo>
                      <a:pt x="468" y="646"/>
                    </a:lnTo>
                    <a:lnTo>
                      <a:pt x="470" y="641"/>
                    </a:lnTo>
                    <a:lnTo>
                      <a:pt x="468" y="635"/>
                    </a:lnTo>
                    <a:lnTo>
                      <a:pt x="468" y="631"/>
                    </a:lnTo>
                    <a:lnTo>
                      <a:pt x="462" y="629"/>
                    </a:lnTo>
                    <a:lnTo>
                      <a:pt x="459" y="629"/>
                    </a:lnTo>
                    <a:lnTo>
                      <a:pt x="451" y="629"/>
                    </a:lnTo>
                    <a:lnTo>
                      <a:pt x="443" y="631"/>
                    </a:lnTo>
                    <a:lnTo>
                      <a:pt x="434" y="637"/>
                    </a:lnTo>
                    <a:lnTo>
                      <a:pt x="424" y="643"/>
                    </a:lnTo>
                    <a:lnTo>
                      <a:pt x="413" y="648"/>
                    </a:lnTo>
                    <a:lnTo>
                      <a:pt x="402" y="658"/>
                    </a:lnTo>
                    <a:lnTo>
                      <a:pt x="396" y="662"/>
                    </a:lnTo>
                    <a:lnTo>
                      <a:pt x="388" y="667"/>
                    </a:lnTo>
                    <a:lnTo>
                      <a:pt x="383" y="671"/>
                    </a:lnTo>
                    <a:lnTo>
                      <a:pt x="377" y="677"/>
                    </a:lnTo>
                    <a:lnTo>
                      <a:pt x="369" y="679"/>
                    </a:lnTo>
                    <a:lnTo>
                      <a:pt x="362" y="684"/>
                    </a:lnTo>
                    <a:lnTo>
                      <a:pt x="356" y="688"/>
                    </a:lnTo>
                    <a:lnTo>
                      <a:pt x="348" y="694"/>
                    </a:lnTo>
                    <a:lnTo>
                      <a:pt x="341" y="696"/>
                    </a:lnTo>
                    <a:lnTo>
                      <a:pt x="335" y="700"/>
                    </a:lnTo>
                    <a:lnTo>
                      <a:pt x="327" y="703"/>
                    </a:lnTo>
                    <a:lnTo>
                      <a:pt x="322" y="707"/>
                    </a:lnTo>
                    <a:lnTo>
                      <a:pt x="314" y="709"/>
                    </a:lnTo>
                    <a:lnTo>
                      <a:pt x="307" y="713"/>
                    </a:lnTo>
                    <a:lnTo>
                      <a:pt x="299" y="713"/>
                    </a:lnTo>
                    <a:lnTo>
                      <a:pt x="293" y="715"/>
                    </a:lnTo>
                    <a:lnTo>
                      <a:pt x="286" y="715"/>
                    </a:lnTo>
                    <a:lnTo>
                      <a:pt x="278" y="717"/>
                    </a:lnTo>
                    <a:lnTo>
                      <a:pt x="270" y="717"/>
                    </a:lnTo>
                    <a:lnTo>
                      <a:pt x="265" y="717"/>
                    </a:lnTo>
                    <a:lnTo>
                      <a:pt x="255" y="715"/>
                    </a:lnTo>
                    <a:lnTo>
                      <a:pt x="248" y="713"/>
                    </a:lnTo>
                    <a:lnTo>
                      <a:pt x="240" y="711"/>
                    </a:lnTo>
                    <a:lnTo>
                      <a:pt x="234" y="711"/>
                    </a:lnTo>
                    <a:lnTo>
                      <a:pt x="227" y="711"/>
                    </a:lnTo>
                    <a:lnTo>
                      <a:pt x="221" y="711"/>
                    </a:lnTo>
                    <a:lnTo>
                      <a:pt x="215" y="709"/>
                    </a:lnTo>
                    <a:lnTo>
                      <a:pt x="208" y="709"/>
                    </a:lnTo>
                    <a:lnTo>
                      <a:pt x="202" y="707"/>
                    </a:lnTo>
                    <a:lnTo>
                      <a:pt x="196" y="707"/>
                    </a:lnTo>
                    <a:lnTo>
                      <a:pt x="189" y="707"/>
                    </a:lnTo>
                    <a:lnTo>
                      <a:pt x="183" y="707"/>
                    </a:lnTo>
                    <a:lnTo>
                      <a:pt x="172" y="705"/>
                    </a:lnTo>
                    <a:lnTo>
                      <a:pt x="162" y="703"/>
                    </a:lnTo>
                    <a:lnTo>
                      <a:pt x="153" y="698"/>
                    </a:lnTo>
                    <a:lnTo>
                      <a:pt x="143" y="694"/>
                    </a:lnTo>
                    <a:lnTo>
                      <a:pt x="134" y="686"/>
                    </a:lnTo>
                    <a:lnTo>
                      <a:pt x="126" y="679"/>
                    </a:lnTo>
                    <a:lnTo>
                      <a:pt x="122" y="675"/>
                    </a:lnTo>
                    <a:lnTo>
                      <a:pt x="118" y="669"/>
                    </a:lnTo>
                    <a:lnTo>
                      <a:pt x="116" y="663"/>
                    </a:lnTo>
                    <a:lnTo>
                      <a:pt x="115" y="656"/>
                    </a:lnTo>
                    <a:lnTo>
                      <a:pt x="111" y="648"/>
                    </a:lnTo>
                    <a:lnTo>
                      <a:pt x="109" y="641"/>
                    </a:lnTo>
                    <a:lnTo>
                      <a:pt x="107" y="633"/>
                    </a:lnTo>
                    <a:lnTo>
                      <a:pt x="107" y="625"/>
                    </a:lnTo>
                    <a:lnTo>
                      <a:pt x="105" y="616"/>
                    </a:lnTo>
                    <a:lnTo>
                      <a:pt x="103" y="606"/>
                    </a:lnTo>
                    <a:lnTo>
                      <a:pt x="101" y="597"/>
                    </a:lnTo>
                    <a:lnTo>
                      <a:pt x="99" y="587"/>
                    </a:lnTo>
                    <a:lnTo>
                      <a:pt x="97" y="578"/>
                    </a:lnTo>
                    <a:lnTo>
                      <a:pt x="97" y="568"/>
                    </a:lnTo>
                    <a:lnTo>
                      <a:pt x="96" y="559"/>
                    </a:lnTo>
                    <a:lnTo>
                      <a:pt x="96" y="551"/>
                    </a:lnTo>
                    <a:lnTo>
                      <a:pt x="96" y="542"/>
                    </a:lnTo>
                    <a:lnTo>
                      <a:pt x="96" y="534"/>
                    </a:lnTo>
                    <a:lnTo>
                      <a:pt x="94" y="525"/>
                    </a:lnTo>
                    <a:lnTo>
                      <a:pt x="94" y="517"/>
                    </a:lnTo>
                    <a:lnTo>
                      <a:pt x="94" y="508"/>
                    </a:lnTo>
                    <a:lnTo>
                      <a:pt x="94" y="500"/>
                    </a:lnTo>
                    <a:lnTo>
                      <a:pt x="96" y="490"/>
                    </a:lnTo>
                    <a:lnTo>
                      <a:pt x="96" y="483"/>
                    </a:lnTo>
                    <a:lnTo>
                      <a:pt x="96" y="473"/>
                    </a:lnTo>
                    <a:lnTo>
                      <a:pt x="96" y="466"/>
                    </a:lnTo>
                    <a:lnTo>
                      <a:pt x="97" y="458"/>
                    </a:lnTo>
                    <a:lnTo>
                      <a:pt x="99" y="452"/>
                    </a:lnTo>
                    <a:lnTo>
                      <a:pt x="99" y="443"/>
                    </a:lnTo>
                    <a:lnTo>
                      <a:pt x="101" y="435"/>
                    </a:lnTo>
                    <a:lnTo>
                      <a:pt x="103" y="430"/>
                    </a:lnTo>
                    <a:lnTo>
                      <a:pt x="105" y="424"/>
                    </a:lnTo>
                    <a:lnTo>
                      <a:pt x="107" y="416"/>
                    </a:lnTo>
                    <a:lnTo>
                      <a:pt x="109" y="409"/>
                    </a:lnTo>
                    <a:lnTo>
                      <a:pt x="113" y="403"/>
                    </a:lnTo>
                    <a:lnTo>
                      <a:pt x="115" y="397"/>
                    </a:lnTo>
                    <a:lnTo>
                      <a:pt x="118" y="392"/>
                    </a:lnTo>
                    <a:lnTo>
                      <a:pt x="122" y="386"/>
                    </a:lnTo>
                    <a:lnTo>
                      <a:pt x="126" y="380"/>
                    </a:lnTo>
                    <a:lnTo>
                      <a:pt x="130" y="376"/>
                    </a:lnTo>
                    <a:lnTo>
                      <a:pt x="134" y="371"/>
                    </a:lnTo>
                    <a:lnTo>
                      <a:pt x="137" y="363"/>
                    </a:lnTo>
                    <a:lnTo>
                      <a:pt x="143" y="355"/>
                    </a:lnTo>
                    <a:lnTo>
                      <a:pt x="151" y="350"/>
                    </a:lnTo>
                    <a:lnTo>
                      <a:pt x="156" y="342"/>
                    </a:lnTo>
                    <a:lnTo>
                      <a:pt x="164" y="335"/>
                    </a:lnTo>
                    <a:lnTo>
                      <a:pt x="172" y="325"/>
                    </a:lnTo>
                    <a:lnTo>
                      <a:pt x="179" y="317"/>
                    </a:lnTo>
                    <a:lnTo>
                      <a:pt x="187" y="306"/>
                    </a:lnTo>
                    <a:lnTo>
                      <a:pt x="196" y="296"/>
                    </a:lnTo>
                    <a:lnTo>
                      <a:pt x="204" y="287"/>
                    </a:lnTo>
                    <a:lnTo>
                      <a:pt x="213" y="277"/>
                    </a:lnTo>
                    <a:lnTo>
                      <a:pt x="221" y="268"/>
                    </a:lnTo>
                    <a:lnTo>
                      <a:pt x="230" y="257"/>
                    </a:lnTo>
                    <a:lnTo>
                      <a:pt x="240" y="245"/>
                    </a:lnTo>
                    <a:lnTo>
                      <a:pt x="250" y="236"/>
                    </a:lnTo>
                    <a:lnTo>
                      <a:pt x="259" y="226"/>
                    </a:lnTo>
                    <a:lnTo>
                      <a:pt x="269" y="215"/>
                    </a:lnTo>
                    <a:lnTo>
                      <a:pt x="276" y="205"/>
                    </a:lnTo>
                    <a:lnTo>
                      <a:pt x="286" y="196"/>
                    </a:lnTo>
                    <a:lnTo>
                      <a:pt x="295" y="184"/>
                    </a:lnTo>
                    <a:lnTo>
                      <a:pt x="305" y="175"/>
                    </a:lnTo>
                    <a:lnTo>
                      <a:pt x="312" y="165"/>
                    </a:lnTo>
                    <a:lnTo>
                      <a:pt x="322" y="158"/>
                    </a:lnTo>
                    <a:lnTo>
                      <a:pt x="329" y="148"/>
                    </a:lnTo>
                    <a:lnTo>
                      <a:pt x="337" y="139"/>
                    </a:lnTo>
                    <a:lnTo>
                      <a:pt x="343" y="131"/>
                    </a:lnTo>
                    <a:lnTo>
                      <a:pt x="350" y="123"/>
                    </a:lnTo>
                    <a:lnTo>
                      <a:pt x="356" y="118"/>
                    </a:lnTo>
                    <a:lnTo>
                      <a:pt x="362" y="112"/>
                    </a:lnTo>
                    <a:lnTo>
                      <a:pt x="367" y="104"/>
                    </a:lnTo>
                    <a:lnTo>
                      <a:pt x="373" y="103"/>
                    </a:lnTo>
                    <a:lnTo>
                      <a:pt x="381" y="93"/>
                    </a:lnTo>
                    <a:lnTo>
                      <a:pt x="388" y="84"/>
                    </a:lnTo>
                    <a:lnTo>
                      <a:pt x="396" y="74"/>
                    </a:lnTo>
                    <a:lnTo>
                      <a:pt x="404" y="66"/>
                    </a:lnTo>
                    <a:lnTo>
                      <a:pt x="407" y="57"/>
                    </a:lnTo>
                    <a:lnTo>
                      <a:pt x="413" y="49"/>
                    </a:lnTo>
                    <a:lnTo>
                      <a:pt x="415" y="44"/>
                    </a:lnTo>
                    <a:lnTo>
                      <a:pt x="419" y="36"/>
                    </a:lnTo>
                    <a:lnTo>
                      <a:pt x="419" y="30"/>
                    </a:lnTo>
                    <a:lnTo>
                      <a:pt x="421" y="25"/>
                    </a:lnTo>
                    <a:lnTo>
                      <a:pt x="419" y="19"/>
                    </a:lnTo>
                    <a:lnTo>
                      <a:pt x="419" y="15"/>
                    </a:lnTo>
                    <a:lnTo>
                      <a:pt x="415" y="9"/>
                    </a:lnTo>
                    <a:lnTo>
                      <a:pt x="411" y="7"/>
                    </a:lnTo>
                    <a:lnTo>
                      <a:pt x="405" y="4"/>
                    </a:lnTo>
                    <a:lnTo>
                      <a:pt x="400" y="2"/>
                    </a:lnTo>
                    <a:lnTo>
                      <a:pt x="390" y="0"/>
                    </a:lnTo>
                    <a:lnTo>
                      <a:pt x="384" y="0"/>
                    </a:lnTo>
                    <a:lnTo>
                      <a:pt x="377" y="0"/>
                    </a:lnTo>
                    <a:lnTo>
                      <a:pt x="369" y="2"/>
                    </a:lnTo>
                    <a:lnTo>
                      <a:pt x="362" y="2"/>
                    </a:lnTo>
                    <a:lnTo>
                      <a:pt x="354" y="6"/>
                    </a:lnTo>
                    <a:lnTo>
                      <a:pt x="346" y="9"/>
                    </a:lnTo>
                    <a:lnTo>
                      <a:pt x="341" y="15"/>
                    </a:lnTo>
                    <a:lnTo>
                      <a:pt x="331" y="21"/>
                    </a:lnTo>
                    <a:lnTo>
                      <a:pt x="324" y="28"/>
                    </a:lnTo>
                    <a:lnTo>
                      <a:pt x="318" y="38"/>
                    </a:lnTo>
                    <a:lnTo>
                      <a:pt x="310" y="47"/>
                    </a:lnTo>
                    <a:lnTo>
                      <a:pt x="305" y="53"/>
                    </a:lnTo>
                    <a:lnTo>
                      <a:pt x="301" y="59"/>
                    </a:lnTo>
                    <a:lnTo>
                      <a:pt x="297" y="66"/>
                    </a:lnTo>
                    <a:lnTo>
                      <a:pt x="293" y="74"/>
                    </a:lnTo>
                    <a:lnTo>
                      <a:pt x="289" y="82"/>
                    </a:lnTo>
                    <a:lnTo>
                      <a:pt x="286" y="89"/>
                    </a:lnTo>
                    <a:lnTo>
                      <a:pt x="282" y="99"/>
                    </a:lnTo>
                    <a:lnTo>
                      <a:pt x="278" y="110"/>
                    </a:lnTo>
                    <a:lnTo>
                      <a:pt x="278" y="110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617440" y="2333160"/>
                <a:ext cx="590400" cy="250560"/>
              </a:xfrm>
              <a:custGeom>
                <a:avLst/>
                <a:gdLst/>
                <a:ahLst/>
                <a:rect l="l" t="t" r="r" b="b"/>
                <a:pathLst>
                  <a:path w="889" h="370">
                    <a:moveTo>
                      <a:pt x="855" y="235"/>
                    </a:moveTo>
                    <a:lnTo>
                      <a:pt x="848" y="232"/>
                    </a:lnTo>
                    <a:lnTo>
                      <a:pt x="844" y="228"/>
                    </a:lnTo>
                    <a:lnTo>
                      <a:pt x="836" y="222"/>
                    </a:lnTo>
                    <a:lnTo>
                      <a:pt x="829" y="216"/>
                    </a:lnTo>
                    <a:lnTo>
                      <a:pt x="819" y="209"/>
                    </a:lnTo>
                    <a:lnTo>
                      <a:pt x="810" y="201"/>
                    </a:lnTo>
                    <a:lnTo>
                      <a:pt x="798" y="194"/>
                    </a:lnTo>
                    <a:lnTo>
                      <a:pt x="789" y="186"/>
                    </a:lnTo>
                    <a:lnTo>
                      <a:pt x="783" y="180"/>
                    </a:lnTo>
                    <a:lnTo>
                      <a:pt x="777" y="176"/>
                    </a:lnTo>
                    <a:lnTo>
                      <a:pt x="770" y="171"/>
                    </a:lnTo>
                    <a:lnTo>
                      <a:pt x="764" y="167"/>
                    </a:lnTo>
                    <a:lnTo>
                      <a:pt x="756" y="161"/>
                    </a:lnTo>
                    <a:lnTo>
                      <a:pt x="751" y="156"/>
                    </a:lnTo>
                    <a:lnTo>
                      <a:pt x="743" y="150"/>
                    </a:lnTo>
                    <a:lnTo>
                      <a:pt x="737" y="146"/>
                    </a:lnTo>
                    <a:lnTo>
                      <a:pt x="728" y="140"/>
                    </a:lnTo>
                    <a:lnTo>
                      <a:pt x="722" y="135"/>
                    </a:lnTo>
                    <a:lnTo>
                      <a:pt x="715" y="129"/>
                    </a:lnTo>
                    <a:lnTo>
                      <a:pt x="707" y="125"/>
                    </a:lnTo>
                    <a:lnTo>
                      <a:pt x="699" y="119"/>
                    </a:lnTo>
                    <a:lnTo>
                      <a:pt x="692" y="114"/>
                    </a:lnTo>
                    <a:lnTo>
                      <a:pt x="684" y="108"/>
                    </a:lnTo>
                    <a:lnTo>
                      <a:pt x="677" y="104"/>
                    </a:lnTo>
                    <a:lnTo>
                      <a:pt x="667" y="99"/>
                    </a:lnTo>
                    <a:lnTo>
                      <a:pt x="658" y="93"/>
                    </a:lnTo>
                    <a:lnTo>
                      <a:pt x="650" y="87"/>
                    </a:lnTo>
                    <a:lnTo>
                      <a:pt x="640" y="81"/>
                    </a:lnTo>
                    <a:lnTo>
                      <a:pt x="631" y="76"/>
                    </a:lnTo>
                    <a:lnTo>
                      <a:pt x="623" y="72"/>
                    </a:lnTo>
                    <a:lnTo>
                      <a:pt x="614" y="66"/>
                    </a:lnTo>
                    <a:lnTo>
                      <a:pt x="604" y="62"/>
                    </a:lnTo>
                    <a:lnTo>
                      <a:pt x="595" y="57"/>
                    </a:lnTo>
                    <a:lnTo>
                      <a:pt x="585" y="53"/>
                    </a:lnTo>
                    <a:lnTo>
                      <a:pt x="576" y="47"/>
                    </a:lnTo>
                    <a:lnTo>
                      <a:pt x="566" y="43"/>
                    </a:lnTo>
                    <a:lnTo>
                      <a:pt x="557" y="40"/>
                    </a:lnTo>
                    <a:lnTo>
                      <a:pt x="547" y="36"/>
                    </a:lnTo>
                    <a:lnTo>
                      <a:pt x="538" y="32"/>
                    </a:lnTo>
                    <a:lnTo>
                      <a:pt x="528" y="28"/>
                    </a:lnTo>
                    <a:lnTo>
                      <a:pt x="517" y="24"/>
                    </a:lnTo>
                    <a:lnTo>
                      <a:pt x="507" y="21"/>
                    </a:lnTo>
                    <a:lnTo>
                      <a:pt x="496" y="17"/>
                    </a:lnTo>
                    <a:lnTo>
                      <a:pt x="486" y="15"/>
                    </a:lnTo>
                    <a:lnTo>
                      <a:pt x="475" y="13"/>
                    </a:lnTo>
                    <a:lnTo>
                      <a:pt x="465" y="9"/>
                    </a:lnTo>
                    <a:lnTo>
                      <a:pt x="454" y="7"/>
                    </a:lnTo>
                    <a:lnTo>
                      <a:pt x="445" y="5"/>
                    </a:lnTo>
                    <a:lnTo>
                      <a:pt x="433" y="3"/>
                    </a:lnTo>
                    <a:lnTo>
                      <a:pt x="422" y="2"/>
                    </a:lnTo>
                    <a:lnTo>
                      <a:pt x="412" y="0"/>
                    </a:lnTo>
                    <a:lnTo>
                      <a:pt x="401" y="0"/>
                    </a:lnTo>
                    <a:lnTo>
                      <a:pt x="389" y="0"/>
                    </a:lnTo>
                    <a:lnTo>
                      <a:pt x="378" y="0"/>
                    </a:lnTo>
                    <a:lnTo>
                      <a:pt x="369" y="0"/>
                    </a:lnTo>
                    <a:lnTo>
                      <a:pt x="357" y="0"/>
                    </a:lnTo>
                    <a:lnTo>
                      <a:pt x="346" y="0"/>
                    </a:lnTo>
                    <a:lnTo>
                      <a:pt x="334" y="0"/>
                    </a:lnTo>
                    <a:lnTo>
                      <a:pt x="323" y="2"/>
                    </a:lnTo>
                    <a:lnTo>
                      <a:pt x="313" y="3"/>
                    </a:lnTo>
                    <a:lnTo>
                      <a:pt x="302" y="3"/>
                    </a:lnTo>
                    <a:lnTo>
                      <a:pt x="292" y="5"/>
                    </a:lnTo>
                    <a:lnTo>
                      <a:pt x="283" y="5"/>
                    </a:lnTo>
                    <a:lnTo>
                      <a:pt x="275" y="7"/>
                    </a:lnTo>
                    <a:lnTo>
                      <a:pt x="266" y="7"/>
                    </a:lnTo>
                    <a:lnTo>
                      <a:pt x="256" y="9"/>
                    </a:lnTo>
                    <a:lnTo>
                      <a:pt x="247" y="11"/>
                    </a:lnTo>
                    <a:lnTo>
                      <a:pt x="239" y="13"/>
                    </a:lnTo>
                    <a:lnTo>
                      <a:pt x="230" y="15"/>
                    </a:lnTo>
                    <a:lnTo>
                      <a:pt x="224" y="17"/>
                    </a:lnTo>
                    <a:lnTo>
                      <a:pt x="215" y="19"/>
                    </a:lnTo>
                    <a:lnTo>
                      <a:pt x="209" y="22"/>
                    </a:lnTo>
                    <a:lnTo>
                      <a:pt x="199" y="24"/>
                    </a:lnTo>
                    <a:lnTo>
                      <a:pt x="192" y="26"/>
                    </a:lnTo>
                    <a:lnTo>
                      <a:pt x="184" y="28"/>
                    </a:lnTo>
                    <a:lnTo>
                      <a:pt x="178" y="32"/>
                    </a:lnTo>
                    <a:lnTo>
                      <a:pt x="173" y="34"/>
                    </a:lnTo>
                    <a:lnTo>
                      <a:pt x="165" y="38"/>
                    </a:lnTo>
                    <a:lnTo>
                      <a:pt x="159" y="41"/>
                    </a:lnTo>
                    <a:lnTo>
                      <a:pt x="154" y="43"/>
                    </a:lnTo>
                    <a:lnTo>
                      <a:pt x="146" y="47"/>
                    </a:lnTo>
                    <a:lnTo>
                      <a:pt x="140" y="51"/>
                    </a:lnTo>
                    <a:lnTo>
                      <a:pt x="135" y="53"/>
                    </a:lnTo>
                    <a:lnTo>
                      <a:pt x="131" y="57"/>
                    </a:lnTo>
                    <a:lnTo>
                      <a:pt x="121" y="62"/>
                    </a:lnTo>
                    <a:lnTo>
                      <a:pt x="112" y="70"/>
                    </a:lnTo>
                    <a:lnTo>
                      <a:pt x="102" y="76"/>
                    </a:lnTo>
                    <a:lnTo>
                      <a:pt x="93" y="83"/>
                    </a:lnTo>
                    <a:lnTo>
                      <a:pt x="83" y="91"/>
                    </a:lnTo>
                    <a:lnTo>
                      <a:pt x="78" y="99"/>
                    </a:lnTo>
                    <a:lnTo>
                      <a:pt x="70" y="106"/>
                    </a:lnTo>
                    <a:lnTo>
                      <a:pt x="62" y="114"/>
                    </a:lnTo>
                    <a:lnTo>
                      <a:pt x="57" y="121"/>
                    </a:lnTo>
                    <a:lnTo>
                      <a:pt x="51" y="129"/>
                    </a:lnTo>
                    <a:lnTo>
                      <a:pt x="45" y="137"/>
                    </a:lnTo>
                    <a:lnTo>
                      <a:pt x="42" y="144"/>
                    </a:lnTo>
                    <a:lnTo>
                      <a:pt x="36" y="150"/>
                    </a:lnTo>
                    <a:lnTo>
                      <a:pt x="32" y="159"/>
                    </a:lnTo>
                    <a:lnTo>
                      <a:pt x="28" y="167"/>
                    </a:lnTo>
                    <a:lnTo>
                      <a:pt x="24" y="175"/>
                    </a:lnTo>
                    <a:lnTo>
                      <a:pt x="23" y="182"/>
                    </a:lnTo>
                    <a:lnTo>
                      <a:pt x="21" y="190"/>
                    </a:lnTo>
                    <a:lnTo>
                      <a:pt x="15" y="195"/>
                    </a:lnTo>
                    <a:lnTo>
                      <a:pt x="13" y="201"/>
                    </a:lnTo>
                    <a:lnTo>
                      <a:pt x="11" y="209"/>
                    </a:lnTo>
                    <a:lnTo>
                      <a:pt x="9" y="215"/>
                    </a:lnTo>
                    <a:lnTo>
                      <a:pt x="5" y="222"/>
                    </a:lnTo>
                    <a:lnTo>
                      <a:pt x="4" y="228"/>
                    </a:lnTo>
                    <a:lnTo>
                      <a:pt x="2" y="235"/>
                    </a:lnTo>
                    <a:lnTo>
                      <a:pt x="2" y="241"/>
                    </a:lnTo>
                    <a:lnTo>
                      <a:pt x="2" y="249"/>
                    </a:lnTo>
                    <a:lnTo>
                      <a:pt x="0" y="254"/>
                    </a:lnTo>
                    <a:lnTo>
                      <a:pt x="0" y="260"/>
                    </a:lnTo>
                    <a:lnTo>
                      <a:pt x="0" y="268"/>
                    </a:lnTo>
                    <a:lnTo>
                      <a:pt x="0" y="277"/>
                    </a:lnTo>
                    <a:lnTo>
                      <a:pt x="2" y="289"/>
                    </a:lnTo>
                    <a:lnTo>
                      <a:pt x="2" y="298"/>
                    </a:lnTo>
                    <a:lnTo>
                      <a:pt x="4" y="306"/>
                    </a:lnTo>
                    <a:lnTo>
                      <a:pt x="5" y="311"/>
                    </a:lnTo>
                    <a:lnTo>
                      <a:pt x="9" y="315"/>
                    </a:lnTo>
                    <a:lnTo>
                      <a:pt x="11" y="315"/>
                    </a:lnTo>
                    <a:lnTo>
                      <a:pt x="13" y="315"/>
                    </a:lnTo>
                    <a:lnTo>
                      <a:pt x="17" y="313"/>
                    </a:lnTo>
                    <a:lnTo>
                      <a:pt x="21" y="308"/>
                    </a:lnTo>
                    <a:lnTo>
                      <a:pt x="21" y="298"/>
                    </a:lnTo>
                    <a:lnTo>
                      <a:pt x="23" y="289"/>
                    </a:lnTo>
                    <a:lnTo>
                      <a:pt x="24" y="279"/>
                    </a:lnTo>
                    <a:lnTo>
                      <a:pt x="28" y="270"/>
                    </a:lnTo>
                    <a:lnTo>
                      <a:pt x="28" y="260"/>
                    </a:lnTo>
                    <a:lnTo>
                      <a:pt x="32" y="249"/>
                    </a:lnTo>
                    <a:lnTo>
                      <a:pt x="34" y="239"/>
                    </a:lnTo>
                    <a:lnTo>
                      <a:pt x="38" y="228"/>
                    </a:lnTo>
                    <a:lnTo>
                      <a:pt x="40" y="216"/>
                    </a:lnTo>
                    <a:lnTo>
                      <a:pt x="43" y="205"/>
                    </a:lnTo>
                    <a:lnTo>
                      <a:pt x="47" y="194"/>
                    </a:lnTo>
                    <a:lnTo>
                      <a:pt x="53" y="184"/>
                    </a:lnTo>
                    <a:lnTo>
                      <a:pt x="57" y="173"/>
                    </a:lnTo>
                    <a:lnTo>
                      <a:pt x="64" y="163"/>
                    </a:lnTo>
                    <a:lnTo>
                      <a:pt x="70" y="154"/>
                    </a:lnTo>
                    <a:lnTo>
                      <a:pt x="80" y="146"/>
                    </a:lnTo>
                    <a:lnTo>
                      <a:pt x="85" y="140"/>
                    </a:lnTo>
                    <a:lnTo>
                      <a:pt x="91" y="137"/>
                    </a:lnTo>
                    <a:lnTo>
                      <a:pt x="97" y="133"/>
                    </a:lnTo>
                    <a:lnTo>
                      <a:pt x="106" y="129"/>
                    </a:lnTo>
                    <a:lnTo>
                      <a:pt x="116" y="123"/>
                    </a:lnTo>
                    <a:lnTo>
                      <a:pt x="125" y="119"/>
                    </a:lnTo>
                    <a:lnTo>
                      <a:pt x="131" y="116"/>
                    </a:lnTo>
                    <a:lnTo>
                      <a:pt x="137" y="114"/>
                    </a:lnTo>
                    <a:lnTo>
                      <a:pt x="142" y="112"/>
                    </a:lnTo>
                    <a:lnTo>
                      <a:pt x="150" y="110"/>
                    </a:lnTo>
                    <a:lnTo>
                      <a:pt x="154" y="106"/>
                    </a:lnTo>
                    <a:lnTo>
                      <a:pt x="161" y="104"/>
                    </a:lnTo>
                    <a:lnTo>
                      <a:pt x="167" y="102"/>
                    </a:lnTo>
                    <a:lnTo>
                      <a:pt x="173" y="100"/>
                    </a:lnTo>
                    <a:lnTo>
                      <a:pt x="180" y="97"/>
                    </a:lnTo>
                    <a:lnTo>
                      <a:pt x="188" y="95"/>
                    </a:lnTo>
                    <a:lnTo>
                      <a:pt x="194" y="93"/>
                    </a:lnTo>
                    <a:lnTo>
                      <a:pt x="201" y="91"/>
                    </a:lnTo>
                    <a:lnTo>
                      <a:pt x="209" y="87"/>
                    </a:lnTo>
                    <a:lnTo>
                      <a:pt x="216" y="85"/>
                    </a:lnTo>
                    <a:lnTo>
                      <a:pt x="224" y="83"/>
                    </a:lnTo>
                    <a:lnTo>
                      <a:pt x="230" y="81"/>
                    </a:lnTo>
                    <a:lnTo>
                      <a:pt x="237" y="80"/>
                    </a:lnTo>
                    <a:lnTo>
                      <a:pt x="245" y="76"/>
                    </a:lnTo>
                    <a:lnTo>
                      <a:pt x="253" y="74"/>
                    </a:lnTo>
                    <a:lnTo>
                      <a:pt x="262" y="74"/>
                    </a:lnTo>
                    <a:lnTo>
                      <a:pt x="268" y="70"/>
                    </a:lnTo>
                    <a:lnTo>
                      <a:pt x="275" y="70"/>
                    </a:lnTo>
                    <a:lnTo>
                      <a:pt x="283" y="66"/>
                    </a:lnTo>
                    <a:lnTo>
                      <a:pt x="291" y="64"/>
                    </a:lnTo>
                    <a:lnTo>
                      <a:pt x="296" y="62"/>
                    </a:lnTo>
                    <a:lnTo>
                      <a:pt x="304" y="62"/>
                    </a:lnTo>
                    <a:lnTo>
                      <a:pt x="312" y="60"/>
                    </a:lnTo>
                    <a:lnTo>
                      <a:pt x="321" y="59"/>
                    </a:lnTo>
                    <a:lnTo>
                      <a:pt x="327" y="57"/>
                    </a:lnTo>
                    <a:lnTo>
                      <a:pt x="334" y="55"/>
                    </a:lnTo>
                    <a:lnTo>
                      <a:pt x="340" y="53"/>
                    </a:lnTo>
                    <a:lnTo>
                      <a:pt x="348" y="53"/>
                    </a:lnTo>
                    <a:lnTo>
                      <a:pt x="355" y="51"/>
                    </a:lnTo>
                    <a:lnTo>
                      <a:pt x="361" y="51"/>
                    </a:lnTo>
                    <a:lnTo>
                      <a:pt x="369" y="49"/>
                    </a:lnTo>
                    <a:lnTo>
                      <a:pt x="376" y="49"/>
                    </a:lnTo>
                    <a:lnTo>
                      <a:pt x="382" y="47"/>
                    </a:lnTo>
                    <a:lnTo>
                      <a:pt x="388" y="47"/>
                    </a:lnTo>
                    <a:lnTo>
                      <a:pt x="395" y="45"/>
                    </a:lnTo>
                    <a:lnTo>
                      <a:pt x="401" y="45"/>
                    </a:lnTo>
                    <a:lnTo>
                      <a:pt x="407" y="45"/>
                    </a:lnTo>
                    <a:lnTo>
                      <a:pt x="412" y="45"/>
                    </a:lnTo>
                    <a:lnTo>
                      <a:pt x="418" y="45"/>
                    </a:lnTo>
                    <a:lnTo>
                      <a:pt x="424" y="45"/>
                    </a:lnTo>
                    <a:lnTo>
                      <a:pt x="433" y="45"/>
                    </a:lnTo>
                    <a:lnTo>
                      <a:pt x="443" y="47"/>
                    </a:lnTo>
                    <a:lnTo>
                      <a:pt x="450" y="47"/>
                    </a:lnTo>
                    <a:lnTo>
                      <a:pt x="460" y="51"/>
                    </a:lnTo>
                    <a:lnTo>
                      <a:pt x="465" y="53"/>
                    </a:lnTo>
                    <a:lnTo>
                      <a:pt x="473" y="57"/>
                    </a:lnTo>
                    <a:lnTo>
                      <a:pt x="481" y="60"/>
                    </a:lnTo>
                    <a:lnTo>
                      <a:pt x="488" y="62"/>
                    </a:lnTo>
                    <a:lnTo>
                      <a:pt x="498" y="66"/>
                    </a:lnTo>
                    <a:lnTo>
                      <a:pt x="507" y="72"/>
                    </a:lnTo>
                    <a:lnTo>
                      <a:pt x="517" y="76"/>
                    </a:lnTo>
                    <a:lnTo>
                      <a:pt x="526" y="81"/>
                    </a:lnTo>
                    <a:lnTo>
                      <a:pt x="536" y="85"/>
                    </a:lnTo>
                    <a:lnTo>
                      <a:pt x="545" y="91"/>
                    </a:lnTo>
                    <a:lnTo>
                      <a:pt x="555" y="97"/>
                    </a:lnTo>
                    <a:lnTo>
                      <a:pt x="566" y="102"/>
                    </a:lnTo>
                    <a:lnTo>
                      <a:pt x="576" y="110"/>
                    </a:lnTo>
                    <a:lnTo>
                      <a:pt x="587" y="116"/>
                    </a:lnTo>
                    <a:lnTo>
                      <a:pt x="597" y="123"/>
                    </a:lnTo>
                    <a:lnTo>
                      <a:pt x="610" y="131"/>
                    </a:lnTo>
                    <a:lnTo>
                      <a:pt x="619" y="137"/>
                    </a:lnTo>
                    <a:lnTo>
                      <a:pt x="629" y="144"/>
                    </a:lnTo>
                    <a:lnTo>
                      <a:pt x="638" y="150"/>
                    </a:lnTo>
                    <a:lnTo>
                      <a:pt x="650" y="157"/>
                    </a:lnTo>
                    <a:lnTo>
                      <a:pt x="659" y="165"/>
                    </a:lnTo>
                    <a:lnTo>
                      <a:pt x="669" y="173"/>
                    </a:lnTo>
                    <a:lnTo>
                      <a:pt x="678" y="180"/>
                    </a:lnTo>
                    <a:lnTo>
                      <a:pt x="688" y="188"/>
                    </a:lnTo>
                    <a:lnTo>
                      <a:pt x="697" y="195"/>
                    </a:lnTo>
                    <a:lnTo>
                      <a:pt x="707" y="203"/>
                    </a:lnTo>
                    <a:lnTo>
                      <a:pt x="715" y="211"/>
                    </a:lnTo>
                    <a:lnTo>
                      <a:pt x="722" y="218"/>
                    </a:lnTo>
                    <a:lnTo>
                      <a:pt x="730" y="226"/>
                    </a:lnTo>
                    <a:lnTo>
                      <a:pt x="737" y="234"/>
                    </a:lnTo>
                    <a:lnTo>
                      <a:pt x="743" y="241"/>
                    </a:lnTo>
                    <a:lnTo>
                      <a:pt x="751" y="249"/>
                    </a:lnTo>
                    <a:lnTo>
                      <a:pt x="754" y="256"/>
                    </a:lnTo>
                    <a:lnTo>
                      <a:pt x="758" y="264"/>
                    </a:lnTo>
                    <a:lnTo>
                      <a:pt x="762" y="270"/>
                    </a:lnTo>
                    <a:lnTo>
                      <a:pt x="768" y="277"/>
                    </a:lnTo>
                    <a:lnTo>
                      <a:pt x="772" y="283"/>
                    </a:lnTo>
                    <a:lnTo>
                      <a:pt x="773" y="291"/>
                    </a:lnTo>
                    <a:lnTo>
                      <a:pt x="777" y="298"/>
                    </a:lnTo>
                    <a:lnTo>
                      <a:pt x="781" y="306"/>
                    </a:lnTo>
                    <a:lnTo>
                      <a:pt x="783" y="311"/>
                    </a:lnTo>
                    <a:lnTo>
                      <a:pt x="787" y="317"/>
                    </a:lnTo>
                    <a:lnTo>
                      <a:pt x="789" y="323"/>
                    </a:lnTo>
                    <a:lnTo>
                      <a:pt x="791" y="329"/>
                    </a:lnTo>
                    <a:lnTo>
                      <a:pt x="792" y="334"/>
                    </a:lnTo>
                    <a:lnTo>
                      <a:pt x="796" y="340"/>
                    </a:lnTo>
                    <a:lnTo>
                      <a:pt x="796" y="344"/>
                    </a:lnTo>
                    <a:lnTo>
                      <a:pt x="800" y="350"/>
                    </a:lnTo>
                    <a:lnTo>
                      <a:pt x="802" y="357"/>
                    </a:lnTo>
                    <a:lnTo>
                      <a:pt x="808" y="365"/>
                    </a:lnTo>
                    <a:lnTo>
                      <a:pt x="810" y="369"/>
                    </a:lnTo>
                    <a:lnTo>
                      <a:pt x="817" y="370"/>
                    </a:lnTo>
                    <a:lnTo>
                      <a:pt x="821" y="370"/>
                    </a:lnTo>
                    <a:lnTo>
                      <a:pt x="829" y="369"/>
                    </a:lnTo>
                    <a:lnTo>
                      <a:pt x="836" y="365"/>
                    </a:lnTo>
                    <a:lnTo>
                      <a:pt x="846" y="359"/>
                    </a:lnTo>
                    <a:lnTo>
                      <a:pt x="853" y="350"/>
                    </a:lnTo>
                    <a:lnTo>
                      <a:pt x="861" y="342"/>
                    </a:lnTo>
                    <a:lnTo>
                      <a:pt x="867" y="332"/>
                    </a:lnTo>
                    <a:lnTo>
                      <a:pt x="874" y="325"/>
                    </a:lnTo>
                    <a:lnTo>
                      <a:pt x="880" y="315"/>
                    </a:lnTo>
                    <a:lnTo>
                      <a:pt x="884" y="306"/>
                    </a:lnTo>
                    <a:lnTo>
                      <a:pt x="886" y="298"/>
                    </a:lnTo>
                    <a:lnTo>
                      <a:pt x="889" y="291"/>
                    </a:lnTo>
                    <a:lnTo>
                      <a:pt x="889" y="283"/>
                    </a:lnTo>
                    <a:lnTo>
                      <a:pt x="889" y="275"/>
                    </a:lnTo>
                    <a:lnTo>
                      <a:pt x="886" y="266"/>
                    </a:lnTo>
                    <a:lnTo>
                      <a:pt x="884" y="260"/>
                    </a:lnTo>
                    <a:lnTo>
                      <a:pt x="876" y="253"/>
                    </a:lnTo>
                    <a:lnTo>
                      <a:pt x="872" y="247"/>
                    </a:lnTo>
                    <a:lnTo>
                      <a:pt x="863" y="239"/>
                    </a:lnTo>
                    <a:lnTo>
                      <a:pt x="855" y="235"/>
                    </a:lnTo>
                    <a:lnTo>
                      <a:pt x="855" y="235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464520" y="2394000"/>
                <a:ext cx="717840" cy="220680"/>
              </a:xfrm>
              <a:custGeom>
                <a:avLst/>
                <a:gdLst/>
                <a:ahLst/>
                <a:rect l="l" t="t" r="r" b="b"/>
                <a:pathLst>
                  <a:path w="1082" h="325">
                    <a:moveTo>
                      <a:pt x="31" y="325"/>
                    </a:moveTo>
                    <a:lnTo>
                      <a:pt x="36" y="325"/>
                    </a:lnTo>
                    <a:lnTo>
                      <a:pt x="44" y="323"/>
                    </a:lnTo>
                    <a:lnTo>
                      <a:pt x="48" y="323"/>
                    </a:lnTo>
                    <a:lnTo>
                      <a:pt x="54" y="321"/>
                    </a:lnTo>
                    <a:lnTo>
                      <a:pt x="59" y="321"/>
                    </a:lnTo>
                    <a:lnTo>
                      <a:pt x="65" y="321"/>
                    </a:lnTo>
                    <a:lnTo>
                      <a:pt x="71" y="317"/>
                    </a:lnTo>
                    <a:lnTo>
                      <a:pt x="78" y="317"/>
                    </a:lnTo>
                    <a:lnTo>
                      <a:pt x="84" y="316"/>
                    </a:lnTo>
                    <a:lnTo>
                      <a:pt x="94" y="316"/>
                    </a:lnTo>
                    <a:lnTo>
                      <a:pt x="99" y="314"/>
                    </a:lnTo>
                    <a:lnTo>
                      <a:pt x="107" y="312"/>
                    </a:lnTo>
                    <a:lnTo>
                      <a:pt x="116" y="312"/>
                    </a:lnTo>
                    <a:lnTo>
                      <a:pt x="126" y="310"/>
                    </a:lnTo>
                    <a:lnTo>
                      <a:pt x="133" y="308"/>
                    </a:lnTo>
                    <a:lnTo>
                      <a:pt x="143" y="306"/>
                    </a:lnTo>
                    <a:lnTo>
                      <a:pt x="152" y="304"/>
                    </a:lnTo>
                    <a:lnTo>
                      <a:pt x="162" y="302"/>
                    </a:lnTo>
                    <a:lnTo>
                      <a:pt x="171" y="298"/>
                    </a:lnTo>
                    <a:lnTo>
                      <a:pt x="183" y="298"/>
                    </a:lnTo>
                    <a:lnTo>
                      <a:pt x="192" y="295"/>
                    </a:lnTo>
                    <a:lnTo>
                      <a:pt x="206" y="295"/>
                    </a:lnTo>
                    <a:lnTo>
                      <a:pt x="215" y="291"/>
                    </a:lnTo>
                    <a:lnTo>
                      <a:pt x="227" y="289"/>
                    </a:lnTo>
                    <a:lnTo>
                      <a:pt x="238" y="285"/>
                    </a:lnTo>
                    <a:lnTo>
                      <a:pt x="251" y="283"/>
                    </a:lnTo>
                    <a:lnTo>
                      <a:pt x="263" y="279"/>
                    </a:lnTo>
                    <a:lnTo>
                      <a:pt x="276" y="278"/>
                    </a:lnTo>
                    <a:lnTo>
                      <a:pt x="289" y="276"/>
                    </a:lnTo>
                    <a:lnTo>
                      <a:pt x="301" y="274"/>
                    </a:lnTo>
                    <a:lnTo>
                      <a:pt x="314" y="268"/>
                    </a:lnTo>
                    <a:lnTo>
                      <a:pt x="327" y="266"/>
                    </a:lnTo>
                    <a:lnTo>
                      <a:pt x="339" y="262"/>
                    </a:lnTo>
                    <a:lnTo>
                      <a:pt x="352" y="259"/>
                    </a:lnTo>
                    <a:lnTo>
                      <a:pt x="365" y="257"/>
                    </a:lnTo>
                    <a:lnTo>
                      <a:pt x="379" y="253"/>
                    </a:lnTo>
                    <a:lnTo>
                      <a:pt x="392" y="249"/>
                    </a:lnTo>
                    <a:lnTo>
                      <a:pt x="407" y="247"/>
                    </a:lnTo>
                    <a:lnTo>
                      <a:pt x="419" y="241"/>
                    </a:lnTo>
                    <a:lnTo>
                      <a:pt x="434" y="238"/>
                    </a:lnTo>
                    <a:lnTo>
                      <a:pt x="449" y="234"/>
                    </a:lnTo>
                    <a:lnTo>
                      <a:pt x="462" y="230"/>
                    </a:lnTo>
                    <a:lnTo>
                      <a:pt x="478" y="226"/>
                    </a:lnTo>
                    <a:lnTo>
                      <a:pt x="493" y="222"/>
                    </a:lnTo>
                    <a:lnTo>
                      <a:pt x="506" y="219"/>
                    </a:lnTo>
                    <a:lnTo>
                      <a:pt x="521" y="215"/>
                    </a:lnTo>
                    <a:lnTo>
                      <a:pt x="536" y="211"/>
                    </a:lnTo>
                    <a:lnTo>
                      <a:pt x="550" y="205"/>
                    </a:lnTo>
                    <a:lnTo>
                      <a:pt x="565" y="201"/>
                    </a:lnTo>
                    <a:lnTo>
                      <a:pt x="580" y="198"/>
                    </a:lnTo>
                    <a:lnTo>
                      <a:pt x="595" y="192"/>
                    </a:lnTo>
                    <a:lnTo>
                      <a:pt x="611" y="188"/>
                    </a:lnTo>
                    <a:lnTo>
                      <a:pt x="624" y="184"/>
                    </a:lnTo>
                    <a:lnTo>
                      <a:pt x="641" y="179"/>
                    </a:lnTo>
                    <a:lnTo>
                      <a:pt x="654" y="175"/>
                    </a:lnTo>
                    <a:lnTo>
                      <a:pt x="670" y="169"/>
                    </a:lnTo>
                    <a:lnTo>
                      <a:pt x="685" y="165"/>
                    </a:lnTo>
                    <a:lnTo>
                      <a:pt x="700" y="160"/>
                    </a:lnTo>
                    <a:lnTo>
                      <a:pt x="713" y="156"/>
                    </a:lnTo>
                    <a:lnTo>
                      <a:pt x="729" y="150"/>
                    </a:lnTo>
                    <a:lnTo>
                      <a:pt x="744" y="146"/>
                    </a:lnTo>
                    <a:lnTo>
                      <a:pt x="759" y="141"/>
                    </a:lnTo>
                    <a:lnTo>
                      <a:pt x="772" y="135"/>
                    </a:lnTo>
                    <a:lnTo>
                      <a:pt x="787" y="131"/>
                    </a:lnTo>
                    <a:lnTo>
                      <a:pt x="799" y="125"/>
                    </a:lnTo>
                    <a:lnTo>
                      <a:pt x="812" y="122"/>
                    </a:lnTo>
                    <a:lnTo>
                      <a:pt x="825" y="116"/>
                    </a:lnTo>
                    <a:lnTo>
                      <a:pt x="839" y="112"/>
                    </a:lnTo>
                    <a:lnTo>
                      <a:pt x="850" y="106"/>
                    </a:lnTo>
                    <a:lnTo>
                      <a:pt x="863" y="103"/>
                    </a:lnTo>
                    <a:lnTo>
                      <a:pt x="873" y="99"/>
                    </a:lnTo>
                    <a:lnTo>
                      <a:pt x="884" y="95"/>
                    </a:lnTo>
                    <a:lnTo>
                      <a:pt x="894" y="91"/>
                    </a:lnTo>
                    <a:lnTo>
                      <a:pt x="905" y="87"/>
                    </a:lnTo>
                    <a:lnTo>
                      <a:pt x="915" y="84"/>
                    </a:lnTo>
                    <a:lnTo>
                      <a:pt x="924" y="82"/>
                    </a:lnTo>
                    <a:lnTo>
                      <a:pt x="934" y="78"/>
                    </a:lnTo>
                    <a:lnTo>
                      <a:pt x="945" y="74"/>
                    </a:lnTo>
                    <a:lnTo>
                      <a:pt x="951" y="72"/>
                    </a:lnTo>
                    <a:lnTo>
                      <a:pt x="960" y="68"/>
                    </a:lnTo>
                    <a:lnTo>
                      <a:pt x="968" y="65"/>
                    </a:lnTo>
                    <a:lnTo>
                      <a:pt x="976" y="63"/>
                    </a:lnTo>
                    <a:lnTo>
                      <a:pt x="983" y="59"/>
                    </a:lnTo>
                    <a:lnTo>
                      <a:pt x="991" y="57"/>
                    </a:lnTo>
                    <a:lnTo>
                      <a:pt x="997" y="55"/>
                    </a:lnTo>
                    <a:lnTo>
                      <a:pt x="1004" y="53"/>
                    </a:lnTo>
                    <a:lnTo>
                      <a:pt x="1010" y="49"/>
                    </a:lnTo>
                    <a:lnTo>
                      <a:pt x="1016" y="47"/>
                    </a:lnTo>
                    <a:lnTo>
                      <a:pt x="1021" y="46"/>
                    </a:lnTo>
                    <a:lnTo>
                      <a:pt x="1027" y="44"/>
                    </a:lnTo>
                    <a:lnTo>
                      <a:pt x="1036" y="40"/>
                    </a:lnTo>
                    <a:lnTo>
                      <a:pt x="1048" y="36"/>
                    </a:lnTo>
                    <a:lnTo>
                      <a:pt x="1054" y="32"/>
                    </a:lnTo>
                    <a:lnTo>
                      <a:pt x="1061" y="28"/>
                    </a:lnTo>
                    <a:lnTo>
                      <a:pt x="1067" y="27"/>
                    </a:lnTo>
                    <a:lnTo>
                      <a:pt x="1073" y="25"/>
                    </a:lnTo>
                    <a:lnTo>
                      <a:pt x="1078" y="17"/>
                    </a:lnTo>
                    <a:lnTo>
                      <a:pt x="1082" y="15"/>
                    </a:lnTo>
                    <a:lnTo>
                      <a:pt x="1082" y="9"/>
                    </a:lnTo>
                    <a:lnTo>
                      <a:pt x="1080" y="8"/>
                    </a:lnTo>
                    <a:lnTo>
                      <a:pt x="1076" y="4"/>
                    </a:lnTo>
                    <a:lnTo>
                      <a:pt x="1069" y="2"/>
                    </a:lnTo>
                    <a:lnTo>
                      <a:pt x="1063" y="0"/>
                    </a:lnTo>
                    <a:lnTo>
                      <a:pt x="1054" y="0"/>
                    </a:lnTo>
                    <a:lnTo>
                      <a:pt x="1048" y="0"/>
                    </a:lnTo>
                    <a:lnTo>
                      <a:pt x="1040" y="0"/>
                    </a:lnTo>
                    <a:lnTo>
                      <a:pt x="1035" y="0"/>
                    </a:lnTo>
                    <a:lnTo>
                      <a:pt x="1027" y="2"/>
                    </a:lnTo>
                    <a:lnTo>
                      <a:pt x="1019" y="2"/>
                    </a:lnTo>
                    <a:lnTo>
                      <a:pt x="1012" y="6"/>
                    </a:lnTo>
                    <a:lnTo>
                      <a:pt x="1002" y="6"/>
                    </a:lnTo>
                    <a:lnTo>
                      <a:pt x="995" y="8"/>
                    </a:lnTo>
                    <a:lnTo>
                      <a:pt x="983" y="9"/>
                    </a:lnTo>
                    <a:lnTo>
                      <a:pt x="974" y="11"/>
                    </a:lnTo>
                    <a:lnTo>
                      <a:pt x="964" y="15"/>
                    </a:lnTo>
                    <a:lnTo>
                      <a:pt x="953" y="17"/>
                    </a:lnTo>
                    <a:lnTo>
                      <a:pt x="941" y="19"/>
                    </a:lnTo>
                    <a:lnTo>
                      <a:pt x="930" y="21"/>
                    </a:lnTo>
                    <a:lnTo>
                      <a:pt x="917" y="25"/>
                    </a:lnTo>
                    <a:lnTo>
                      <a:pt x="905" y="28"/>
                    </a:lnTo>
                    <a:lnTo>
                      <a:pt x="892" y="30"/>
                    </a:lnTo>
                    <a:lnTo>
                      <a:pt x="879" y="34"/>
                    </a:lnTo>
                    <a:lnTo>
                      <a:pt x="865" y="38"/>
                    </a:lnTo>
                    <a:lnTo>
                      <a:pt x="852" y="42"/>
                    </a:lnTo>
                    <a:lnTo>
                      <a:pt x="837" y="46"/>
                    </a:lnTo>
                    <a:lnTo>
                      <a:pt x="824" y="47"/>
                    </a:lnTo>
                    <a:lnTo>
                      <a:pt x="810" y="51"/>
                    </a:lnTo>
                    <a:lnTo>
                      <a:pt x="797" y="55"/>
                    </a:lnTo>
                    <a:lnTo>
                      <a:pt x="782" y="59"/>
                    </a:lnTo>
                    <a:lnTo>
                      <a:pt x="768" y="63"/>
                    </a:lnTo>
                    <a:lnTo>
                      <a:pt x="753" y="66"/>
                    </a:lnTo>
                    <a:lnTo>
                      <a:pt x="740" y="72"/>
                    </a:lnTo>
                    <a:lnTo>
                      <a:pt x="725" y="74"/>
                    </a:lnTo>
                    <a:lnTo>
                      <a:pt x="711" y="78"/>
                    </a:lnTo>
                    <a:lnTo>
                      <a:pt x="694" y="82"/>
                    </a:lnTo>
                    <a:lnTo>
                      <a:pt x="681" y="85"/>
                    </a:lnTo>
                    <a:lnTo>
                      <a:pt x="666" y="89"/>
                    </a:lnTo>
                    <a:lnTo>
                      <a:pt x="652" y="93"/>
                    </a:lnTo>
                    <a:lnTo>
                      <a:pt x="637" y="97"/>
                    </a:lnTo>
                    <a:lnTo>
                      <a:pt x="624" y="101"/>
                    </a:lnTo>
                    <a:lnTo>
                      <a:pt x="611" y="104"/>
                    </a:lnTo>
                    <a:lnTo>
                      <a:pt x="595" y="108"/>
                    </a:lnTo>
                    <a:lnTo>
                      <a:pt x="582" y="110"/>
                    </a:lnTo>
                    <a:lnTo>
                      <a:pt x="569" y="114"/>
                    </a:lnTo>
                    <a:lnTo>
                      <a:pt x="556" y="118"/>
                    </a:lnTo>
                    <a:lnTo>
                      <a:pt x="544" y="122"/>
                    </a:lnTo>
                    <a:lnTo>
                      <a:pt x="531" y="124"/>
                    </a:lnTo>
                    <a:lnTo>
                      <a:pt x="519" y="129"/>
                    </a:lnTo>
                    <a:lnTo>
                      <a:pt x="506" y="131"/>
                    </a:lnTo>
                    <a:lnTo>
                      <a:pt x="495" y="135"/>
                    </a:lnTo>
                    <a:lnTo>
                      <a:pt x="483" y="137"/>
                    </a:lnTo>
                    <a:lnTo>
                      <a:pt x="472" y="139"/>
                    </a:lnTo>
                    <a:lnTo>
                      <a:pt x="462" y="141"/>
                    </a:lnTo>
                    <a:lnTo>
                      <a:pt x="453" y="144"/>
                    </a:lnTo>
                    <a:lnTo>
                      <a:pt x="443" y="146"/>
                    </a:lnTo>
                    <a:lnTo>
                      <a:pt x="434" y="148"/>
                    </a:lnTo>
                    <a:lnTo>
                      <a:pt x="424" y="148"/>
                    </a:lnTo>
                    <a:lnTo>
                      <a:pt x="417" y="150"/>
                    </a:lnTo>
                    <a:lnTo>
                      <a:pt x="409" y="152"/>
                    </a:lnTo>
                    <a:lnTo>
                      <a:pt x="403" y="154"/>
                    </a:lnTo>
                    <a:lnTo>
                      <a:pt x="396" y="156"/>
                    </a:lnTo>
                    <a:lnTo>
                      <a:pt x="390" y="156"/>
                    </a:lnTo>
                    <a:lnTo>
                      <a:pt x="384" y="158"/>
                    </a:lnTo>
                    <a:lnTo>
                      <a:pt x="381" y="158"/>
                    </a:lnTo>
                    <a:lnTo>
                      <a:pt x="371" y="158"/>
                    </a:lnTo>
                    <a:lnTo>
                      <a:pt x="363" y="160"/>
                    </a:lnTo>
                    <a:lnTo>
                      <a:pt x="356" y="160"/>
                    </a:lnTo>
                    <a:lnTo>
                      <a:pt x="346" y="162"/>
                    </a:lnTo>
                    <a:lnTo>
                      <a:pt x="339" y="162"/>
                    </a:lnTo>
                    <a:lnTo>
                      <a:pt x="329" y="163"/>
                    </a:lnTo>
                    <a:lnTo>
                      <a:pt x="322" y="163"/>
                    </a:lnTo>
                    <a:lnTo>
                      <a:pt x="312" y="165"/>
                    </a:lnTo>
                    <a:lnTo>
                      <a:pt x="303" y="165"/>
                    </a:lnTo>
                    <a:lnTo>
                      <a:pt x="295" y="167"/>
                    </a:lnTo>
                    <a:lnTo>
                      <a:pt x="286" y="167"/>
                    </a:lnTo>
                    <a:lnTo>
                      <a:pt x="278" y="169"/>
                    </a:lnTo>
                    <a:lnTo>
                      <a:pt x="268" y="169"/>
                    </a:lnTo>
                    <a:lnTo>
                      <a:pt x="259" y="173"/>
                    </a:lnTo>
                    <a:lnTo>
                      <a:pt x="251" y="173"/>
                    </a:lnTo>
                    <a:lnTo>
                      <a:pt x="244" y="175"/>
                    </a:lnTo>
                    <a:lnTo>
                      <a:pt x="234" y="175"/>
                    </a:lnTo>
                    <a:lnTo>
                      <a:pt x="227" y="177"/>
                    </a:lnTo>
                    <a:lnTo>
                      <a:pt x="217" y="179"/>
                    </a:lnTo>
                    <a:lnTo>
                      <a:pt x="209" y="181"/>
                    </a:lnTo>
                    <a:lnTo>
                      <a:pt x="202" y="182"/>
                    </a:lnTo>
                    <a:lnTo>
                      <a:pt x="194" y="184"/>
                    </a:lnTo>
                    <a:lnTo>
                      <a:pt x="187" y="184"/>
                    </a:lnTo>
                    <a:lnTo>
                      <a:pt x="179" y="188"/>
                    </a:lnTo>
                    <a:lnTo>
                      <a:pt x="171" y="188"/>
                    </a:lnTo>
                    <a:lnTo>
                      <a:pt x="164" y="192"/>
                    </a:lnTo>
                    <a:lnTo>
                      <a:pt x="158" y="194"/>
                    </a:lnTo>
                    <a:lnTo>
                      <a:pt x="152" y="196"/>
                    </a:lnTo>
                    <a:lnTo>
                      <a:pt x="145" y="198"/>
                    </a:lnTo>
                    <a:lnTo>
                      <a:pt x="137" y="201"/>
                    </a:lnTo>
                    <a:lnTo>
                      <a:pt x="133" y="203"/>
                    </a:lnTo>
                    <a:lnTo>
                      <a:pt x="128" y="207"/>
                    </a:lnTo>
                    <a:lnTo>
                      <a:pt x="120" y="209"/>
                    </a:lnTo>
                    <a:lnTo>
                      <a:pt x="114" y="213"/>
                    </a:lnTo>
                    <a:lnTo>
                      <a:pt x="107" y="215"/>
                    </a:lnTo>
                    <a:lnTo>
                      <a:pt x="101" y="220"/>
                    </a:lnTo>
                    <a:lnTo>
                      <a:pt x="94" y="222"/>
                    </a:lnTo>
                    <a:lnTo>
                      <a:pt x="86" y="228"/>
                    </a:lnTo>
                    <a:lnTo>
                      <a:pt x="80" y="232"/>
                    </a:lnTo>
                    <a:lnTo>
                      <a:pt x="75" y="238"/>
                    </a:lnTo>
                    <a:lnTo>
                      <a:pt x="67" y="241"/>
                    </a:lnTo>
                    <a:lnTo>
                      <a:pt x="59" y="247"/>
                    </a:lnTo>
                    <a:lnTo>
                      <a:pt x="52" y="251"/>
                    </a:lnTo>
                    <a:lnTo>
                      <a:pt x="46" y="259"/>
                    </a:lnTo>
                    <a:lnTo>
                      <a:pt x="40" y="262"/>
                    </a:lnTo>
                    <a:lnTo>
                      <a:pt x="33" y="268"/>
                    </a:lnTo>
                    <a:lnTo>
                      <a:pt x="27" y="274"/>
                    </a:lnTo>
                    <a:lnTo>
                      <a:pt x="23" y="279"/>
                    </a:lnTo>
                    <a:lnTo>
                      <a:pt x="12" y="287"/>
                    </a:lnTo>
                    <a:lnTo>
                      <a:pt x="6" y="297"/>
                    </a:lnTo>
                    <a:lnTo>
                      <a:pt x="0" y="306"/>
                    </a:lnTo>
                    <a:lnTo>
                      <a:pt x="0" y="314"/>
                    </a:lnTo>
                    <a:lnTo>
                      <a:pt x="0" y="317"/>
                    </a:lnTo>
                    <a:lnTo>
                      <a:pt x="6" y="323"/>
                    </a:lnTo>
                    <a:lnTo>
                      <a:pt x="10" y="323"/>
                    </a:lnTo>
                    <a:lnTo>
                      <a:pt x="16" y="325"/>
                    </a:lnTo>
                    <a:lnTo>
                      <a:pt x="21" y="325"/>
                    </a:lnTo>
                    <a:lnTo>
                      <a:pt x="31" y="325"/>
                    </a:lnTo>
                    <a:lnTo>
                      <a:pt x="31" y="325"/>
                    </a:lnTo>
                    <a:close/>
                  </a:path>
                </a:pathLst>
              </a:custGeom>
              <a:solidFill>
                <a:srgbClr val="8a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02087-30C3-4B09-90CB-837C92CBCBC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pplication background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w the app background (the parts that matter for the prototyping) on its own, then lay the various subscreens on top of 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720800" y="2798640"/>
            <a:ext cx="5450040" cy="400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C838A-3701-4F1E-8288-7F9CDE893CC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presenting a changing U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yers of UI can be placed on top of background as user clicks various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rcRect l="6821" t="10481" r="0" b="3007"/>
          <a:stretch/>
        </p:blipFill>
        <p:spPr>
          <a:xfrm>
            <a:off x="1371600" y="2286000"/>
            <a:ext cx="6248520" cy="43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A0047-C9C9-4080-AFA3-0E80BB595BD5}" type="slidenum">
              <a:t>25</a:t>
            </a:fld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presenting interactive widge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tons / check boxes: ta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bs, dialog boxes: index c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xt fields: removable ta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bo boxes: put the choices on a separate piece of paper that pops up when they cli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ions: a highlighted piece of tape or transpar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abled widgets: make a gray version that can sit on top of the normal enabled ver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uter beeps: say "beep" (hah!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248520" y="990720"/>
            <a:ext cx="2717640" cy="19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3775A-D21F-454A-B97C-672AE154C1A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xample paper prot. scree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944120" cy="500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74740-768C-435F-B328-6DA73330E31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xample full paper prototyp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rcRect l="0" t="0" r="0" b="16734"/>
          <a:stretch/>
        </p:blipFill>
        <p:spPr>
          <a:xfrm>
            <a:off x="228600" y="1143000"/>
            <a:ext cx="8534520" cy="55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B6473-7301-48C5-AD9C-D34F342CFF2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totyping exercis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your project groups, let's draw a rough prototype for a music player (e.g. iTunes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ume that the program lets you store, organize, and play songs and music vide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w the main player UI and whatever widgets are required to do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arch for a song or vide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ter the prototypes are done, we'll try walking through each UI togeth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ngs to think abou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many clicks are needed?  What controls to us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uld your parents figure it out without guidanc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688B3-204B-4345-B19C-9EE5523CA5C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ood UI design and usabilit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ability and good UI design are closely relat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bad UI can have unfortunate results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6451560" cy="441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CBCA5-A3C1-4E8B-B1E3-A855C25D957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chieving usabilit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 methods to achieve good usabilit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r testing / field stud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ving users use the product and gathering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aluations and reviews by UI expe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rd sor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w users various UI menus and ask them to group the ones that are similar, to see what UI tasks are seen as being related by us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totyp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per prototyp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de prototyp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 UI design focuses on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us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on the developer or on the system enviro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B9A7E-A0EB-42B5-BE28-37E4BC9BE51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totyp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ototypin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Creating a scaled-down or incomplete version of a system to demonstrate or test aspects of i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s to do prototyp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ids UI desig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s basis for tes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am-buil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s interaction with user to ensure satisf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A6E8E-F559-4939-A9B4-BBD98BA836B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ome prototyping method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I builders (Visual Studio, ..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aw a GUI visually by dragging/dropping UI controls on scre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he past, was done in simple languages like Visual Bas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rn IDEs have UI builders for more robust languages such as Java, C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 by h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ing a "quick" version of your c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400800" y="3967200"/>
            <a:ext cx="2448000" cy="452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542360" y="4815000"/>
            <a:ext cx="1296720" cy="519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876920" y="5769000"/>
            <a:ext cx="3960720" cy="93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ACA53-4574-4B25-9C82-774643D8754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aper prototyp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aper prototypin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a means of usability testing where representative users perform tasks by interacting with a paper version of a user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 paper prototype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 not just code up a working prototyp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373640"/>
            <a:ext cx="9144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3160" indent="-34596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much faster to create than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596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can change faster than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596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more visual bandwidth (can see more at o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596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more conducive to working in t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596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can be done by non-technical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A4410-AB93-4B97-8EA1-57B6C63A366E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parison of techniqu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52280" y="1905120"/>
          <a:ext cx="8839440" cy="4114440"/>
        </p:xfrm>
        <a:graphic>
          <a:graphicData uri="http://schemas.openxmlformats.org/drawingml/2006/table">
            <a:tbl>
              <a:tblPr/>
              <a:tblGrid>
                <a:gridCol w="2190960"/>
                <a:gridCol w="2214360"/>
                <a:gridCol w="2217960"/>
                <a:gridCol w="2216160"/>
              </a:tblGrid>
              <a:tr h="73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aper proto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I buil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tual implem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ase of 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ast turn-ar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lexibility,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ecu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eam desig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52280" y="1905120"/>
          <a:ext cx="8839440" cy="4114440"/>
        </p:xfrm>
        <a:graphic>
          <a:graphicData uri="http://schemas.openxmlformats.org/drawingml/2006/table">
            <a:tbl>
              <a:tblPr/>
              <a:tblGrid>
                <a:gridCol w="2190960"/>
                <a:gridCol w="2214360"/>
                <a:gridCol w="2217960"/>
                <a:gridCol w="2216160"/>
              </a:tblGrid>
              <a:tr h="73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aper proto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I buil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tual implem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ase of 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ast turn-ar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lexibility,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ecu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eam desig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06A16-4EB3-4ACA-AFA4-E6B10216F870}" type="slidenum">
              <a:t>8</a:t>
            </a:fld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here does P.P. fit in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what point in the software lifecycle should we do (paper) prototyping?  When would it be most useful to do it?  Wh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talk about requirements being about "what" and design being about "how."  Which is paper prototyping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191120"/>
            <a:ext cx="914400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3160" indent="-34596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P helps us uncover requirements and also upcoming design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596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do PP during or after requirements; befor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596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"what" vs. "how": PP shows us "what" is in the UI, but it also shows us details of "how" the user can achieve their goals in the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0C29D-15D2-4483-8B4C-0A8AD19FE655}" type="slidenum">
              <a:t>9</a:t>
            </a:fld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Registered User</cp:lastModifiedBy>
  <cp:lastPrinted>2009-04-22T19:24:48Z</cp:lastPrinted>
  <dcterms:modified xsi:type="dcterms:W3CDTF">2007-01-28T23:44:00Z</dcterms:modified>
  <cp:revision>1241</cp:revision>
  <dc:subject/>
  <dc:title>CSE 403 Slides</dc:title>
</cp:coreProperties>
</file>