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D53EC-AF57-4B1E-AE39-B7C147B67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54C1565-CD66-462F-B750-62033977B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8014896F-BA55-4950-82EC-A0B60C2BC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6506195C-2AC4-48FF-9227-7261E30CEE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6A7BBE-582D-4B37-B345-190705B5D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64C2764-3976-405D-8F79-9059B2792D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C068CC5-1F6D-4BAC-9160-809BF783A1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2145A6C0-ECE7-4A72-ADDB-8A96A5E040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6FD3FE4E-17B8-4196-9568-25C56E4790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5F453178-A4AC-4879-AC6C-B647A4A5A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46BF7BD6-B046-4D28-9E96-4D52DEFC36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320E8C9-34D7-4FF0-A546-A82170A19B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FAAAA96-E006-4A12-B081-E6421A040A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7D6BF661-EF93-4C29-A7B0-07C5CE880F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B74192E8-BE9D-4038-8E0F-B41729C361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460A3DA2-F003-4338-B986-A48C9F5CBD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72188121-EE64-4AD2-A1BF-D48D6A9A11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30A8601-8683-483D-A541-7D6E0DC59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A2325701-F151-49C7-82C8-AA66C0F1D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DAD90B42-D14D-4657-8AB5-D17DC21E31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8810A343-4DB2-4A50-AC5D-F58F8E3767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3132DBCE-7AEF-42FD-8874-3098D224FE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33F36C2-2D24-413C-AE75-CD04E02F5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E2D60D4C-9223-4AFF-8F0A-AF93AE538C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1895-7F3B-46E8-A619-2F80C134A87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FDB1-5228-408B-A5DC-9E07BED120D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Classic Mistake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3</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30ED61A-64F1-4BB5-B3B5-F3FDB54DED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duct</a:t>
            </a:r>
            <a:endParaRPr b="0" lang="en-US" sz="4000" spc="-1" strike="noStrike">
              <a:solidFill>
                <a:srgbClr val="000000"/>
              </a:solidFill>
              <a:latin typeface="Verdana"/>
            </a:endParaRPr>
          </a:p>
        </p:txBody>
      </p:sp>
      <p:sp>
        <p:nvSpPr>
          <p:cNvPr id="13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gold-plating</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ature creep</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r gold-plating</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sh-me, pull-me negotiation</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oriented developm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33402CF-246B-4A46-8CE5-A826546B79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chnology</a:t>
            </a:r>
            <a:endParaRPr b="0" lang="en-US" sz="4000" spc="-1" strike="noStrike">
              <a:solidFill>
                <a:srgbClr val="000000"/>
              </a:solidFill>
              <a:latin typeface="Verdana"/>
            </a:endParaRPr>
          </a:p>
        </p:txBody>
      </p:sp>
      <p:sp>
        <p:nvSpPr>
          <p:cNvPr id="13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lver-bullet syndrom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estimated savings from new tools or method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itching tools in the middle of a project</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automated source-code contro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04D4704-492F-4AE8-BE30-572B65AA1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istake comparison table</a:t>
            </a:r>
            <a:endParaRPr b="0" lang="en-US" sz="4000" spc="-1" strike="noStrike">
              <a:solidFill>
                <a:srgbClr val="000000"/>
              </a:solidFill>
              <a:latin typeface="Verdana"/>
            </a:endParaRPr>
          </a:p>
        </p:txBody>
      </p:sp>
      <p:graphicFrame>
        <p:nvGraphicFramePr>
          <p:cNvPr id="134" name=""/>
          <p:cNvGraphicFramePr/>
          <p:nvPr/>
        </p:nvGraphicFramePr>
        <p:xfrm>
          <a:off x="0" y="1397160"/>
          <a:ext cx="9144000" cy="5460840"/>
        </p:xfrm>
        <a:graphic>
          <a:graphicData uri="http://schemas.openxmlformats.org/drawingml/2006/table">
            <a:tbl>
              <a:tblPr/>
              <a:tblGrid>
                <a:gridCol w="2286000"/>
                <a:gridCol w="2286000"/>
                <a:gridCol w="2286000"/>
                <a:gridCol w="2286000"/>
              </a:tblGrid>
              <a:tr h="711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eo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c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du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echnolog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49840">
                <a:tc>
                  <a:txBody>
                    <a:bodyPr lIns="90000" rIns="90000" tIns="46800" bIns="46800" anchor="t">
                      <a:noAutofit/>
                    </a:bodyPr>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dermined motivation</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eak personnel</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controlled problem employe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eroic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dding people to a late software project</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isy, crowded offic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riction between developers and customer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realistic expectation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effective project sponsorship</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stakeholder buy-in</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user input</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olitics placed over substanc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ishful thinking</a:t>
                      </a:r>
                      <a:endParaRPr b="0" lang="en-US" sz="1200" spc="-1" strike="noStrike">
                        <a:solidFill>
                          <a:srgbClr val="000000"/>
                        </a:solidFill>
                        <a:latin typeface="Times New Roman"/>
                      </a:endParaRPr>
                    </a:p>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verly optimistic schedul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ufficient risk management</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ontractor failur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ufficient planning</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bandonment of planning under pressur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asted time during the "fuzzy front end"</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rtchanged upstream activiti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adequate design</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rtchanged quality assuranc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ufficient management control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remature or overly frequent convergenc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mitting necessary tasks from estimat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lanning to catch up later</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ode-like-hell programm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quirements gold-plating</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eature creep</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eveloper gold-plating</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ush-me, pull-me negotiation</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search-oriented development</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ilver-bullet syndrome</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verestimated savings from new tools or methods</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witching tools in the middle of a project</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automated source-code control</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E1F3263-C2FB-49F0-8EF6-D1CBB74FD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s software different?</a:t>
            </a:r>
            <a:endParaRPr b="0" lang="en-US" sz="4000" spc="-1" strike="noStrike">
              <a:solidFill>
                <a:srgbClr val="000000"/>
              </a:solidFill>
              <a:latin typeface="Verdana"/>
            </a:endParaRPr>
          </a:p>
        </p:txBody>
      </p:sp>
      <p:sp>
        <p:nvSpPr>
          <p:cNvPr id="13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software engineering different from other engineering disciplines in this regar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1207EE1-1457-4104-A5E3-D049DA93FD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rguments in favor</a:t>
            </a:r>
            <a:endParaRPr b="0" lang="en-US" sz="4000" spc="-1" strike="noStrike">
              <a:solidFill>
                <a:srgbClr val="000000"/>
              </a:solidFill>
              <a:latin typeface="Verdana"/>
            </a:endParaRPr>
          </a:p>
        </p:txBody>
      </p:sp>
      <p:sp>
        <p:nvSpPr>
          <p:cNvPr id="1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software engineering different from other engineering disciplines in this regard?</a:t>
            </a:r>
            <a:endParaRPr b="0" lang="en-US" sz="24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guments in favor:</a:t>
            </a:r>
            <a:endParaRPr b="0" lang="en-US" sz="20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the quality of software is harder</a:t>
            </a:r>
            <a:endParaRPr b="0" lang="en-US" sz="2000" spc="-1" strike="noStrike">
              <a:solidFill>
                <a:srgbClr val="000000"/>
              </a:solidFill>
              <a:latin typeface="Verdana"/>
            </a:endParaRPr>
          </a:p>
          <a:p>
            <a:pPr lvl="2" marL="1143000" indent="-228600">
              <a:spcBef>
                <a:spcPts val="2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alting Problem presents a fundamental limitation in the extent to which software quality can be evaluated</a:t>
            </a:r>
            <a:endParaRPr b="0" lang="en-US" sz="2000" spc="-1" strike="noStrike">
              <a:solidFill>
                <a:srgbClr val="000000"/>
              </a:solidFill>
              <a:latin typeface="Verdana"/>
            </a:endParaRPr>
          </a:p>
          <a:p>
            <a:pPr lvl="3" marL="1600200" indent="-228600">
              <a:spcBef>
                <a:spcPts val="224"/>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st properties of software that we care about are unverifiable</a:t>
            </a:r>
            <a:endParaRPr b="0" lang="en-US" sz="1800" spc="-1" strike="noStrike">
              <a:solidFill>
                <a:srgbClr val="000000"/>
              </a:solidFill>
              <a:latin typeface="Verdana"/>
            </a:endParaRPr>
          </a:p>
          <a:p>
            <a:pPr lvl="2" marL="1143000" indent="-228600">
              <a:spcBef>
                <a:spcPts val="2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like bridges and buildings where everything can be tested using known procedures</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ch higher rate of failure</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barrier to entry</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maturity of the discipline</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 expectations: quality, delivery timeline, etc.</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ntic rate of technological change</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is easier to cop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4FAAF2B-58B8-4E5D-9A98-1065500C5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rguments against</a:t>
            </a:r>
            <a:endParaRPr b="0" lang="en-US" sz="4000" spc="-1" strike="noStrike">
              <a:solidFill>
                <a:srgbClr val="000000"/>
              </a:solidFill>
              <a:latin typeface="Verdana"/>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software engineering different from other engineering disciplines in this regard?</a:t>
            </a:r>
            <a:endParaRPr b="0" lang="en-US" sz="24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guments against:</a:t>
            </a:r>
            <a:endParaRPr b="0" lang="en-US" sz="20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isn't "sof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ry to popular perception, change cannot be easily accommodated, yet requirements do change</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eality, even though change is possible in principle, accommodating change often forces a rewriting of major parts of the software</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evelopers still need to plan, execute, test, and sell their products</a:t>
            </a:r>
            <a:endParaRPr b="0" lang="en-US" sz="20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iscipline is still in its infanc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1C4A92C-187B-4D60-864C-2D42C231AB7C}"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is a software project?</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s are a balance of three dimensions, with the goal of producing a successful deliverab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04" name=""/>
          <p:cNvGrpSpPr/>
          <p:nvPr/>
        </p:nvGrpSpPr>
        <p:grpSpPr>
          <a:xfrm>
            <a:off x="1202400" y="2590920"/>
            <a:ext cx="6870240" cy="3431520"/>
            <a:chOff x="1202400" y="2590920"/>
            <a:chExt cx="6870240" cy="3431520"/>
          </a:xfrm>
        </p:grpSpPr>
        <p:sp>
          <p:nvSpPr>
            <p:cNvPr id="105" name=""/>
            <p:cNvSpPr/>
            <p:nvPr/>
          </p:nvSpPr>
          <p:spPr>
            <a:xfrm>
              <a:off x="2267280" y="3048120"/>
              <a:ext cx="3581280" cy="2743200"/>
            </a:xfrm>
            <a:prstGeom prst="triangle">
              <a:avLst>
                <a:gd name="adj" fmla="val 50000"/>
              </a:avLst>
            </a:prstGeom>
            <a:solidFill>
              <a:srgbClr val="00ccff"/>
            </a:solidFill>
            <a:ln w="9360">
              <a:solidFill>
                <a:srgbClr val="3333cc"/>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32360" y="25909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107" name=""/>
            <p:cNvSpPr/>
            <p:nvPr/>
          </p:nvSpPr>
          <p:spPr>
            <a:xfrm>
              <a:off x="1202400" y="5559480"/>
              <a:ext cx="992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08" name=""/>
            <p:cNvSpPr/>
            <p:nvPr/>
          </p:nvSpPr>
          <p:spPr>
            <a:xfrm>
              <a:off x="6032520" y="5562720"/>
              <a:ext cx="2040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URCES</a:t>
              </a:r>
              <a:endParaRPr b="0" lang="en-US" sz="2400" spc="-1" strike="noStrike">
                <a:solidFill>
                  <a:srgbClr val="000000"/>
                </a:solidFill>
                <a:latin typeface="Times New Roman"/>
              </a:endParaRPr>
            </a:p>
          </p:txBody>
        </p:sp>
        <p:sp>
          <p:nvSpPr>
            <p:cNvPr id="109" name=""/>
            <p:cNvSpPr/>
            <p:nvPr/>
          </p:nvSpPr>
          <p:spPr>
            <a:xfrm>
              <a:off x="2991240" y="4572000"/>
              <a:ext cx="219528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lang="en-US" sz="2400" spc="-1" strike="noStrike">
                  <a:solidFill>
                    <a:srgbClr val="000000"/>
                  </a:solidFill>
                  <a:latin typeface="Arial Unicode MS"/>
                </a:rPr>
                <a:t>SOFTWAR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DELIVERABLE</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7E2C5B6-9282-43C9-86CB-CAAAA489F03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goal of building software</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ccessful deliverable is characterized by being:</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ime</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budget</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good quality</a:t>
            </a:r>
            <a:endParaRPr b="0" lang="en-US" sz="20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Fast and Cheap.  Choose two!"</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two would you pick for a project like yours?</a:t>
            </a:r>
            <a:endParaRPr b="0" lang="en-US" sz="24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ood and Fast, but not Cheap</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ood and Cheap, but not Fast</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ast and Cheap, but not Good</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F902354-6614-4A47-9849-33AE5DF9D0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fate of software projects</a:t>
            </a:r>
            <a:endParaRPr b="0" lang="en-US" sz="4000" spc="-1" strike="noStrike">
              <a:solidFill>
                <a:srgbClr val="000000"/>
              </a:solidFill>
              <a:latin typeface="Verdana"/>
            </a:endParaRPr>
          </a:p>
        </p:txBody>
      </p:sp>
      <p:sp>
        <p:nvSpPr>
          <p:cNvPr id="11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some reasonable definition of a "project" (you decide on it), what would you guess is the percentage of software projects that fail to accomplish their goals?</a:t>
            </a:r>
            <a:endParaRPr b="0" lang="en-US" sz="2400" spc="-1" strike="noStrike">
              <a:solidFill>
                <a:srgbClr val="000000"/>
              </a:solidFill>
              <a:latin typeface="Verdana"/>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hoose the range in which your estimate falls:</a:t>
            </a:r>
            <a:endParaRPr b="0" lang="en-US" sz="24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0-2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0-4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0-6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60-8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80-10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EE0EB5B-C3E6-4942-8097-A3E2EFB9B8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s</a:t>
            </a:r>
            <a:endParaRPr b="0" lang="en-US" sz="4000" spc="-1" strike="noStrike">
              <a:solidFill>
                <a:srgbClr val="000000"/>
              </a:solidFill>
              <a:latin typeface="Verdana"/>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e is how undergraduate students in software engineering (CSE 403) voted (left) vs. how graduate students (in CSE 590ET) voted (righ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storically, nearly </a:t>
            </a:r>
            <a:r>
              <a:rPr b="1" lang="en-US" sz="2400" spc="-1" strike="noStrike">
                <a:solidFill>
                  <a:srgbClr val="800080"/>
                </a:solidFill>
                <a:latin typeface="Verdana"/>
              </a:rPr>
              <a:t>85%</a:t>
            </a:r>
            <a:r>
              <a:rPr b="0" lang="en-US" sz="2400" spc="-1" strike="noStrike">
                <a:solidFill>
                  <a:srgbClr val="000000"/>
                </a:solidFill>
                <a:latin typeface="Verdana"/>
              </a:rPr>
              <a:t> of software projects fail.</a:t>
            </a:r>
            <a:endParaRPr b="0" lang="en-US" sz="2400" spc="-1" strike="noStrike">
              <a:solidFill>
                <a:srgbClr val="000000"/>
              </a:solidFill>
              <a:latin typeface="Verdana"/>
            </a:endParaRPr>
          </a:p>
        </p:txBody>
      </p:sp>
      <p:grpSp>
        <p:nvGrpSpPr>
          <p:cNvPr id="116" name=""/>
          <p:cNvGrpSpPr/>
          <p:nvPr/>
        </p:nvGrpSpPr>
        <p:grpSpPr>
          <a:xfrm>
            <a:off x="228600" y="2741760"/>
            <a:ext cx="8534520" cy="2896920"/>
            <a:chOff x="228600" y="2741760"/>
            <a:chExt cx="8534520" cy="2896920"/>
          </a:xfrm>
        </p:grpSpPr>
        <p:graphicFrame>
          <p:nvGraphicFramePr>
            <p:cNvPr id="117" name=""/>
            <p:cNvGraphicFramePr/>
            <p:nvPr/>
          </p:nvGraphicFramePr>
          <p:xfrm>
            <a:off x="228600" y="2743200"/>
            <a:ext cx="4341960" cy="2895480"/>
          </p:xfrm>
          <a:graphic>
            <a:graphicData uri="http://schemas.openxmlformats.org/presentationml/2006/ole">
              <p:oleObj r:id="rId1" spid="">
                <p:embed/>
                <p:pic>
                  <p:nvPicPr>
                    <p:cNvPr id="118" name="" descr=""/>
                    <p:cNvPicPr/>
                    <p:nvPr/>
                  </p:nvPicPr>
                  <p:blipFill>
                    <a:blip r:embed="rId2"/>
                    <a:stretch/>
                  </p:blipFill>
                  <p:spPr>
                    <a:xfrm>
                      <a:off x="228600" y="2743200"/>
                      <a:ext cx="4341960" cy="2895480"/>
                    </a:xfrm>
                    <a:prstGeom prst="rect">
                      <a:avLst/>
                    </a:prstGeom>
                    <a:ln w="0">
                      <a:noFill/>
                    </a:ln>
                  </p:spPr>
                </p:pic>
              </p:oleObj>
            </a:graphicData>
          </a:graphic>
        </p:graphicFrame>
        <p:graphicFrame>
          <p:nvGraphicFramePr>
            <p:cNvPr id="119" name=""/>
            <p:cNvGraphicFramePr/>
            <p:nvPr/>
          </p:nvGraphicFramePr>
          <p:xfrm>
            <a:off x="4419720" y="2741760"/>
            <a:ext cx="4343400" cy="2896920"/>
          </p:xfrm>
          <a:graphic>
            <a:graphicData uri="http://schemas.openxmlformats.org/presentationml/2006/ole">
              <p:oleObj r:id="rId3" spid="">
                <p:embed/>
                <p:pic>
                  <p:nvPicPr>
                    <p:cNvPr id="120" name="" descr=""/>
                    <p:cNvPicPr/>
                    <p:nvPr/>
                  </p:nvPicPr>
                  <p:blipFill>
                    <a:blip r:embed="rId4"/>
                    <a:stretch/>
                  </p:blipFill>
                  <p:spPr>
                    <a:xfrm>
                      <a:off x="4419720" y="2741760"/>
                      <a:ext cx="4343400" cy="2896920"/>
                    </a:xfrm>
                    <a:prstGeom prst="rect">
                      <a:avLst/>
                    </a:prstGeom>
                    <a:ln w="0">
                      <a:noFill/>
                    </a:ln>
                  </p:spPr>
                </p:pic>
              </p:oleObj>
            </a:graphicData>
          </a:graphic>
        </p:graphicFrame>
      </p:grpSp>
      <p:sp>
        <p:nvSpPr>
          <p:cNvPr id="4" name="PlaceHolder 3"/>
          <p:cNvSpPr>
            <a:spLocks noGrp="1"/>
          </p:cNvSpPr>
          <p:nvPr>
            <p:ph type="sldNum" idx="1"/>
          </p:nvPr>
        </p:nvSpPr>
        <p:spPr/>
        <p:txBody>
          <a:bodyPr/>
          <a:p>
            <a:fld id="{FB42E416-CD07-437C-9BF5-C8D1E6FB0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y do projects fail?</a:t>
            </a:r>
            <a:endParaRPr b="0" lang="en-US" sz="4000" spc="-1" strike="noStrike">
              <a:solidFill>
                <a:srgbClr val="000000"/>
              </a:solidFill>
              <a:latin typeface="Verdana"/>
            </a:endParaRPr>
          </a:p>
        </p:txBody>
      </p:sp>
      <p:sp>
        <p:nvSpPr>
          <p:cNvPr id="12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were some of the reasons given for the failure of the software project in the anecdote in </a:t>
            </a:r>
            <a:r>
              <a:rPr b="0" i="1" lang="en-US" sz="2400" spc="-1" strike="noStrike">
                <a:solidFill>
                  <a:srgbClr val="000000"/>
                </a:solidFill>
                <a:latin typeface="Verdana"/>
              </a:rPr>
              <a:t>Rapid Development </a:t>
            </a:r>
            <a:r>
              <a:rPr b="0" lang="en-US" sz="2400" spc="-1" strike="noStrike">
                <a:solidFill>
                  <a:srgbClr val="000000"/>
                </a:solidFill>
                <a:latin typeface="Verdana"/>
              </a:rPr>
              <a:t>section 3.1?</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5D5A145-27FD-4AB8-8AAF-82ADE3A10D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y do projects fail? 2</a:t>
            </a:r>
            <a:endParaRPr b="0" lang="en-US" sz="4000" spc="-1" strike="noStrike">
              <a:solidFill>
                <a:srgbClr val="000000"/>
              </a:solidFill>
              <a:latin typeface="Verdana"/>
            </a:endParaRPr>
          </a:p>
        </p:txBody>
      </p:sp>
      <p:sp>
        <p:nvSpPr>
          <p:cNvPr id="12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reasons the "Giga Quote" project failed:</a:t>
            </a:r>
            <a:endParaRPr b="0" lang="en-US" sz="24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set unrealistic expectations; Mike didn't correct them</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verestimated the positive impact of tools (C++, OO, new hardwar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red developers based on availability despite warning sign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ity conflicts between developer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s in rate structure requirements in middle of work</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delay causes another (dev delay leads to test delay, etc.)</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cks and shortcuts (bar chart and report on same pag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rs end up working "death marches" (6-day, 10-hour week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verestimating how nearly done you are ("I'm 90% don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didn't match the spec (company logo not on every pag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r time taken away by other tasks (Jill moonlighting, etc.)</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software was delivered to be tested, tons of bugs came ou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rs didn't listen to testers; ignored severity of bugs reported</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promised big bonuses, gave tiny one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77D2CD13-8A55-4056-9C04-AEFF80EA98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eople</a:t>
            </a:r>
            <a:endParaRPr b="0" lang="en-US" sz="4000" spc="-1" strike="noStrike">
              <a:solidFill>
                <a:srgbClr val="000000"/>
              </a:solidFill>
              <a:latin typeface="Verdana"/>
            </a:endParaRPr>
          </a:p>
        </p:txBody>
      </p:sp>
      <p:sp>
        <p:nvSpPr>
          <p:cNvPr id="1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mined motivatio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ak personnel</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controlled problem employee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oic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people to a late software projec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y, crowded office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ction between developers and customer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realistic expectation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effective project sponsorship</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stakeholder buy-i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user inpu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tics placed over substance</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shful think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52859DD-1270-456B-BD4D-0A450CD0E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cess</a:t>
            </a:r>
            <a:endParaRPr b="0" lang="en-US" sz="4000" spc="-1" strike="noStrike">
              <a:solidFill>
                <a:srgbClr val="000000"/>
              </a:solidFill>
              <a:latin typeface="Verdana"/>
            </a:endParaRPr>
          </a:p>
        </p:txBody>
      </p:sp>
      <p:sp>
        <p:nvSpPr>
          <p:cNvPr id="1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ly optimistic schedule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ufficient risk management</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ctor failur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ufficient planning</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andonment of planning under pressur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sted time during the "fuzzy front end"</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changed upstream activitie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adequate design</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changed quality assuranc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ufficient management control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mature or overly frequent convergenc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itting necessary tasks from estimate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to catch up later</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like-hell programm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08368A0-B7DF-454F-8B17-F319A98814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11Z</dcterms:modified>
  <cp:revision>1210</cp:revision>
  <dc:subject/>
  <dc:title>CSE 403 Slides</dc:title>
</cp:coreProperties>
</file>