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7CC640-57F3-49A5-802E-2F64811E3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71BC19-116F-406C-A0CC-E17343978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A1DE6B-5331-4F99-A1A9-BBF0D16AC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C4DE16-F2D2-4ABC-B472-1769159B9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AAA43E-1DA8-4A1C-94C2-13FDD93DF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8B20AF-F6BE-495D-8FFC-08BF1FDB9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72939F-D7AA-4BF5-8DCF-6499250C0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273C98-F2E4-46B4-8613-663347B3D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984DE3-6514-4AF1-BEEC-161631986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ED771-E41C-4B6A-A0BD-9A10718AE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ACB003-16F6-49DC-9317-176C5FF7B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7E74CC-62A7-4265-89F4-CACBE940A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7EFC4E-A5DE-4F0E-942F-8B44E8525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7DD0-DD3D-4606-96D6-0D685FF83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9DA9-2592-45EC-9F52-00EC76D8F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1ED1-EEEC-4380-812D-ECA52DA06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8D42-AC06-4DE3-B688-EC539CDD1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AE9D-336C-4B8D-B28A-F7BB5D45B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6095-43CD-40D7-9248-2632254A8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89F8-1712-4598-95BE-BE612A176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BE4B-3169-415A-97F9-B567745B0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77A9-15D9-4C0C-B273-51318B73D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59D8-D212-4C15-8CBC-A05B72D75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4844-337A-45E6-8605-7B119BE98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C76E-7CA6-48B0-830F-11631FF26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F84-48CA-4102-B9D5-EAEBC51C19B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4E8-36C4-4DC1-9707-4BE63FEAA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5F90-86BA-4DF5-A01B-9C15EF6A67E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University of Washington</cp:lastModifiedBy>
  <cp:lastPrinted>2012-05-08T18:43:58Z</cp:lastPrinted>
  <dcterms:modified xsi:type="dcterms:W3CDTF">2017-11-20T23:44:39Z</dcterms:modified>
  <cp:revision>885</cp:revision>
  <dc:subject/>
  <dc:title>CSE 391 Lecture 7</dc:title>
</cp:coreProperties>
</file>