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EF6BEC-E58C-4D15-BD0A-F42F7F485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A59A6B-DD9E-4864-A9F7-4B96E15D6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81941F-47DA-4D23-95FD-4646D8C5D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D30E3D-D3DE-469D-ACD1-29BCBAF62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90F54E-0C2F-48BD-9ECD-D45C3BFA3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AE88D8-B5DB-4486-A10D-2882E3990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48F8AA-7CB6-4B50-81E7-D2524EEEF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0071F-4060-4BA5-862B-D89BEC7D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ACF2B9-553D-404E-B540-EAE278C11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0A0256-74C5-4E25-AE92-C8C100113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AD150A-BBE0-4853-8D3B-2F1C47D9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015A5D-9DD8-4866-8E75-6C7D730F2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F43E4B-F923-49F3-864C-4DEB724FB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8579-8D37-4F29-B8F5-E38CB4F41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F5E2-2E30-433F-95F3-ED3E1AA73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F19B-3BEC-4826-ADCC-01EA57EE2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08F6-B887-485A-9B0C-702195ECC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DCD0-ED7C-4E99-B005-D43E54A68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AEA4-0132-43BB-9960-AEF8BD270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2089-D78C-4B75-9FEE-418DCEE1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0562-7FFD-495B-9747-0FF4DE719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A119-02B6-475B-9E4A-55E1AB0FB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ED2B-93F1-4F23-A581-E3B3DECA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F59F-113C-4E62-B073-3D11ECE4F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7622-2146-4ACC-AADC-32A6CCF8B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2BA-454D-4E2A-B53E-27E0CBF48E7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9694-2BC8-41C6-9045-94A704324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53C-5E8B-480F-8ADA-ED94D905670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University of Washington</cp:lastModifiedBy>
  <cp:lastPrinted>2012-05-08T18:43:58Z</cp:lastPrinted>
  <dcterms:modified xsi:type="dcterms:W3CDTF">2017-11-20T23:44:39Z</dcterms:modified>
  <cp:revision>885</cp:revision>
  <dc:subject/>
  <dc:title>CSE 391 Lecture 7</dc:title>
</cp:coreProperties>
</file>