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90AEDB-4B4F-4079-80D1-686AC251A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C2C103-1082-4AD7-920D-1E696DDDAE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194FA9-BA63-444A-858C-FF3959865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3F08FC-B8AE-4D4C-BAEB-51C7A0702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4BBD7F-AF88-47C3-95BC-BCE11882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27405F-0172-4685-B7D3-8EB8BFF34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53B267-8186-4B3B-9DAF-FF7A97205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E501A5-55CD-411F-96F3-FECFF4939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DAAE20-7933-43C4-BED9-249263362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9F56E5-6FBE-47C8-88EF-1FA1A0318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763F8C-BA29-44C3-995B-B268F8866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D2B883-E850-490D-A8C3-0E5A66507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5F8E4D-A5CC-4ACC-88CE-1DFF449AE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8A3EB-25C5-48E6-B6CA-802EC8F34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FC36-ACB6-4B35-BAAC-F94DC9B5C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A5FC-D405-4559-8602-B17DB40F6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A1D4-E006-4114-A5C2-4E0522AFA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5D1D-0D16-4114-9A14-07D8C5AE0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D652-D840-42DC-868C-3DDC0E3F4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3EED-33D8-401C-9B20-09D99DD40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5B85-9A5A-4302-AAF8-734510A8B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7190-6112-43C3-845F-D40C071B0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1D51-0E39-47C9-BCFC-2B85A2572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79C7-C651-45E1-9B70-844C34248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AE50-5B81-4C51-9BB0-0AE479927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D0C3-E378-47D7-A99E-1B9B825ECEE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499-6E11-4FB3-A4C4-F2BE7BA15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BA3F-56F3-4AA0-8793-3846F68556D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University of Washington</cp:lastModifiedBy>
  <cp:lastPrinted>2012-05-08T18:43:58Z</cp:lastPrinted>
  <dcterms:modified xsi:type="dcterms:W3CDTF">2017-11-20T23:44:39Z</dcterms:modified>
  <cp:revision>885</cp:revision>
  <dc:subject/>
  <dc:title>CSE 391 Lecture 7</dc:title>
</cp:coreProperties>
</file>