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81EE8C4-2547-4889-B303-F2F94AFDEC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22257AE-F664-4E80-AC3F-50923FA1C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B15D288-32F4-494C-A59F-06793B843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9AB00BD-9708-43B9-BB77-634A343BD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8AD8624-AA1A-4AC8-9729-9AE3AC7B0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84756F-99BC-497D-BBAB-B749E74D0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B5C52F-2E25-481C-A0D8-D9A69210F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7ABFEA-815A-4FCD-92D5-01EF9927E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04D3F0-C9D4-4DB1-B5AE-0BD1FEBFD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75B14E6-73C5-48FC-A8ED-CC980FA03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940680D-3D80-4D45-9458-70ECE9764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85733A-231F-4CFF-A23C-DB1EFF88D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6BB1C9E-D987-4EC4-A501-A433252A4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3CEC7-2DE8-4FFA-BE97-F54F1108FA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E8726-296D-41C2-91F8-22F5707BB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7B020-4417-4B20-91CF-4FB8CE1D12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FE46F-F1BD-4AE5-B58C-4722D9480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305E-B131-4EBF-BB7E-DCC66C359D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A1B55-01B0-4058-857E-FD45E561AF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E0628-FCBA-4DCD-A72D-9EFB9B25E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470B6-7997-4BBB-812C-D21FD0469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17742-4EBD-4E50-B46A-5304AC0D09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5FBCC-8083-457B-8E95-596CBB155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0E448-975F-452B-B0B9-42C1A844B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CAC65-8D2C-4AF7-8074-EB3FADB3F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0124-FC37-4F5E-89B1-267465AA0826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1FA3-F3D0-4716-858B-AC2B3A3D8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FF59-42B4-42D3-94F5-88B204662634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3-02-19T22:05:44Z</dcterms:modified>
  <cp:revision>869</cp:revision>
  <dc:subject/>
  <dc:title>CSE 142 Python Slides</dc:title>
</cp:coreProperties>
</file>