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DB865A93-E169-4770-9DC7-5B914411A19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51D5BBC-DC08-4949-9B91-8AFB545D46C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22010E3E-CDC8-4391-9B34-DD427A020DF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2848B555-4956-4203-91DD-823E8629656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6453CF45-B49D-4E20-A27D-4C2E5C8921F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2D3FBE6-E84F-4559-AB37-547B01FE5CF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2318A68E-B641-4935-AF55-5B52476D898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3AB1A39-51EB-482F-9894-60AC9DCB9C3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F65A626-6C94-4A36-A003-91DD80729B0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10AE0C6D-631F-4D38-BA29-F004DB5FF2C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3DBD86D-4636-495A-A233-5A85836B3E0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8BB595C4-A4BB-43ED-8D27-9FB42CD8BDD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E5CF9956-4263-4BAA-BFC2-A9EDF3E72AA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B1B50-63AB-484B-8150-5EAAE65A00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9E5FC-2EE3-447A-9A1D-2471E82AA6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39EA0-A360-49B2-9701-2CDC80F261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BC98A-E80C-4927-AC25-B65312D81C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5024D-C607-4517-933A-6CA7B12F68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6F82C-449D-4AB8-9524-E7FB505359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7A8C0-2930-49E4-8E02-5F76B33130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D65C3-0B45-40AA-AE83-5D6D6E91B5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AC9C0-5B4E-48FC-B127-086F7A7667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72D42-D847-41C6-AD89-699AC9DE95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E0956-DB9D-4334-80D6-AA53FBB8F7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A4949-4C57-4885-ABE3-F203DA5626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7688-9473-49C7-AFA2-468547F2AE2B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3876-19BD-41D7-8A52-262634642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0E44-6B7B-49A4-95EF-0905155D5E92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1-05-10T20:36:00Z</cp:lastPrinted>
  <dcterms:modified xsi:type="dcterms:W3CDTF">2011-11-13T19:07:14Z</dcterms:modified>
  <cp:revision>863</cp:revision>
  <dc:subject/>
  <dc:title>CSE 142 Python Slides</dc:title>
</cp:coreProperties>
</file>