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A9B99F6-B148-4708-80B3-5C1AD22C3D5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A6A99B2-9FCD-48B3-8690-C5E2189F13B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198CA8F-269C-4257-B1BB-2F8384C28DF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10467C66-B01A-4AC8-AD7C-0AB3A61C2D5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DE15773-8B3C-4378-B630-6FBA62AA554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87A387D-6F70-4C57-A955-48FAC0C3F28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F913734-6434-4D51-A763-4DA8D027195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D38DE91-5536-42D9-A15B-0439BBDC4AD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1146736F-6EF6-4267-97B2-7364629BC57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40DC329-E937-4FBB-83BA-3BF00D3D72C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F25B2C0-9181-4A57-9E45-AAE6D2BE0F4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14063B9D-FB13-4945-AEEF-A200ECC7F56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FF2C5E8-930B-4A15-85AC-ECBDFB2D541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D0C08-6832-4F39-B636-82CF9F7710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498AF-2AEB-4624-940C-E436EF0480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34B54-D9FA-46C0-9664-5A56B21299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27154-B2B2-4DE2-A366-9D56B2A92A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6EFE6-CDBC-432D-8A9C-CC97D41609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BBE53-7DB6-45E8-978F-C77A11681F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9394C-E107-4AC5-8935-BD7EEC3516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104BD-99D4-4B2D-9B16-6B280E5B29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7B24B-575B-4438-BF39-66420AB535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8BE80-763A-49D8-9230-28F6834B0F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EC192-46A1-4035-9A12-773AAC09A5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0850D-818C-4AB1-BAA4-23717D2EB4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FDD5-A551-40E7-B38D-AEA7A822DAFE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86B8-A74C-46D5-83D4-07E3D845E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5E4B-0AAB-4061-86DB-CF85EF2AC627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1-05-10T20:36:00Z</cp:lastPrinted>
  <dcterms:modified xsi:type="dcterms:W3CDTF">2011-11-13T19:07:14Z</dcterms:modified>
  <cp:revision>863</cp:revision>
  <dc:subject/>
  <dc:title>CSE 142 Python Slides</dc:title>
</cp:coreProperties>
</file>