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501194-05CB-476A-A379-6B72C8064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6CACB4-64F8-4EF1-BE8F-0CD43473E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cont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0A2DD6-AF14-43ED-B157-F9E56C4CD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FED989-F794-4F9C-88C0-BAE2209DA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1C2547-EDA6-4435-8966-166B935F8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01F598-FC7E-428E-ADF2-5D01860E3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3E363D-8F0A-4D45-9C51-7F39E622F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019BB4-4F87-45B9-8F20-90231AFFF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2FCFB5-F999-459B-AE48-E906E295A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2EE2F7-8E7E-4DD8-A472-7B4890B97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C0E4A3-C050-4176-90DA-EAE975252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DB06EB-82CC-41C3-A101-9FC96A40A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228FB5-8F74-4D11-A5F6-97EB197DA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F0CD-4571-4D13-A97E-BBB30CEC5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2BB8-0098-4A0C-B05F-12464AAAF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8642-F5C3-48DA-BD0D-A5D97A1A3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7DA7-A21E-4D4C-8FB5-62DBFA694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2068-7C1C-4CE1-99ED-2B4C4522F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1546-953C-48EA-BE97-106267D65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7F76-134B-4BD0-BA29-0EE35C438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671A-7BEC-491F-BF22-33A2B5F8E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F128-0984-4262-8004-4576C5BEB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71DC-D674-4BA4-9D66-F25ABC57F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6AB2-869F-4A67-AFF9-C2D44709F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BE8C-8E67-4511-B3CC-E94F6F279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1C68-0BB1-42CB-9D2F-3B300DCCF57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354-AE1B-4814-BE21-D1306133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70F9-37F2-496B-8402-C214F16CD6A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1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1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1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egate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other than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can sometimes be tricky to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Try escaping it (use \) or place it last in the bracke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contact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1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1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contact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“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ords are made up of letters, digits and _ (underscor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Ruth Anderson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6-05-10T18:09:18Z</dcterms:modified>
  <cp:revision>883</cp:revision>
  <dc:subject/>
  <dc:title>CSE 391 Lecture 7</dc:title>
</cp:coreProperties>
</file>