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53BA6DA-EE91-4D7D-850A-17FD0C10CF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2006EAD-F3CF-486F-8D55-D330DE9BD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515957A-F4AD-449C-8128-88FD53C780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C8F6341-38A6-4FE0-A35F-EBA2C8BA63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43A85D9-7081-48F7-BDC9-4ABDEEDCA5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6C881A7-9A90-4576-A336-E6C00B5230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900EB1D-FD2F-4019-8AE0-A3AD483B8A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DCF3C93-0BAF-40C5-9E03-CCC7083F6D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FE27310-02E6-4072-87CB-9E474C6601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FED76FF-5034-4887-BB92-7108264F47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AB8A49D-C92D-4CCA-8552-C33368C80B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E512B1A-B4C1-4D61-B097-8E66CB5EB2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3F6AB92-CA2F-4738-9F6D-C1A319BC9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071B0-CD96-438C-8AEB-2CE3978B1B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26732-F730-4FD5-BC91-1FC780240A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DD526-4D9D-41C8-8A72-70E302A6A7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3A92A-2615-417F-A9E6-25C98FDF76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B81F5-C81A-488C-9217-8AB9131D49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07FDC-506D-44AE-99E2-D7ED5C34DF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D78C8-0914-4DE4-BA97-CDFD449FD0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EDE77-B95D-4C86-B737-D604489C5C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9C54B-EA55-4EF6-820E-A71FE7D941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7A0D2-31E0-4532-9C6D-BCF03A8630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3D3BF-EB28-4D3C-9298-63F8035583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2E2F0-BFF2-4435-B107-21516A8C6E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C920-52CB-4D58-9A1B-EF0C9107EBA3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210D-4423-4EFB-915B-6E230D236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6796-5E95-4F34-98A1-E0A4C7FDE555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rea-cse</cp:lastModifiedBy>
  <cp:lastPrinted>2012-05-08T18:43:58Z</cp:lastPrinted>
  <dcterms:modified xsi:type="dcterms:W3CDTF">2013-02-19T22:05:44Z</dcterms:modified>
  <cp:revision>869</cp:revision>
  <dc:subject/>
  <dc:title>CSE 142 Python Slides</dc:title>
</cp:coreProperties>
</file>