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46ED7DE-19FF-4BD5-823F-707A016D7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BD1842-11A9-4835-A143-5F1CB6D9B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4F6F34-7019-4467-8F1A-4502F911D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5F360F-0EFE-4234-8532-21B364A47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6CB0AF-9669-47CC-B2F5-5E062159B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C5ADBD-A098-4215-9458-3E3F762FE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6A251A-87BD-4545-BE42-731396CCD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EC7064-A990-4280-91C1-A73C5A1EE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143D52-8CE2-46CB-A029-B1EE748FD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B456A8-2957-4611-8D49-CB9760145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7D44BC-44FB-4AAB-A3BC-C5B90BA22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D05821-FB82-4705-89FF-43D2E73C9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D267DE-3D2C-42CC-B9CC-069DBC29F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F8048-0F9B-47A3-982F-928ACEE8E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0658-C4D8-4692-BFA2-B52C14930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E254-5084-47F0-A304-0AE99B60A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F019-82EA-4FCE-BDD7-3E45CE47C0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C1F5-D283-45DA-8F2E-DA5388518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EB44-29C1-46C6-8943-1F95DF621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F17E-F279-4124-88A3-2F77D04E9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6E17-082C-4CBD-92F1-D0A43A3A3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5C58-CD1E-41F9-9334-84BFA5E70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AB76-4016-44AF-B77A-DBADCA4E8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6D1D-194E-4831-A3AC-BD8E2C3AF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8868-841F-41E2-AD50-9191DEDDA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1F9-C5D8-4147-BF49-EDDE7A96255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7DCE-BBFD-403E-95A8-237847DBF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FE14-E254-4711-8306-D25B101822A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6-05-10T18:09:18Z</dcterms:modified>
  <cp:revision>883</cp:revision>
  <dc:subject/>
  <dc:title>CSE 391 Lecture 7</dc:title>
</cp:coreProperties>
</file>