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2C42C6-BD64-4EC1-92C2-A9130BB7EF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FE5D84D-6082-4B9D-A549-30B8E81DF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CE1163-3F01-488A-AD33-065691756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442196-8C1F-4E67-BFD3-063C54BF5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AC87163-F6A5-480E-85ED-091F4B483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B7C785C-18B2-4619-8EDE-E5FBDE172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1BC5715-764E-47A3-8673-5E4439CCC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4AC3A2D-60D9-4DD2-9D02-9C1F290BB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82C8744-1509-412D-8AC9-4059BE259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901C21-101B-4575-B040-016B7FE06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832C917-75F8-4512-89D5-5EBB21CE0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7456290-3812-4E34-AF58-C5936FFF8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CA89946-3776-44D6-B720-C3166A201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0FD0D-2306-4984-984E-E048D14D2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5135B-BCFE-4971-B857-879938110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72FE5-43B7-4C69-A629-7685FCB9E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0C4B5-C64A-49AB-A8D7-807BD07ABC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C3372-4C0B-4817-9D61-DD800F7EF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7C95A-C87E-4D9C-9FE9-0E72327D3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28C46-7F2C-4574-A4ED-E43C84522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DC37-390E-49B8-8282-760B647C4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9FF0B-3585-4F6D-8364-2ACC59C7E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8ECFD-A5B8-432C-8BCB-7ED38A99A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56C37-4AE2-40BA-A15E-244F8EAC2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CF418-072E-4E66-A880-877A254FD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E948-1195-42B0-B053-756365993B61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F531-BEFE-41B5-A561-4DF9A91A7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E1C4-30B2-4A84-B18B-70887719FA2F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2-05-08T18:43:58Z</cp:lastPrinted>
  <dcterms:modified xsi:type="dcterms:W3CDTF">2013-11-12T05:56:13Z</dcterms:modified>
  <cp:revision>872</cp:revision>
  <dc:subject/>
  <dc:title>CSE 142 Python Slides</dc:title>
</cp:coreProperties>
</file>