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90ED9C-6F05-4858-96EC-1762B67CC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42BE70-58E2-4603-9869-129F93FEF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D6F135-85F0-4582-B3C8-1B4DF990E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DF961C-55E6-4224-B3E7-A2ADE1160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932668-7047-42EF-B412-498B587A1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66F0D7-930D-4810-9039-FC26271BA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6FD50A-0AAE-4242-88D1-6FBD117F9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0568A4-D930-4A34-9C4F-25D125009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1E5664-3D31-4B72-9A4A-0AEB55D16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BAA0E7-502D-407D-8408-9799D49F3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E3A1DAC-B775-4575-848A-CC15BF09D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73A15C-9D31-4A91-A3CA-DFC72948D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130F47-57EB-4203-8DAA-05A6EA5FF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F2D81-5E2E-458D-A899-FFF22AE3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604A-99AB-4150-A349-9EF65CF3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3956-67BA-41A3-8304-F68FCF82F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767B-B46F-4BFD-9121-90FE95700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9928-A50A-4E9A-B6BB-2E6B5D32B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43B5D-213B-4B7E-B7C9-59B7F61B3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C95C-8DCE-455B-BA3B-F58A88B6B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2AC1-A07E-47C0-A1B9-0281A8C2F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8D02-42C7-4ED4-BC47-4EA988137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E68A-7FF5-4EA6-97B1-FE0388C9A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96ED-DFE1-4FA2-8B9A-B48A8118C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0FC0-CE47-4601-94B1-64C69FB60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7B2-0F06-4C0A-B47E-5620C86BB2C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D616-7677-4347-A8D8-73BED1D5D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089-E45D-4B8C-B182-1EF25C4FDD9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6-05-10T18:09:18Z</dcterms:modified>
  <cp:revision>883</cp:revision>
  <dc:subject/>
  <dc:title>CSE 391 Lecture 7</dc:title>
</cp:coreProperties>
</file>