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4EEDCE-90E5-4BD0-8F0C-94B83E71E0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B49C20-5C40-4F9A-993C-3DE1E7E4C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6A4E99-A25C-48EE-BEBE-EE07D790B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285D41D-9A54-428E-8D92-96BCC2828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F5D833-486E-46F1-AF54-7A47AA4F9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2B690F-639A-415B-853B-B5E559E60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049FA7C-3BD0-48D1-A3A9-4BA3CDD0F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60BA26-9F60-460C-88F7-B629C3DEC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D016B9-C6F2-4B7D-9699-A62BCD5AA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58D83D-353B-4ECF-9F9A-0F11590AC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B8625E-6DD7-4509-931C-EEE64320F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9AA095-B780-4BD2-AB7D-B83961A17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30A013-0451-4E2D-9037-B3FA19080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7E49-9BD9-46CB-A82C-BB5079B6B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E77B1-EFA9-4F77-8111-F4D8B72D2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79902-A731-448E-A30C-99A268670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CCA98-2088-4AD1-B6D0-E119D550A2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A5E6-E88D-4584-B9AC-7D38C9AC4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4890-68DF-4B33-85CD-CBB6781D9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6A5B-C221-436A-BB73-CB989AFD5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047F-51EA-4D2E-B265-A59C662A6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EBBC7-A783-47A0-85BD-FB3EBFA0B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C695-BC95-4612-BF65-F7FA7FCEF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5201A-AE32-4EFE-9D69-94BFC9FCA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40D8B-4C18-44F2-A6DF-9A064E21C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1922-B68B-4236-B095-5FA528AA616E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3EA6-C8FD-48BE-8171-129B5AD27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D843-0EE1-4737-8853-8E4EE0ACF903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2-05-08T18:43:58Z</cp:lastPrinted>
  <dcterms:modified xsi:type="dcterms:W3CDTF">2013-11-12T05:56:13Z</dcterms:modified>
  <cp:revision>872</cp:revision>
  <dc:subject/>
  <dc:title>CSE 142 Python Slides</dc:title>
</cp:coreProperties>
</file>