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DF599A9-F5B8-4CF3-8550-3F7C59FF49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5005C7E-F3FD-446F-AED9-B1964757CE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7A8FC3D-17CE-42F3-90F1-37C76FA1A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0F32FD7-D073-4D41-A332-DA8394AFCA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F2025EA-1995-47AD-B362-9E7150DE6C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0C5B56E-2C47-4555-8E27-DA8C97A2D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A60CD96-BCC1-4C8F-82BA-6FA5229A5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0680A6D-B723-4DDE-A6D5-01E48DFAD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CE12011-7156-4D53-A2C9-10498B8AB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EBC7C9A-2D82-4E80-A7E6-2851086DE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7DD00B1-E91A-41C7-B843-D7C8FFCF5E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4143C4D-6747-4A89-9F7B-488068FF0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8DF3BD6-E5EF-4554-9CB9-81D4AD9472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66C32-1B0E-4737-94C2-37A87E26CA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4C39E-7660-445A-B1FD-B9A85F2B64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FB492-E5E2-4608-AA7A-0AEC2ECEEA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3A683-745A-4D21-9488-475D4D2351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5AC73-EF0B-4B9B-AFCE-1E1E837875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477DA-FA3C-41F9-BEE3-E04C9F85E7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83614-07A9-4D0F-9A6C-D419502DD7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857ED-B661-483A-A467-D924BED3D6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38428-35E8-47FF-A57F-F6BA8CC380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44A24-D928-4758-B2AB-773751FA11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9AA8F-FFD7-4739-91DB-F7E16658A3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79DA7-9B74-4DD8-8A9C-F074DA09A1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5B3E-CD90-44C5-8732-D7F71310C0EF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EF88-8A25-4F74-8B39-E74A659C6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6622-D444-46E0-A429-E95F90A5099A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rea-cse</cp:lastModifiedBy>
  <cp:lastPrinted>2012-05-08T18:43:58Z</cp:lastPrinted>
  <dcterms:modified xsi:type="dcterms:W3CDTF">2013-02-19T22:05:44Z</dcterms:modified>
  <cp:revision>869</cp:revision>
  <dc:subject/>
  <dc:title>CSE 142 Python Slides</dc:title>
</cp:coreProperties>
</file>