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1200BB-0FDE-4CBA-80B0-6642C5113E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54F166-F1D3-438D-A945-838D767C2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FD67E4-7958-486D-9687-763C4EC08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CFF8D9F-8AF8-4252-A6B3-E77A9EB9E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3DC7F4-6021-49A8-A2D8-B4C02FD48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5CEFAF-3B27-4856-AB1A-405A1EB4A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3069332-BBEE-4CDA-B004-96DEF8165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BB4765-0895-4599-8184-BEC23F19E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AD43A62-9B71-46D8-9E06-9F1E6CE9E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857A30-6790-4AE3-9723-6F48781DA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21829E-D918-4979-8D36-9EF4BCC73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8000B49-2A57-49AE-962B-AE352E214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EC1A4A9-7C5B-4AE6-B68A-C1A88C5F9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04618-8598-4880-9FC7-58567F638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1E580-7CED-4F62-BB29-590AAEB4B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CB086-973C-493F-B65E-900250980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C77A2-639C-44A1-9392-B4BA80F40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D082-EB1A-40B1-A2E0-A86AA1B3C8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5E80E-7C26-4D09-BDC1-E81EB4EC8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716F6-E1D8-4300-AD2A-804216349A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755D-F1CC-40D7-8CF7-621EC7428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F69A5-D1F8-48A4-8132-D0CE007A3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2B371-D81C-49B0-AE57-9B2183B124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8DAA-3285-4E71-B506-2662317C8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C23C5-F42B-4377-A9A5-89DDAA18AA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2A07-8748-439D-8EBF-90B4CDACF4F0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4567-D952-4E77-A620-269421AE9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72AD-DAE4-42E1-B482-E7C71FBDF6F3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2-05-08T18:43:58Z</cp:lastPrinted>
  <dcterms:modified xsi:type="dcterms:W3CDTF">2013-11-12T05:56:13Z</dcterms:modified>
  <cp:revision>872</cp:revision>
  <dc:subject/>
  <dc:title>CSE 142 Python Slides</dc:title>
</cp:coreProperties>
</file>