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B072AC1-9302-46C6-A575-5F6AE14F73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E76EB35-5DF2-4345-9AB1-66D02134F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contac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2813921-AAE8-4D0C-9C0A-4522CE9C8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B6AF99-478C-4496-888E-DF8C2DA96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FABAAFB-3E10-482E-872D-7EA41B872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B63261-07B0-4ABA-AAA8-3C0AD4B8D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9E3ABF8-FBD1-46B2-807C-16FA5549C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DE1783-6C4B-4B25-8835-05687D314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27E9486-B4D2-45D6-B695-68EC71E3A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AD05DD-C6BE-4D4F-B032-2DFD8AF9E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F5EE521-366F-42C8-BC1D-C672FED19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0DF2DBD-997E-43CD-8439-E02B27492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0A6FEE-6BD1-4345-A07F-B9B69F617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EB93C-D66B-458E-BDF5-6DFBD5CB6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04B72-CC9B-488C-8AA9-FF1E9052E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EDC4-997F-4850-B0F9-E69602DFA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679FD-622B-49C9-85E9-82D0180D3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2C253-F2DF-458E-AAC5-326973DAA7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2D4EC-028B-433A-8F5E-8977EBB711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B3AA4-2382-4C81-8745-0C3D7F64B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A2945-F50D-4DF0-A6FC-E25CBCD85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C76AB-875B-41A5-8D9B-63A821F5C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CD107-A200-4011-9988-DB93E075D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1EBB3-3F32-474F-9D04-24842025A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52D7-CF29-4E9E-A81E-299EA8CCD6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8FF8-2B03-465B-A012-9950A4CF17A7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09D3-1FC7-48F5-A0B8-1972A6E34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4AC0-7112-4BDF-8AE1-EC4C2BFB626A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1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1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1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negates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</a:t>
            </a:r>
            <a:r>
              <a:rPr b="1" lang="en-US" sz="2200" spc="-1" strike="noStrike" u="sng">
                <a:solidFill>
                  <a:srgbClr val="404040"/>
                </a:solidFill>
                <a:uFillTx/>
                <a:latin typeface="Calibri"/>
              </a:rPr>
              <a:t>other than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can sometimes be tricky to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Try escaping it (use \) or place it last in the bracket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contact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1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1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o make more readable (e.g. #) 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#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/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#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/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#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448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19720" indent="-26784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-26784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19720" indent="-26784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41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19720" indent="-26784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0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A-Za-z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0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A-Za-z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1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41720" indent="-22248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contact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“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ords are made up of letters, digits and _ (underscore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Ruth Anderson</dc:creator>
  <dc:description>Slides used in the University of Washington's CSE 142 Python sessions.</dc:description>
  <cp:keywords>Python</cp:keywords>
  <dc:language>en-US</dc:language>
  <cp:lastModifiedBy>CSE</cp:lastModifiedBy>
  <cp:lastPrinted>2012-05-08T18:43:58Z</cp:lastPrinted>
  <dcterms:modified xsi:type="dcterms:W3CDTF">2016-05-10T18:09:18Z</dcterms:modified>
  <cp:revision>883</cp:revision>
  <dc:subject/>
  <dc:title>CSE 391 Lecture 7</dc:title>
</cp:coreProperties>
</file>