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871E008-FD54-4355-B844-41298362B0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B4189FC-66DF-448F-BE92-F73DC2C22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9CF765A-47D5-4967-BBF7-093A57EE4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C6F226E-4AF8-4AC3-BE50-5D397A665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3285603-696C-4D74-A7DB-BEEB4F950A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30A22E8-4354-4C96-B87B-15D16EDB5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44F1499-3C27-49F2-A74B-4E6CD5A65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B9F4C3B-924C-44F4-9B78-FAC41ED65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933B674-1895-458B-B9C9-F2BE2D149E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D1B81AC-3E01-4473-922B-FB83B4C1D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BE7772A-8AC9-4D75-B8FE-98DFE9C3F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F1B2E45-F2E8-4FBD-8477-F4FAA3D9D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A87646C-9F6F-4451-B06D-313E5414DD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C4F97-6CD3-4CC8-81BA-59C49E980C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38F20-5A57-4446-9AD2-2B6A47C419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74101-DEBA-4FCB-8CB5-C878DE671C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1E223-ED34-4E8F-AD00-72148E3783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AA77D-D716-4E27-A326-E3285B4DCA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C5A2F-1556-4AA4-881D-EFE415FB38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DC2C3-4FF8-40AA-8128-619E4B3A83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6B3EC-38A9-4946-9BA1-C73BB2B392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2028A-8F5B-443C-B13D-BA0B9610DA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B6B1C-EFA7-4A29-91FF-20910A62CF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C5807-3C58-47FF-B946-94E21DB778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4D664-1BE5-4B02-BB72-9F949E41FE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7554-5653-42A9-BC24-858D117684AB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30AD-89EE-4504-BD30-F30D85AFF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D61C-1437-451A-9ED8-7C51B03E6296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rea-cse</cp:lastModifiedBy>
  <cp:lastPrinted>2012-05-08T18:43:58Z</cp:lastPrinted>
  <dcterms:modified xsi:type="dcterms:W3CDTF">2013-02-19T22:05:44Z</dcterms:modified>
  <cp:revision>869</cp:revision>
  <dc:subject/>
  <dc:title>CSE 142 Python Slides</dc:title>
</cp:coreProperties>
</file>