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D9D5D87-17EE-4558-90D8-9300D9F380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CB3D65B-4B1E-457E-AB82-14E91C9E8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29AA76-7267-4422-8122-16F49C0DA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9246C0-26AC-4880-9E0A-A2CB28468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5247342-3811-4234-A4D2-EF73D56A9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811B29-D43C-4EEE-BECC-AA6FBF0D4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FF980E6-938D-45BE-9E7C-EC08D77E3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2D8FDAE-3C55-4A61-9DA0-1BD5E1325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745CCB4-C91C-43CE-802F-1667FF41C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18829B-AB14-487F-B021-7CAB52FBA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027B8E-DC9C-4AB7-8AAE-1C4B9678E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681D5C-8765-4814-89F9-11B575776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BBEB0D-5D49-4306-91C6-7FA3618F1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9C76-92C4-4909-B5D3-EA4148149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6D1D-FC25-4C64-9AC9-FAD3B7999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0EFC-E98A-4904-A5FE-DDD388F3E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F304-4774-4E68-9FBC-D3C722D26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041C-DBEC-42EE-BAEA-4A7872A2E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7C8B-837B-4873-8215-84730885B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3AB3-8672-4E80-A2E2-6297BD53C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0DDB-AC00-49C3-9B8D-9CD004737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3F68-6103-4065-9AC2-124785A39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76A6-55B7-4745-8C40-643876C3C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90598-1571-45A4-90D8-46CCB182B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34559-4A96-4CF6-8A81-D1B8C943B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BE96-9D8E-4CCA-97B5-D4EB60A43D11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C437-B60E-4230-81FE-F7CEC5B78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5E54-1486-4CFD-A615-643C7216ACC8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3-11-12T05:56:13Z</dcterms:modified>
  <cp:revision>872</cp:revision>
  <dc:subject/>
  <dc:title>CSE 142 Python Slides</dc:title>
</cp:coreProperties>
</file>