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343650" cy="840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343200" cy="840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59244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071720" y="630000"/>
            <a:ext cx="4201920" cy="31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lstStyle>
            <a:lvl1pPr marL="216000"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3F9FE922-B612-48CA-8763-FA753F2B3ED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7A5F3F45-E316-4133-B91F-AF6A0243853A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1A8ED9DB-6B0A-40FA-B880-3EDE8D3DEA4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39C22DCE-FBAB-473F-A0EF-31ADDD0BFDA3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20736FCC-2446-4152-9B35-1CBE911C4334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5C46E7EF-4348-4EBA-8531-84E74549F62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270E321A-0863-4EC1-93A6-3299EAC8F074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B831A71E-9556-497C-993A-B26C486F26F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7D9D3D8F-A688-46C3-B793-0D5BF302548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725B2BD5-3E48-42D1-BEA4-A092BF1F4BD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F684639D-D437-43E5-B578-2401D860CC6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FA25BE9A-D0B0-45CD-8E39-A0C99F5EF2C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EF8D30A4-2B98-4279-9411-CA6A7CF9535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65DA3-A01D-4047-B6F4-7C16819F3B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B7727-49E2-42E6-8CD5-1831CC4197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58FF6-45CD-47BC-AF15-599B0928B6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3594F-7BB9-49DE-94D1-F958B8F896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723CB-42A2-48CD-A866-8660364BEA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A6B8C-D178-46EC-9F9B-373A185432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392A5-C757-4F30-9105-6F17EFB255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34735-D52F-4EF7-9024-A5D084C304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0D9C3-8059-427E-BC30-48E2EF8A55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E2F60-43F5-42C7-8AF2-24748B077E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7CFE0-A4C7-4D6E-B43F-40A1EA25DD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3388D-DA2A-4999-9CAE-A78799C374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7A2F0-4F2B-402E-A0E3-DBBCDB4B61A2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D8C8F-BFBC-46C8-A0B2-C0FA1E9112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66321-C402-4403-A58F-0E6C06DB52BF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makes regexes work bett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1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6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analyser.oli.tudelft.nl/regex/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Why not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cse</cp:lastModifiedBy>
  <cp:lastPrinted>2011-05-10T20:36:00Z</cp:lastPrinted>
  <dcterms:modified xsi:type="dcterms:W3CDTF">2011-11-13T19:07:14Z</dcterms:modified>
  <cp:revision>863</cp:revision>
  <dc:subject/>
  <dc:title>CSE 142 Python Slides</dc:title>
</cp:coreProperties>
</file>