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58D29B-5F95-4F09-BD01-F034326B1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60C0AE-61F6-4F2E-92ED-3F3C4BF4E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4452AB-0FA7-418B-8B96-79A06C4EA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9AB6E5-688B-4646-8470-17EAF810D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10203D-1CD1-43E2-B477-978AC58F5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C228FF-906B-439D-878D-265E59983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502440-AFC6-41B8-B8F8-BFACA7217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E4C1C8-56E1-433C-B4E5-2C060C944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F1100D-B1A4-4BE2-AEE9-2593A38FB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6B4545-21A8-4800-8E56-B467C2E0B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E6E4F1-D5D2-47D0-B70F-FA0CC5FD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68EFE0-FE56-4E91-954D-49BE5D24E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F31750-539B-4045-A096-D5580BBF6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3A79-0B87-4F86-A3EA-0C2A02985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7D2A-01C8-4378-BF78-1BE45E48C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9463-430F-424E-B296-F8114BE15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4719-398F-44F9-8F4A-BD29242CC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FE5C-0787-4730-BEAD-9CEC9C024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9853-A403-407B-9813-58193890D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CE43-B7EE-4789-A7BF-B6768AF3A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6F45-0F38-42A1-8171-2FE39DCAE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34E2-1950-423F-ABA1-A3E29862D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23A1-ED21-4885-9082-0741C970E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01C0-D9EB-415E-B85D-AA909AF7F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4CA8-30E9-4F96-AA05-D5D5D3290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C219-63B7-4887-B66A-5F80794B640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981-9288-48DD-A013-5204C5B20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C951-639C-431E-B1D7-7F1965F1F49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</cp:lastModifiedBy>
  <cp:lastPrinted>2012-05-08T18:43:58Z</cp:lastPrinted>
  <dcterms:modified xsi:type="dcterms:W3CDTF">2014-05-13T19:25:48Z</dcterms:modified>
  <cp:revision>874</cp:revision>
  <dc:subject/>
  <dc:title>CSE 142 Python Slides</dc:title>
</cp:coreProperties>
</file>