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4D17904-BD64-4335-8790-56D99EB19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D2A114-5EAA-4D3B-8FC9-E6C196049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31B795-6306-48FF-BA78-55B82E4B4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BD84BF-60AB-4837-A85B-3E339E902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FA3D1C-8C57-4CCE-AA6A-5E1FCE7B7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65B88F-D0E0-4648-B430-2454CEDB0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7DD8B0-8A83-4EE4-8B93-E1ADFE08F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AC219E-1C70-4DE1-9283-81F9E2091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F401E9-7554-49AB-9678-878D9EF1D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252142E-5CE8-4537-9B60-27606F3F6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738F448-E4B2-42C4-A906-6C8A08B10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75DC1C-6821-4ABF-8027-07C7E693A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D9DA94-2F0F-44B7-BDA8-B449201F9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369A-FF24-47C1-96AF-132654841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F1C2-41FE-4D85-80D6-44B1D6AB3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FE87-6902-4827-AA98-55207DC64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0F6E-372B-4976-B8DD-48870DA60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4B74-2C8D-4DD8-BE52-E230B4956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5236-1183-42BD-A143-B854C35BA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D2DB-6B27-4F45-BDAA-29D0507DE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11CE-FD57-4B1A-9185-B48338A1A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ABB9-65CE-481D-973E-DD6AC9D26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8CD1-7153-49D4-835C-9084EC581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5016-9B82-4DDC-97BA-720F380EB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C66A-1107-4334-8610-78D822AB9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FE23-1DC4-46A7-9E86-FF125F76B2A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7599-669B-4B1F-8291-87424E36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5FE3-3680-4F1A-9A7F-37EDE4BFEC2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option makes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regexes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work bet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0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s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for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substitut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2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2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ed exercis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952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movies.txt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place “The” with “The Super Awesome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it only when The occurs at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Need the next slide for this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ove the year from the end of the line to the beginning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 this and also sort the movies by yea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Now do the two items above and then put the year back at the end of the line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8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rymoire.com/Unix/Sed.html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gnu.org/software/sed/manual/sed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3-02-19T22:05:44Z</dcterms:modified>
  <cp:revision>869</cp:revision>
  <dc:subject/>
  <dc:title>CSE 142 Python Slides</dc:title>
</cp:coreProperties>
</file>