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89325E-45C9-499B-8BA5-9ECD3D623A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E573422-ED73-43FC-821B-349140F35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1D7F4E-8ACC-4EFF-88A5-116B6D7C9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1867DBD-C1EC-4938-AAB1-4D4FDD1FD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322131C-3843-4F7D-AE5B-215D76765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CE3588-B635-4ADE-8CE2-D03AD1729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F8B0D1-A210-46C0-B48F-A258A4949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98E43B-69E5-444C-8574-029BA08E8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8DDE820-5E90-4557-8D76-803B97FCC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788563-CE0E-4823-AE52-34B507BCE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BCF699C-DAD5-4833-86DB-CEC0BD8F9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5179847-B03C-4A26-8454-DA3121796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3FE18D-0D42-491D-BE2A-519D3D772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00F7F-B2A4-47EA-B861-9CB62296C0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7949B-CB9F-4DDA-AE91-8DB41546F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0D03-EC56-44B5-BDCB-E62F404BA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38D1A-55B7-412A-833B-A50CAB2E7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0413-B4F4-4B22-B151-2A054233D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507C-7545-4D2A-8EBB-54E583F324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8724A-5F14-43ED-968D-331E589BD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18A2E-DB12-4C62-9EA9-0A7CB136A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3C5A-513D-41E3-B4C4-9381212F2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87B45-A17A-45B9-B2E5-0460668B4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39262-795D-49C0-A9E6-522C8F71D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7CFAE-6641-4CDF-8F6E-87EDBC624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1BE8-C15D-42C2-91FB-A557149FD2D7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5712-0952-479D-B67F-94B6A2525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3455-B67D-4B80-B640-337187C3DE31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2-05-08T18:43:58Z</cp:lastPrinted>
  <dcterms:modified xsi:type="dcterms:W3CDTF">2013-11-12T05:56:13Z</dcterms:modified>
  <cp:revision>872</cp:revision>
  <dc:subject/>
  <dc:title>CSE 142 Python Slides</dc:title>
</cp:coreProperties>
</file>