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AECEA9-2436-43B6-A813-3460414917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1248EE-E17F-4296-BBA6-001D68420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97395ED-1DBD-4855-9CC8-7C37753B0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1FB29ED-9B22-4505-ACBA-D1F8EB2CB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9743BF-D5BD-4DF9-97CF-B84386323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764C2DC-3A88-4CD5-B4FD-D02C39AD1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84203E-B62D-4C7D-A622-54A72E71A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952181C-C79F-41DD-BEBF-3E2EE5F19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6A10EB-A4EC-4DBB-B3B0-D4456D462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8741FF-3C2C-4865-A2EF-9AC741C0B6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A37F281-98D5-4E05-928B-574924B5E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B30CC55-F5A1-4941-AC1E-95CDCDF3F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389CE5-F0DC-44FB-82B6-01CCC5739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F174-EF75-4592-81D9-FDB9D19C0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671BC-1DBA-4313-A258-4233D3772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3FE8-9200-4CBA-BB6D-A9CECF815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B745-9EC8-4425-AA1C-072DD820D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973C-8800-4AEA-AC6E-0A2F03FF84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2C47-BEFC-45BF-AD4B-2E0364E1D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A7C1E-97A0-420A-9C92-D88DD7A5A8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5290F-32A8-451F-B3A3-DA4B7B6E2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84FA-C670-4F36-BDF2-F2473071C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72A6-86ED-4CDD-A442-9484394EA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D972F-2F06-47CA-90C8-40B2B1106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4279-DBBC-4A73-A5C0-353BC4688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E642-7E56-4023-B34D-2027DD59A365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8B0E-759F-4E66-BE74-4567193BF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41A9-57A2-4499-86D9-9F99CD6D540F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2-11-06T01:04:45Z</dcterms:modified>
  <cp:revision>865</cp:revision>
  <dc:subject/>
  <dc:title>CSE 142 Python Slides</dc:title>
</cp:coreProperties>
</file>