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7186DA-6DB6-466E-AE9C-DEE02CE5B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48FD0E-BA5D-4ABA-80F0-A2DA7E47C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907C56-DD41-4114-A539-14CBED19B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315E16-1FF0-4017-9BA2-72614A54A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DF473B-DC8E-4AF5-99F1-E27E93921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58F344-3F24-4B10-AECB-364996FAE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0116CC-B451-4976-A8C3-0CDB6F173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DDCA94-E9D9-41DE-80A0-4A95149F5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EC5E22-99EC-4627-B1B9-A5317A39E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E47A31-84D1-4FA1-8701-E2B14C6A4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BC9938-5793-4475-B229-DA376EC4C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913811-2D41-4143-A221-2DD1BB8A5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C27087-A07A-465F-9D50-2D4FEEC70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44FC-627B-40C8-A172-596BEF343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D8B2-71CE-4DBF-9622-0E80B050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65B0-80CE-4C3A-89F9-5FC1CD621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0F7F-BF9B-4874-B228-163B71A35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5347-4885-4C2E-8CF8-474ABFDB5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F9DE-F8E4-4242-9C59-B6DDB73F8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1FFE-2025-453E-A817-454A08456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649E-DB8F-4BD4-B313-B2639644F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0FD6-7DC9-49EB-A240-482CF74B9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5379-A722-401E-9656-DABEBC47D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0F67-36DA-4879-B540-CCE765524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9643-39B3-4A76-BEDC-266F58C4A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CAE1-32A2-40DA-968C-C7C04D1A3AB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40A2-89A0-4F18-85CF-938490558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FC75-984C-44A7-BFE5-0B5C9060272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</cp:lastModifiedBy>
  <cp:lastPrinted>2012-05-08T18:43:58Z</cp:lastPrinted>
  <dcterms:modified xsi:type="dcterms:W3CDTF">2014-05-13T19:25:48Z</dcterms:modified>
  <cp:revision>874</cp:revision>
  <dc:subject/>
  <dc:title>CSE 142 Python Slides</dc:title>
</cp:coreProperties>
</file>