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383B9F-8EB2-4931-91D7-563D554E2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1A6C21-3CC4-4537-A6A9-6DD124026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472758-0DE8-4748-88D4-7E22427AF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8647D7-D9E7-4B6C-8AB2-DC76AD3FC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9D61CF-E856-4049-A74E-7C953EF42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452772-9B67-4128-8A42-056274D4D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0709CC-B93D-4190-B429-140AF9A5D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30E00E-8209-4141-A77B-E2B708642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3C98A2-CCA8-4A2C-9990-06E2F08E1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E9B239-B7A6-4DDF-886A-1314EF4EC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AF8E7E-D7B5-40AE-845C-BA95B569E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8A3C98-1C37-45F4-B828-7ACC1EE17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D9BF6E-CA21-448A-8E2D-BA5ABF54C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5076-1D69-4DF5-B099-3148A99C2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5A5F-12AE-4FB9-8669-CD8974834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4A52-D89D-4CF1-B203-7C6EF4137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5E0E-8EE4-4120-A023-7E746637A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4DAE-5533-400F-9BC3-3DD1A98F5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4470-25DB-45A4-83B1-67F5CB885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CBE7-CF66-4975-8CA7-EC25B3BAC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392A-3168-4941-AB2B-7022C2F98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0032-3BA0-4875-8CDB-E1EEB0204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7646-EE5F-4293-95CE-AAE49771E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3276-87C2-4352-937B-32D2A5977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E9BA-C62F-43E1-AC81-FEE08F82D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7BEC-3466-4BC1-8D91-A46B4765BD1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7CEA-B01F-4F19-8483-D8251E875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43A9-D0D5-4EDD-8B3B-25D56D29652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</cp:lastModifiedBy>
  <cp:lastPrinted>2012-05-08T18:43:58Z</cp:lastPrinted>
  <dcterms:modified xsi:type="dcterms:W3CDTF">2014-05-13T19:25:48Z</dcterms:modified>
  <cp:revision>874</cp:revision>
  <dc:subject/>
  <dc:title>CSE 142 Python Slides</dc:title>
</cp:coreProperties>
</file>