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0D0649-8188-4E71-8F13-37D6CB3B89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6EFFD7-AABC-401F-98F4-85165CB47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0C40D46-5EF1-408C-B021-AC0A7BA84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C24B23-ADDE-4930-8D40-FF1A1DAAB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DE894B-F6DF-4B12-A5AA-4A0D8D4C7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CFB33FF-17C7-495D-B06E-DC04EDDFC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1F1553B-68DF-4E82-B311-A00F4AA55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3E388D0-EC78-4226-B7E4-E49EE803E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A5385E9-BB05-439E-96FD-CC14B966C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700D949-AB87-4753-BCFA-472885655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CE3729-46F8-4CB2-8716-7081948F68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0048990-815F-4965-8BD5-A501D2005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9A285B-A5BD-4522-AEBA-FD40B02E4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80E77-1C62-4EEC-856B-54A2B1609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FBDD1-0DCE-4E2B-8824-419EA5E05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C15D-5959-45B5-A949-EC27AD369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20B07-27C0-44C7-A2B7-837428D4C4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6FB48-B2D5-466E-A477-4B3964C10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F6B88-D897-477E-9281-8A7C836645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F26C6-4912-4526-A74C-17164514D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7585-5E72-426F-87D3-018F97F5E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115BA-4E6C-4430-AAD9-0D5D88260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C4AD6-F8B6-420B-9955-9D5AF0DD2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E4007-760D-449C-A3F1-8AA409D05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E6033-C142-4C9A-B50B-FD1D9DDD7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D093-6EFF-4D7B-863F-7D3413F7E710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1B06-F453-4550-B31B-FD786531F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8BC2-327C-4E6D-8BCF-F38D0DF96BB2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2-05-08T18:43:58Z</cp:lastPrinted>
  <dcterms:modified xsi:type="dcterms:W3CDTF">2013-11-12T05:56:13Z</dcterms:modified>
  <cp:revision>872</cp:revision>
  <dc:subject/>
  <dc:title>CSE 142 Python Slides</dc:title>
</cp:coreProperties>
</file>