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DE7A1C5-F8B0-483F-AC4E-688AF2A4880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F4265F7-4834-44D6-9B32-08FCD42392B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8293B3B-AE1A-463B-B897-49B8C418A70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5E784CC-53D3-4AE2-BA39-11B073A7838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D903799-F5F2-4186-AA05-5BC9C1C20EE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E69B213-3437-4A89-A822-A8BD8FA62ED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43F6111-69B4-46CE-809E-14379648E33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57C0C28-4CF6-40F8-A9E2-B8292F5E46D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D84AF2E-BE1C-4378-A2A5-E6D4C13F3C0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B833D51-7E38-4DE5-89A4-0FB9BE30D92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03BC5B2-FECA-40B0-A855-6A551FAD1C9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A5FA70E-EB80-4174-BD29-B9A68BA7C83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7272108-F2D6-4EDA-BF46-85E2C57DFEE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73ABF-A775-4477-A00D-31792EC74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72B4-2750-4ECB-8FA6-F98D5EC05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EBA1-6E72-423B-B4F1-9148988FF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CFF10-528B-4117-BBB3-000F71E92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4FC0B-412F-4C2E-ADB8-FF460846E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99E5-283C-4652-8F41-E14B9FB7E3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BE9C-33DD-4A30-9520-3FD743350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7381-D9CE-450A-BC27-AD3A27E1A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51E5-A368-4267-AEB3-CFA1EB648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FFEC-F54F-4C71-87B8-960F2B2F5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9FD98-EC07-4F76-9931-14A86D73A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DCC3-1548-4116-9516-1E9B11E04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EB28-FA96-4821-A53B-DA59C43E1861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4B6B-24B3-4E66-88C7-16CD639F8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06ED-56D5-4600-AAE5-45C83934761D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Jessica Miller</cp:lastModifiedBy>
  <cp:lastPrinted>2011-05-10T20:36:00Z</cp:lastPrinted>
  <dcterms:modified xsi:type="dcterms:W3CDTF">2011-05-11T01:08:12Z</dcterms:modified>
  <cp:revision>860</cp:revision>
  <dc:subject/>
  <dc:title>CSE 142 Python Slides</dc:title>
</cp:coreProperties>
</file>