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343650" cy="840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343200" cy="840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3592440" y="-3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071720" y="630000"/>
            <a:ext cx="4201920" cy="31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move the slid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lstStyle>
            <a:lvl1pPr marL="216000"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0E9F12D7-18A3-4E30-8F80-24E3B52A278C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A9B5CE86-1D87-46D2-85E7-71733EE0D9C7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BCDF][+\-]?" 143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[0-9]{3}-[0-9]{3}-[0-9]{4}" facult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8530F30F-D8A6-45FF-9B14-79C5A1E68AFD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4F38F1D4-3D6E-412A-AC16-EB4AFA3B3796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 -r "s/([0-9]{3})-([0-9]{3})-([0-9]{4})/(\1) \2.\3/g" facname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B5D6A242-8C7F-4497-8E46-B83FD53E1FF6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2BB006C7-EFF5-4FFA-B5D7-8D737D74B43A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AFDEF689-1980-4E36-8D31-DEE21B2DCEF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5113F1B0-6A32-4E78-90FE-36ED84ABBCEF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E8D87C00-24DD-44B2-86C4-88F451D9A5F8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F6B63033-8F1A-4DDB-8EEB-19AB1C0D7ABC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5180818A-BD8D-4CD6-A14B-5EDD720A6E3C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&lt;C\&gt;" idea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^ACT|^Scene" hamle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AA6DD708-ABA0-4DE8-AA6A-8CF8B43AB32C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^_*\^" cha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6B1A4B77-FC26-48AD-9B4F-B59A7EEC636C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3898F-90AE-4362-9E7E-CD6BEA7CA3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61847-B021-42D1-8110-42CDFE5B33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C2FA0-31A3-4898-9A3D-0991D71331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11CA7-760E-441C-B33B-42B16CB2A7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05B94-3634-4B19-8FD9-A2957F23F0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4F160-BDA9-4051-B33B-64DF627E00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310F9-3928-479D-93D8-BC91DCE06B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BF108-429C-41FF-B87D-4D65ED150D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E5DD3-615B-4DD8-90D5-34417EB68D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8BE62-7FD1-4A5C-9819-74D6998FA4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7D892-3045-4F8A-9CFC-55658D0FB8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8B5EE-C032-4B61-92CC-DD06CCAEA1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4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988F2-B1D6-4587-A192-9A445413B1B5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76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4B9E1-FB59-433A-B2A2-1BC21A3235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ed Rectangle 7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8FB96-D8CB-4A51-A84A-0C07C3296E8F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washington.edu/390a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SE 390a</a:t>
            </a:r>
            <a:br>
              <a:rPr sz="4400"/>
            </a:b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7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,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and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bri"/>
              </a:rPr>
              <a:t>slides created by Marty Stepp, modified by Jessica Miller and Ruth Anderson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cs.washington.edu/390a/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set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group characters into a character set;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ill match any single character from the se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bcd]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strings containing "bart", "cart", and "dart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quivalent to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b|c|d)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but shor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most modifier keys act as normal character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what[.!*?]*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atches "what", "what.", "what!", "what?**!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letter grades in 143.txt such as A, B+, or D-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rang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specify a range of characters with -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case let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A-Z0-9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- or uppercase letter or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 initia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nside a character set negates i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^abcd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character other than a, b, c, or d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ust be escaped to be matched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+\-]?[0-9]+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optional + or -, followed by </a:t>
            </a:r>
            <a:r>
              <a:rPr b="0" lang="en-US" sz="2200" spc="-1" strike="noStrike">
                <a:solidFill>
                  <a:srgbClr val="40404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ne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phone #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aculty.html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e.g. (206) 685-2181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age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REGEX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TEX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filenam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ubstitutes (replaces) occurrence(s) of regex with the given text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if </a:t>
            </a:r>
            <a:r>
              <a:rPr b="1" i="1" lang="en-US" sz="2000" spc="-1" strike="noStrike">
                <a:solidFill>
                  <a:srgbClr val="4d4d4d"/>
                </a:solidFill>
                <a:latin typeface="Calibri"/>
              </a:rPr>
              <a:t>filename</a:t>
            </a: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 is omitted, reads from standard input (console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ed has other uses, but most can be emulated with substitutions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 (replaces all occurrences of 143 with 390)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143/390/g" lecturenot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47920" y="144468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eam </a:t>
                      </a: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d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itor; performs regex-based replacements and alterations on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about </a:t>
            </a: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line-oriented;  processes input a line at a tim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makes regexes work bett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cogniz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( 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[ ]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*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+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he right way, etc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flag after las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sks for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global match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replace all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al characters must be escaped to match them literal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d can use other delimiters beside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... whatever follow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/usr | sed -r "s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usr/bin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ome/billy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ck-referenc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very span of text captured by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given an internal numb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you can 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numb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use the captured text in the replacemen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0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overall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1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first parenthetical captu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ack-references can also be used in egrep pattern match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tch “A” surrounded by the same character: “(.)A\1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: swap last names with first nam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sed -r "s/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, 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/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2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 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1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/g" nam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Reformat phone numbers with 685-2181 format to (206) 685.2181 forma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Other tool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n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upports regexes through it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ege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gum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. -regex ".*CSE 14[23].*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ny editors understand regexes in their Find/Replace featu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028880" y="3200400"/>
            <a:ext cx="7086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Exercis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rite a shell script that reads a list of file names from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les.t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finds any occurrences of MM/DD dates and converts them into MM/DD/YYYY date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would be changed to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/2011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Yay Regular Expressions!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pic>
        <p:nvPicPr>
          <p:cNvPr id="126" name="Content Placeholder 3" descr="regular_expressions.png"/>
          <p:cNvPicPr/>
          <p:nvPr/>
        </p:nvPicPr>
        <p:blipFill>
          <a:blip r:embed="rId1"/>
          <a:stretch/>
        </p:blipFill>
        <p:spPr>
          <a:xfrm>
            <a:off x="1676520" y="1295280"/>
            <a:ext cx="5271840" cy="5334120"/>
          </a:xfrm>
          <a:prstGeom prst="rect">
            <a:avLst/>
          </a:prstGeom>
          <a:ln w="0">
            <a:noFill/>
          </a:ln>
        </p:spPr>
      </p:pic>
      <p:sp>
        <p:nvSpPr>
          <p:cNvPr id="127" name="TextBox 4"/>
          <p:cNvSpPr/>
          <p:nvPr/>
        </p:nvSpPr>
        <p:spPr>
          <a:xfrm>
            <a:off x="7162920" y="5943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XK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summary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 syntax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mands that use regular express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extended grep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search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stream editor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in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analyser.oli.tudelft.nl/regex/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panix.com/~elflord/unix/grep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robelle.com/smugbook/regexpr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3320"/>
                </a:solidFill>
                <a:latin typeface="Lucida Sans"/>
              </a:rPr>
              <a:t>What is a regular expression?</a:t>
            </a:r>
            <a:endParaRPr b="1" lang="en-US" sz="40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[a-zA-Z_\-]+@(([a-zA-Z_\-])+\.)+[a-zA-Z]{2,4}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egular expressio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"regex"): a description of a pattern of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test whether a string matches the expression's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use a regex to search/replace characters in a string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gular expressions are extremely powerful but tough to read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(the above regular expression matches basic email addresses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 occur in many place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hell commands (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text editors (TextPad) allow regexes in search/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Java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cann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tring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plit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(CSE 143 grammar solver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egrep</a:t>
            </a: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 and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 "[0-9]{3}-[0-9]{3}-[0-9]{4}" faculty.htm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rep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s “basic” regular expressions instead of “extended”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extended has some minor differences and additional metacharacter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we’ll just use extended syntax.  See online if you’re interested in the details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i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before regex signifies a case-insensitive mat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 -i "m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Marty S", "smartie", "WALMART"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41912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eg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xtended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;  uses regexes in its search patterns;  equivalent to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 -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sic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simplest regexes simply match a particular substr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s is really a pattern, not a string!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above regular expression matches any line containing 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YES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def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ef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=.abc.=.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NO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edcb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 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Bash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Wildcards and ancho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.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(a dot) matches any character excep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oo.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ooc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of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LooP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literally match a dot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charac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tches the beginning of a line;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$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e en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^fi$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sist entirely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l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beginning of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wor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g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end of a wor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&lt;for\&gt;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tain the word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or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line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ideas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at refer to the C langua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ct/scene number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hamle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pecial charact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|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O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|def|g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 "abc", "def", or "g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precedence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^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Subject|Date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vs.   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^Subjec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|Dat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ere's no AND symbol. Why not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e for group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Homer|Marge)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Homer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r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ge Simpso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tarts an escape seque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characters must be escaped to match them:  / \ $ . [ ] ( ) ^ * + 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.\\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\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Quantifiers:  * + ?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*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c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", "abc", "abcc", "abcc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",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.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a", "aba", "a8qa", "a!?_a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+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1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o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le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Google", "Gooogle", "Goooogle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?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1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ti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a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Martin" or "Martina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a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iel)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Dan" or "Daniel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l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^ or ^_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type smiley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cha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quantifi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{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,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}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between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ccurr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(bc){2,4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bc", "abcbcbc", or "abcbcbcbc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r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y be omitted to specify any number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2,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2 or mo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,6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up to 6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3}"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exactly 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9:12:02Z</dcterms:created>
  <dc:creator>Marty Stepp</dc:creator>
  <dc:description>Slides used in the University of Washington's CSE 142 Python sessions.</dc:description>
  <cp:keywords>Python</cp:keywords>
  <dc:language>en-US</dc:language>
  <cp:lastModifiedBy>cse</cp:lastModifiedBy>
  <cp:lastPrinted>2011-05-10T20:36:00Z</cp:lastPrinted>
  <dcterms:modified xsi:type="dcterms:W3CDTF">2011-11-13T19:07:14Z</dcterms:modified>
  <cp:revision>863</cp:revision>
  <dc:subject/>
  <dc:title>CSE 142 Python Slides</dc:title>
</cp:coreProperties>
</file>