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8A21CB7-644B-43CC-A4B5-8EAA8F54DF9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A5D2487-3D81-411C-AA41-B4E29C2F769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E9ECA53-B4B5-4D79-87C1-43BD056907A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8A41051-2FB7-4A50-9350-3DEAC9269AF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1AE7B8D-63AC-4E48-BEDC-26F97F8B3B6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67930BE-3A12-4BF9-8B40-7D6973E8C3B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4FFB739-1CE1-496D-9CB9-850AF84A4B6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417D4AE-D04F-4187-8A44-C63FEBF2374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1D30D82-5F73-4ACD-9FA7-8043B242916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EA4C715-CB10-4187-9A70-FD629078223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E8A6F12-8686-4CA4-9267-2F7A3F72AF1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780DA2C-3361-4638-BFE8-ED052F7E90F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F0B1247-398E-4901-9BF4-FFC5F240578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1DAF-54E3-4528-AB01-802753E3A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FF52-A37C-4AC7-A282-042CF50E3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9CC8-26AF-4077-AEA7-4B1C31D76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BFD0-17F0-46B0-A5A0-D3A968FD49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494D-878A-4AF8-85B9-DFB488400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83C8-22BA-4826-B896-18432F1AA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DBCE-0972-449A-8C3E-6A3F8A464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A705-9339-4547-BC7B-2D68AFD85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CA817-EFAA-4B53-A8A3-58A8E0D1B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D98D-C51E-4115-B026-0BC71BE79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2861-18C6-46E7-950A-2B5DF886F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9B64-FEB5-48E4-B377-5DEEBDA1B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18A8-A756-41F2-B2FC-BC83C073A5DC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0D3C-F7FC-4E84-9AD7-A37107AD9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F758-7773-4AD7-BAF7-0243DEEA31E6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Jessica Miller</cp:lastModifiedBy>
  <cp:lastPrinted>2011-05-10T20:36:00Z</cp:lastPrinted>
  <dcterms:modified xsi:type="dcterms:W3CDTF">2011-05-11T01:08:12Z</dcterms:modified>
  <cp:revision>860</cp:revision>
  <dc:subject/>
  <dc:title>CSE 142 Python Slides</dc:title>
</cp:coreProperties>
</file>