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DE94A4-EAEA-4A06-99DE-0585DE5BD1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635133-8F74-4250-8C89-2C496E369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CEE7F0-F4A9-469C-A21F-684628202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F25EF2-7329-49F6-A194-476C4EFD2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02C4F1-3222-4E29-92DE-36F73DE4F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E23281-6C25-46FF-B91B-8EDEFA961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E8DA23-70BB-4B2F-8480-4DEC149C1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D429FB1-EF11-4C62-8E20-99E5FD744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D6DA61-ED11-4509-9445-7F81B19F3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F7CB2D-355D-448B-9D8A-9D27CFA02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4560AF-C69E-4A46-9F48-4CD4CA938B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09A2C6-D9F0-4B0D-8BDA-865016F7D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0DDAD7-4841-4881-A785-9A15C93E3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07F9F-141C-49E2-A5B2-07E7F24D1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D06E-F851-4CAA-B442-0D482D68E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CC48-60D6-4B32-AF83-9843B7446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4BA5-92C8-452B-9DB9-FCB9B153E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0BF7-A7EC-48BD-974A-94C0A8B94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EC94-1F5C-4474-B2AB-86B3EEB1E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FD81-0937-47C7-96B8-3608D4036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47A2-D3E0-4539-AB84-F09D58DA4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1545-434B-41DA-9FE1-9E00873CA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A544-DA04-4C41-B378-1DC348320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90D8-185F-4A37-AD1B-9A387894E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5256-A53D-49CE-9A10-647C0710E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E8EA-5A31-4FD1-B9D8-5362D5C1B8EB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6F5E-22F0-45AA-8A05-5EEA15EA6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E956-AD3B-43CA-8218-D43FCC13C151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3-11-12T05:56:13Z</dcterms:modified>
  <cp:revision>872</cp:revision>
  <dc:subject/>
  <dc:title>CSE 142 Python Slides</dc:title>
</cp:coreProperties>
</file>