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6762DA-870D-44C9-BB24-4B2721B306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22FD5FA-586C-4472-BF6B-0B3BF96B7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2DDE74-D11C-42ED-9ECC-A63CBFCFF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81D6A2-D411-49ED-8D1D-493EBBB4E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36E64D-4A1F-4D9C-B401-81C26C19F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85BA4FB-1813-40B0-9AC0-F9680C9F7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A31B59-AA1A-438D-BA33-AF3E878B2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EA9579-BEEC-45AD-A4C4-ABD9DDF82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373B9B-19D6-40BE-AF32-63CE63059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C31E6D-D304-4033-9EB6-1B4EB54CF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64CB77-73D5-4DB4-9C53-C62CC3A90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E3EE952-004B-4B90-AEAC-D3A3D6B36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3B6003-921B-405B-8A15-017566515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70121-B6E9-4241-B218-2302A47C25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D3DD-2DFB-4C74-9850-4A9358E13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589E2-AB50-4798-B05F-C489C84EF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FF7C5-B456-4FE6-A60D-62CBA5C07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7D9A-C880-47F1-A4C8-F735DABE3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2CF09-D7C0-4A0D-9114-921F9DA23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DDFEA-D0FE-4C58-8059-48B05000C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85922-44B8-4255-B848-47A7DA7B65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CE365-952B-4C78-83FB-6A2D9AB54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22A7-8D86-425B-869D-B120F3592A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DEF2B-9CCF-4089-9C4C-836902377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965CB-5A53-46C9-9D82-27E077B1B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85F6-3358-46F0-A30E-2E57B98E202F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3410-A9A8-4CB1-8F64-407020773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C467-DE29-4B15-B518-826E11248ABA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3-02-19T22:05:44Z</dcterms:modified>
  <cp:revision>869</cp:revision>
  <dc:subject/>
  <dc:title>CSE 142 Python Slides</dc:title>
</cp:coreProperties>
</file>