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9554D54-1CCF-438C-A4BD-6D8F1B1C8E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88CB64F-8697-4F64-A80C-985662C5C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12DF8B2-2B49-4F7D-BFA3-548B40EDC4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63DA484-8B84-488D-9D69-A799DBDEB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4123195-C5C4-4C53-B936-163274979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727888B-8367-4FF6-B333-3CECE503EB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F790071-31F5-4E78-9C51-F4BFC4348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E73AAD5-60D0-497C-992F-9CF4A7BA7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F74CDC4-EB63-425D-A3F3-6D2AADEF3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2BAE9CC-B876-44E0-B9DA-41EC02EED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27DF43A-A08B-41F8-AC9A-AD40B21E3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CE54C55-62B4-499B-B7EA-1D30D85386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2F9B67B-70BF-4C1F-B812-E0305DFF4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3531F-31BD-43AD-BAD7-A028D058D4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0AD71-E733-42D6-8211-A955C039D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8B76C-D64F-46AF-A5DF-A56AFD935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49304-DC0E-4915-9364-39A36256EF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F9816-E350-48B8-980E-D26AD7BF90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26367-0035-40D1-96B1-E4A8151CC9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26059-46D1-4068-BB27-A2E1F82ED1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6209E-1CDA-4C50-BEEF-9434E00A3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87852-FBAD-46C5-AD09-F61343C4C6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2BEAD-D401-4921-92CC-4B191CCDAB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B48A0-C142-4767-AD3F-3DF51DDA9D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5482C-B59B-4525-BC7D-AA4728F8D8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85CA-0FA7-45F5-8469-989787AB2372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70AF-051B-4F11-BF4C-675330BDD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8A03-D5DA-49A9-80F2-4F0997E82AB5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rea-cse</cp:lastModifiedBy>
  <cp:lastPrinted>2012-05-08T18:43:58Z</cp:lastPrinted>
  <dcterms:modified xsi:type="dcterms:W3CDTF">2013-02-19T22:05:44Z</dcterms:modified>
  <cp:revision>869</cp:revision>
  <dc:subject/>
  <dc:title>CSE 142 Python Slides</dc:title>
</cp:coreProperties>
</file>