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2"/>
          </p:nvPr>
        </p:nvSpPr>
        <p:spPr>
          <a:xfrm>
            <a:off x="402120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993600" y="767880"/>
            <a:ext cx="511344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107640" rIns="10764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lick to move the slide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3"/>
          </p:nvPr>
        </p:nvSpPr>
        <p:spPr>
          <a:xfrm>
            <a:off x="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4"/>
          </p:nvPr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marL="216000"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3D26DE04-D6B8-4C50-ACD4-C45C883D980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09AA879E-E8B6-4A0A-8FAA-FA6CD7C7AB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egrep "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ABCDF][+\-]?" 143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egrep "[0-9]{3}-[0-9]{3}-[0-9]{4}" faculty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679B36FE-778E-403E-9600-9100551422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9ADE34FD-C616-4180-AF84-15301B5583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d -r "s/([0-9]{3})-([0-9]{3})-([0-9]{4})/(\1) \2.\3/g" facnames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6B143BBC-B579-4EC7-B8F1-C9CC23D611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0117157D-BD2A-435C-83C5-9D61A9BC3D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F717F21D-5AE4-4A94-A52D-54FDD5FD43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D227FB78-D936-41E7-B724-07BC10C5CF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6C659C3C-94BE-4CC2-ACCA-95716C4AA2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8F93803E-04FF-4252-B734-76F2E802D2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1256428B-F10D-4BDB-855D-07F334C1F8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rep "\&lt;C\&gt;" ideas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rep "^ACT|^Scene" hamlet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ED3E36F1-8DB7-47EE-BBD9-A0AF2CB66D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rep "\^_*\^" chat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EC9196F8-E357-46AB-A259-37D24DD47D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4319C9-7CEE-49DE-97ED-8250EE07E63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0" y="420084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57367F-BE0A-4AA7-866D-D5713316B20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576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4AFA91-784F-41BC-8771-9A990A0BFBC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9168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8336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09168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8336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FDB2DC-356F-4ECE-831C-7DD9F8D8F11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0" y="15192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8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E598BE-94AF-4469-BDA1-7BDE7B4D567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8576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0" y="420084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8576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09168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8336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09168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18336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2761D5-5DDB-4BF2-96A4-F25DC93FD3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90AA86-FA9E-43D2-9836-70156A4C94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C9F63C-B296-48BB-AAC4-5537CBC238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0" y="15192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8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89579A-411F-4E39-9C60-6C2CE8D598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9ED251-D398-4151-96A3-FAFD5960EC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576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1042C1-3913-4864-9C52-3208829E269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6D625B-0B0B-49AF-8AB2-C0BCB4359F7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6646"/>
            </a:gs>
            <a:gs pos="100000">
              <a:srgbClr val="d3c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4"/>
          <p:cNvSpPr/>
          <p:nvPr/>
        </p:nvSpPr>
        <p:spPr>
          <a:xfrm>
            <a:off x="95400" y="152280"/>
            <a:ext cx="8953200" cy="6553440"/>
          </a:xfrm>
          <a:prstGeom prst="roundRect">
            <a:avLst>
              <a:gd name="adj" fmla="val 5491"/>
            </a:avLst>
          </a:prstGeom>
          <a:solidFill>
            <a:srgbClr val="ffffff"/>
          </a:solidFill>
          <a:ln w="25560">
            <a:solidFill>
              <a:srgbClr val="796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lick to edit the title text format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601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174600">
              <a:spcBef>
                <a:spcPts val="601"/>
              </a:spcBef>
              <a:buClr>
                <a:srgbClr val="ffc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430280" indent="-172800">
              <a:spcBef>
                <a:spcPts val="601"/>
              </a:spcBef>
              <a:buClr>
                <a:srgbClr val="79664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765440" indent="-220680">
              <a:spcBef>
                <a:spcPts val="601"/>
              </a:spcBef>
              <a:buClr>
                <a:srgbClr val="4d4d4d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765440" indent="-22068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765440" indent="-22068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Slide Number Placeholder 3"/>
          <p:cNvSpPr/>
          <p:nvPr/>
        </p:nvSpPr>
        <p:spPr>
          <a:xfrm>
            <a:off x="8305920" y="6477120"/>
            <a:ext cx="761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15F8A-88A0-4510-8E47-3A6E08080CAA}" type="slidenum">
              <a:rPr b="1" lang="en-US" sz="1200" spc="-1" strike="noStrike">
                <a:solidFill>
                  <a:srgbClr val="424242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Straight Connector 6"/>
          <p:cNvSpPr/>
          <p:nvPr/>
        </p:nvSpPr>
        <p:spPr>
          <a:xfrm>
            <a:off x="723960" y="1143000"/>
            <a:ext cx="7696080" cy="1440"/>
          </a:xfrm>
          <a:prstGeom prst="line">
            <a:avLst/>
          </a:prstGeom>
          <a:ln w="28440">
            <a:solidFill>
              <a:srgbClr val="796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85764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CD7FF-8177-4A9A-BD31-D68FB99B4D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6646"/>
            </a:gs>
            <a:gs pos="100000">
              <a:srgbClr val="d3c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ounded Rectangle 7"/>
          <p:cNvSpPr/>
          <p:nvPr/>
        </p:nvSpPr>
        <p:spPr>
          <a:xfrm>
            <a:off x="95400" y="152280"/>
            <a:ext cx="8953200" cy="6553440"/>
          </a:xfrm>
          <a:prstGeom prst="roundRect">
            <a:avLst>
              <a:gd name="adj" fmla="val 5491"/>
            </a:avLst>
          </a:prstGeom>
          <a:solidFill>
            <a:srgbClr val="ffffff"/>
          </a:solidFill>
          <a:ln w="25560">
            <a:solidFill>
              <a:srgbClr val="796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Slide Number Placeholder 3"/>
          <p:cNvSpPr/>
          <p:nvPr/>
        </p:nvSpPr>
        <p:spPr>
          <a:xfrm>
            <a:off x="8305920" y="6477120"/>
            <a:ext cx="761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17541-7E8B-4DB0-9F7C-772894CF5A5E}" type="slidenum">
              <a:rPr b="1" lang="en-US" sz="1200" spc="-1" strike="noStrike">
                <a:solidFill>
                  <a:srgbClr val="424242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Straight Connector 6"/>
          <p:cNvSpPr/>
          <p:nvPr/>
        </p:nvSpPr>
        <p:spPr>
          <a:xfrm>
            <a:off x="723960" y="1143000"/>
            <a:ext cx="7696080" cy="1440"/>
          </a:xfrm>
          <a:prstGeom prst="line">
            <a:avLst/>
          </a:prstGeom>
          <a:ln w="28440">
            <a:solidFill>
              <a:srgbClr val="796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lick to edit the title text format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601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174600">
              <a:spcBef>
                <a:spcPts val="601"/>
              </a:spcBef>
              <a:buClr>
                <a:srgbClr val="ffc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430280" indent="-172800">
              <a:spcBef>
                <a:spcPts val="601"/>
              </a:spcBef>
              <a:buClr>
                <a:srgbClr val="79664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765440" indent="-220680">
              <a:spcBef>
                <a:spcPts val="601"/>
              </a:spcBef>
              <a:buClr>
                <a:srgbClr val="4d4d4d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765440" indent="-22068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765440" indent="-22068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cs.washington.edu/390a/" TargetMode="External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SE 390a</a:t>
            </a:r>
            <a:br>
              <a:rPr sz="4400"/>
            </a:b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Lecture 7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685800" y="3886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Regular expressions,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egrep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, and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sed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Calibri"/>
              </a:rPr>
              <a:t>slides created by Marty Stepp, modified by Jessica Miller and Ruth Anderson</a:t>
            </a:r>
            <a:endParaRPr b="0" lang="en-US" sz="1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hlinkClick r:id="rId1"/>
              </a:rPr>
              <a:t>http://www.cs.washington.edu/390a/</a:t>
            </a:r>
            <a:endParaRPr b="0" lang="en-US" sz="1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haracter set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[ ]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group characters into a character set; 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will match any single character from the set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bcd]art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strings containing "bart", "cart", and "dart"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equivalent to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(b|c|d)art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but shorter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nside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[ ]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, most modifier keys act as normal characters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what[.!*?]*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matches "what", "what.", "what!", "what?**!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Match letter grades in 143.txt such as A, B+, or D- 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haracter range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nside a character set, specify a range of characters with -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a-z]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any lowercase letter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a-zA-Z0-9]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any lower- or uppercase letter or digit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an initial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^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inside a character set negates it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^abcd]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any character other than a, b, c, or d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nside a character set,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-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ust be escaped to be matched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+\-]?[0-9]+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optional + or -, followed by </a:t>
            </a:r>
            <a:r>
              <a:rPr b="0" lang="en-US" sz="2200" spc="-1" strike="noStrike">
                <a:solidFill>
                  <a:srgbClr val="404040"/>
                </a:solidFill>
                <a:latin typeface="Symbol"/>
                <a:ea typeface="Symbol"/>
              </a:rPr>
              <a:t>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one digit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Match phone #s in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faculty.html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, e.g. (206) 685-2181 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Consolas"/>
              </a:rPr>
              <a:t>sed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Usage: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ed -r "s/</a:t>
            </a:r>
            <a:r>
              <a:rPr b="1" i="1" lang="en-US" sz="2200" spc="-1" strike="noStrike">
                <a:solidFill>
                  <a:srgbClr val="404040"/>
                </a:solidFill>
                <a:latin typeface="Consolas"/>
              </a:rPr>
              <a:t>REGEX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</a:t>
            </a:r>
            <a:r>
              <a:rPr b="1" i="1" lang="en-US" sz="2200" spc="-1" strike="noStrike">
                <a:solidFill>
                  <a:srgbClr val="404040"/>
                </a:solidFill>
                <a:latin typeface="Consolas"/>
              </a:rPr>
              <a:t>TEXT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g" </a:t>
            </a:r>
            <a:r>
              <a:rPr b="1" i="1" lang="en-US" sz="2200" spc="-1" strike="noStrike">
                <a:solidFill>
                  <a:srgbClr val="404040"/>
                </a:solidFill>
                <a:latin typeface="Consolas"/>
              </a:rPr>
              <a:t>filenam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174600">
              <a:spcBef>
                <a:spcPts val="499"/>
              </a:spcBef>
              <a:buClr>
                <a:srgbClr val="ffc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substitutes (replaces) occurrence(s) of regex with the given text</a:t>
            </a: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lvl="2" marL="1143000" indent="-174600">
              <a:spcBef>
                <a:spcPts val="499"/>
              </a:spcBef>
              <a:buClr>
                <a:srgbClr val="ffc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if </a:t>
            </a:r>
            <a:r>
              <a:rPr b="1" i="1" lang="en-US" sz="2000" spc="-1" strike="noStrike">
                <a:solidFill>
                  <a:srgbClr val="4d4d4d"/>
                </a:solidFill>
                <a:latin typeface="Calibri"/>
              </a:rPr>
              <a:t>filename</a:t>
            </a: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 is omitted, reads from standard input (console)</a:t>
            </a: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lvl="2" marL="1143000" indent="-174600">
              <a:spcBef>
                <a:spcPts val="499"/>
              </a:spcBef>
              <a:buClr>
                <a:srgbClr val="ffc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sed has other uses, but most can be emulated with substitutions</a:t>
            </a: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Example (replaces all occurrences of 143 with 390):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ed -r "s/143/390/g" lecturenotes.txt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1447920" y="1444680"/>
          <a:ext cx="6172200" cy="1096920"/>
        </p:xfrm>
        <a:graphic>
          <a:graphicData uri="http://schemas.openxmlformats.org/drawingml/2006/table">
            <a:tbl>
              <a:tblPr/>
              <a:tblGrid>
                <a:gridCol w="1371600"/>
                <a:gridCol w="480060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comma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s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262626"/>
                          </a:solidFill>
                          <a:uFillTx/>
                          <a:latin typeface="Calibri"/>
                        </a:rPr>
                        <a:t>s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tream </a:t>
                      </a:r>
                      <a:r>
                        <a:rPr b="0" lang="en-US" sz="2000" spc="-1" strike="noStrike" u="sng">
                          <a:solidFill>
                            <a:srgbClr val="262626"/>
                          </a:solidFill>
                          <a:uFillTx/>
                          <a:latin typeface="Calibri"/>
                        </a:rPr>
                        <a:t>ed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itor; performs regex-based replacements and alterations on inp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more about </a:t>
            </a:r>
            <a:r>
              <a:rPr b="1" lang="en-US" sz="4400" spc="-1" strike="noStrike">
                <a:solidFill>
                  <a:srgbClr val="5a3320"/>
                </a:solidFill>
                <a:latin typeface="Consolas"/>
              </a:rPr>
              <a:t>sed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sed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is line-oriented;  processes input a line at a time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-r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option makes regexes work better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recognizes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( )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,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[ ]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,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*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,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+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the right way, etc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g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flag after last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/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asks for a </a:t>
            </a: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global match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(replace all)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pecial characters must be escaped to match them literally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ed -r "s/http: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\/\/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https: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\/\/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g" urls.txt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d can use other delimiters besides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/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 ... whatever follows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find /usr | sed -r "s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#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usr/bin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#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home/billy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#</a:t>
            </a:r>
            <a:r>
              <a:rPr b="0" lang="en-US" sz="2200" spc="-1" strike="noStrike">
                <a:solidFill>
                  <a:srgbClr val="000000"/>
                </a:solidFill>
                <a:latin typeface="Consolas"/>
              </a:rPr>
              <a:t>g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Back-reference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every span of text captured by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()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is given an internal number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you can use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\</a:t>
            </a:r>
            <a:r>
              <a:rPr b="1" i="1" lang="en-US" sz="2200" spc="-1" strike="noStrike">
                <a:solidFill>
                  <a:srgbClr val="404040"/>
                </a:solidFill>
                <a:latin typeface="Consolas"/>
              </a:rPr>
              <a:t>number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to use the captured text in the replacement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\0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is the overall pattern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\1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is the first parenthetical captur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Back-references can also be used in egrep pattern matching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Match “A” surrounded by the same character: “(.)A\1”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Example: swap last names with first name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sed -r "s/(</a:t>
            </a:r>
            <a:r>
              <a:rPr b="1" lang="pt-BR" sz="2200" spc="-1" strike="noStrike" u="sng">
                <a:solidFill>
                  <a:srgbClr val="333399"/>
                </a:solidFill>
                <a:uFillTx/>
                <a:latin typeface="Consolas"/>
              </a:rPr>
              <a:t>[^ ]+</a:t>
            </a: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), (</a:t>
            </a:r>
            <a:r>
              <a:rPr b="1" lang="pt-BR" sz="2200" spc="-1" strike="noStrike" u="sng">
                <a:solidFill>
                  <a:srgbClr val="333399"/>
                </a:solidFill>
                <a:uFillTx/>
                <a:latin typeface="Consolas"/>
              </a:rPr>
              <a:t>[^ ]+</a:t>
            </a: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)/</a:t>
            </a:r>
            <a:r>
              <a:rPr b="0" lang="pt-BR" sz="2200" spc="-1" strike="noStrike">
                <a:solidFill>
                  <a:srgbClr val="333399"/>
                </a:solidFill>
                <a:latin typeface="Consolas"/>
              </a:rPr>
              <a:t>\2</a:t>
            </a: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 </a:t>
            </a:r>
            <a:r>
              <a:rPr b="0" lang="pt-BR" sz="2200" spc="-1" strike="noStrike">
                <a:solidFill>
                  <a:srgbClr val="333399"/>
                </a:solidFill>
                <a:latin typeface="Consolas"/>
              </a:rPr>
              <a:t>\1</a:t>
            </a: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/g" names.txt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Reformat phone numbers with 685-2181 format to (206) 685.2181 format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1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Other tool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find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supports regexes through its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-regex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argumen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find . -regex ".*CSE 14[23].*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Many editors understand regexes in their Find/Replace feature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pic>
        <p:nvPicPr>
          <p:cNvPr id="122" name="Picture 4" descr=""/>
          <p:cNvPicPr/>
          <p:nvPr/>
        </p:nvPicPr>
        <p:blipFill>
          <a:blip r:embed="rId1"/>
          <a:stretch/>
        </p:blipFill>
        <p:spPr>
          <a:xfrm>
            <a:off x="1028880" y="3200400"/>
            <a:ext cx="708660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Exercise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Write a shell script that reads a list of file names from 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files.txt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and finds any occurrences of MM/DD dates and converts them into MM/DD/YYYY dates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Example: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04/17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would be changed to: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04/17/2011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Yay Regular Expressions!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pic>
        <p:nvPicPr>
          <p:cNvPr id="126" name="Content Placeholder 3" descr="regular_expressions.png"/>
          <p:cNvPicPr/>
          <p:nvPr/>
        </p:nvPicPr>
        <p:blipFill>
          <a:blip r:embed="rId1"/>
          <a:stretch/>
        </p:blipFill>
        <p:spPr>
          <a:xfrm>
            <a:off x="1676520" y="1295280"/>
            <a:ext cx="5271840" cy="5334120"/>
          </a:xfrm>
          <a:prstGeom prst="rect">
            <a:avLst/>
          </a:prstGeom>
          <a:ln w="0">
            <a:noFill/>
          </a:ln>
        </p:spPr>
      </p:pic>
      <p:sp>
        <p:nvSpPr>
          <p:cNvPr id="127" name="TextBox 4"/>
          <p:cNvSpPr/>
          <p:nvPr/>
        </p:nvSpPr>
        <p:spPr>
          <a:xfrm>
            <a:off x="7162920" y="594360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urtesy XKC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Lecture summary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regular expression syntax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ommands that use regular expression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egrep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(extended grep)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- search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ed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(stream editor)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- replac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link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http://www.panix.com/~elflord/unix/grep.htm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http://www.robelle.com/smugbook/regexpr.htm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a3320"/>
                </a:solidFill>
                <a:latin typeface="Lucida Sans"/>
              </a:rPr>
              <a:t>What is a regular expression?</a:t>
            </a:r>
            <a:endParaRPr b="1" lang="en-US" sz="40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"[a-zA-Z_\-]+@(([a-zA-Z_\-])+\.)+[a-zA-Z]{2,4}"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Calibri"/>
              </a:rPr>
              <a:t>regular expression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("regex"): a description of a pattern of tex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can test whether a string matches the expression's pattern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can use a regex to search/replace characters in a string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regular expressions are extremely powerful but tough to read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174600">
              <a:spcBef>
                <a:spcPts val="499"/>
              </a:spcBef>
              <a:buClr>
                <a:srgbClr val="ffc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(the above regular expression matches basic email addresses)</a:t>
            </a: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regular expressions occur in many places: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shell commands (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grep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many text editors (TextPad) allow regexes in search/replac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Java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canner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tring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plit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(CSE 143 grammar solver)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Consolas"/>
              </a:rPr>
              <a:t>egrep</a:t>
            </a: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 and regexe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egrep "[0-9]{3}-[0-9]{3}-[0-9]{4}" faculty.htm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grep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uses “basic” regular expressions instead of “extended”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extended has some minor differences and additional metacharacters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we’ll just use extended syntax.  See online if you’re interested in the details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-i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option before regex signifies a case-insensitive match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egrep -i "mart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Marty S", "smartie", "WALMART", 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1523880" y="1419120"/>
          <a:ext cx="6172200" cy="1096920"/>
        </p:xfrm>
        <a:graphic>
          <a:graphicData uri="http://schemas.openxmlformats.org/drawingml/2006/table">
            <a:tbl>
              <a:tblPr/>
              <a:tblGrid>
                <a:gridCol w="1371600"/>
                <a:gridCol w="480060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comma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egre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262626"/>
                          </a:solidFill>
                          <a:uFillTx/>
                          <a:latin typeface="Calibri"/>
                        </a:rPr>
                        <a:t>e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xtended 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grep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;  uses regexes in its search patterns;  equivalent to 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grep -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Basic regexe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"abc"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e simplest regexes simply match a particular substring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s is really a pattern, not a string!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e above regular expression matches any line containing "abc"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404040"/>
                </a:solidFill>
                <a:latin typeface="Calibri"/>
              </a:rPr>
              <a:t>YES 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: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c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cdef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defabc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.=.abc.=.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404040"/>
                </a:solidFill>
                <a:latin typeface="Calibri"/>
              </a:rPr>
              <a:t>NO 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: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fedcba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 c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C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Bash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Wildcards and anchor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.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(a dot) matches any character except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\n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.oo.y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Doocy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goofy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LooPy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use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\.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to literally match a dot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.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character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^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atches the beginning of a line; 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$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the end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^fi$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that consist entirely of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fi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\&lt;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demands that pattern is the beginning of a </a:t>
            </a: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word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;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\&gt;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demands that pattern is the end of a word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\&lt;for\&gt;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that contain the word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for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Find lines in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ideas.txt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that refer to the C language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Find act/scene numbers in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hamlet.txt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0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Special character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|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eans OR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c|def|g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with  "abc", "def", or "g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precedence of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^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(Subject|Date)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vs.   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^Subject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|Date: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There's no AND symbol. Why not?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()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are for grouping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(Homer|Marge) Simpson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containing </a:t>
            </a:r>
            <a:br>
              <a:rPr sz="2200"/>
            </a:b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Homer Simpson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or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Marge Simpson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\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starts an escape sequence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many characters must be escaped to match them:  / \ $ . [ ] ( ) ^ * + ?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\.\\n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containing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.\n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Quantifiers:  * + ?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*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means 0 or more occurrences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c*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b", "abc", "abcc", "abccc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(bc)*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", "abc", "abcbc", "abcbcbc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.*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a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a", "aba", "a8qa", "a!?_a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+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means 1 or more occurrences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(bc)+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bc", "abcbc", "abcbcbc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Go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o+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gle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Google", "Gooogle", "Goooogle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?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means 0 or 1 occurrences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Martin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a?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with "Martin" or "Martina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Dan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(iel)?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with "Dan" or "Daniel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Find all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^^ or ^_^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type smileys in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chat.txt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10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More quantifier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{</a:t>
            </a:r>
            <a:r>
              <a:rPr b="1" i="1" lang="en-US" sz="2400" spc="-1" strike="noStrike">
                <a:solidFill>
                  <a:srgbClr val="262626"/>
                </a:solidFill>
                <a:latin typeface="Consolas"/>
              </a:rPr>
              <a:t>min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,</a:t>
            </a:r>
            <a:r>
              <a:rPr b="1" i="1" lang="en-US" sz="2400" spc="-1" strike="noStrike">
                <a:solidFill>
                  <a:srgbClr val="262626"/>
                </a:solidFill>
                <a:latin typeface="Consolas"/>
              </a:rPr>
              <a:t>max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}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eans between </a:t>
            </a:r>
            <a:r>
              <a:rPr b="1" i="1" lang="en-US" sz="2400" spc="-1" strike="noStrike">
                <a:solidFill>
                  <a:srgbClr val="262626"/>
                </a:solidFill>
                <a:latin typeface="Calibri"/>
              </a:rPr>
              <a:t>min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and </a:t>
            </a:r>
            <a:r>
              <a:rPr b="1" i="1" lang="en-US" sz="2400" spc="-1" strike="noStrike">
                <a:solidFill>
                  <a:srgbClr val="262626"/>
                </a:solidFill>
                <a:latin typeface="Calibri"/>
              </a:rPr>
              <a:t>max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occurrence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(bc){2,4}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bcbc", "abcbcbc", or "abcbcbcbc"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262626"/>
                </a:solidFill>
                <a:latin typeface="Calibri"/>
              </a:rPr>
              <a:t>min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or </a:t>
            </a:r>
            <a:r>
              <a:rPr b="1" i="1" lang="en-US" sz="2400" spc="-1" strike="noStrike">
                <a:solidFill>
                  <a:srgbClr val="262626"/>
                </a:solidFill>
                <a:latin typeface="Calibri"/>
              </a:rPr>
              <a:t>max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ay be omitted to specify any number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{2,}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means 2 or mor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{,6}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means up to 6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{3}" 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means exactly 3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0T19:12:02Z</dcterms:created>
  <dc:creator>Marty Stepp</dc:creator>
  <dc:description>Slides used in the University of Washington's CSE 142 Python sessions.</dc:description>
  <cp:keywords>Python</cp:keywords>
  <dc:language>en-US</dc:language>
  <cp:lastModifiedBy>rea-cse</cp:lastModifiedBy>
  <cp:lastPrinted>2012-05-08T18:43:58Z</cp:lastPrinted>
  <dcterms:modified xsi:type="dcterms:W3CDTF">2012-11-06T01:04:45Z</dcterms:modified>
  <cp:revision>865</cp:revision>
  <dc:subject/>
  <dc:title>CSE 142 Python Slides</dc:title>
</cp:coreProperties>
</file>