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3600" y="767880"/>
            <a:ext cx="511344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107640" rIns="10764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478784B-47DC-429E-B79A-312B6A6C9A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4EF9F44-5463-4041-A570-65C4C693C6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710E671-C361-46CE-BF5A-DE8E0F36DA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DA282FB-8887-43C6-9B7B-A5FD07D02F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B9755E9-1D03-4FEE-AB8C-42D9D74905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DBE35DF-8BC1-4872-BC09-E69BB847E8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AD3358E-0085-426F-AA9A-C28C9D6E3E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C047517-DBAD-43E1-82E3-A273F6B8C2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548B368-ACB2-4C99-ACB6-65813EAF65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072D256-E327-4C30-AB66-A1BBBA9234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32A65E3-9A19-45D7-A768-CBB7BC2698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9899655-AE72-4187-892A-D217D63B4A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08844F8-AE90-4957-8908-75E33E40AC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71A23-C519-48B1-A781-CF6B4D50AF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B329C-F08A-42CA-96AD-C1CD2899B7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E9C2A-2AA1-4AEB-A644-D01EB7A51D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7D1C8-27D6-42D6-88DD-209801EF0A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6E1BE-A12C-432E-908A-9F82122B34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36FD6-63C1-47C6-A9E6-ADAD85D983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09799-713D-4487-915E-22658A2944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A3A07-E160-40F7-BC82-FAEF6363C4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DF89B-28F6-480B-AB08-5DDC548551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66DEE-2DF0-4144-B35B-86961B4506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6EAE7-AC70-4D09-A750-5BDFB5818B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E3706-D71D-4DDE-86AA-AD9F4F0210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8E8DB-D7B6-405B-A4C5-8F11441AF238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BEAA1-79D7-4894-A8A8-8ADC722DE2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BAA9E-B3BA-4286-8AAE-E4FEC8AB64A0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 and Ruth Anderson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option makes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regexes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work bet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s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for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substitut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ed exercis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12952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movies.txt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place “The” with “The Super Awesome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it only when The occurs at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Need the next slide for this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ove the year from the end of the line to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Do this and also sort the movies by yea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the two items above and then put the year back at the end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1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8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9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rymoire.com/Unix/Sed.html o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nu.org/software/sed/manual/sed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Why not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rea-cse</cp:lastModifiedBy>
  <cp:lastPrinted>2012-05-08T18:43:58Z</cp:lastPrinted>
  <dcterms:modified xsi:type="dcterms:W3CDTF">2013-02-19T22:05:44Z</dcterms:modified>
  <cp:revision>869</cp:revision>
  <dc:subject/>
  <dc:title>CSE 142 Python Slides</dc:title>
</cp:coreProperties>
</file>