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3600" y="767880"/>
            <a:ext cx="511344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107640" rIns="10764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C530A2E-96B8-4737-B960-1716ABF337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BE7ACB2-02E2-415B-9F48-8028F21DFC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E329B10-6C3F-41CC-A6CC-EEC97F8778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B867AB2-563F-49DD-B1A7-6E7CCF73C3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E49164D-BCA9-432E-A3F2-732832C660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9167A55-E37B-4B90-A63B-A22C81CC2D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955ABB0-6802-42CD-87E0-C432686B9E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E5D0F0C-8774-496F-BEC3-847F492B4D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45DE99A-7591-49D7-80AE-333807D7B2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CFD5A7B-F186-4F4F-AF06-26E9B154D6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5ACA90A-3F60-49AC-A0DD-C0EB77D585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675335E-AE1E-4C5E-A231-0CF4B5C162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F758A9F-D1FF-4B94-B6A1-7A3B5A8F45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78063-0EDB-4B77-B528-52E7408858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896F2-0CEF-4CD2-B027-85FC555A26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A7604-BAB1-4E91-B865-7D848591A7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EBA86-2852-4F12-AC21-00F51B4550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A0DD0-9FE3-47E0-B2AD-D1097C283A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A68A3-6306-4297-85A5-6DBB307B10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45416-BA84-4BB6-A35F-7755F52BCF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7FC57-33B2-4EA2-AF03-B17FACB3A7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2C4D7-18B9-4C85-9D22-EAA7916DAD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AEA46-E0D9-4CED-A440-55AB0A8688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AC3BD-0F5F-4808-A14D-63674B2BAB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9E0A9-A8DD-4E47-9280-4FC886E370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48795-D366-4F39-9DC5-006F6701AE91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5DE24-C923-4D80-A86B-B3F40DCBAE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798C0-7D47-4ACB-97EE-963E26A234A4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 and Ruth Anderson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makes regexes work bett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1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6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Why not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rea-cse</cp:lastModifiedBy>
  <cp:lastPrinted>2012-05-08T18:43:58Z</cp:lastPrinted>
  <dcterms:modified xsi:type="dcterms:W3CDTF">2012-11-06T01:04:45Z</dcterms:modified>
  <cp:revision>865</cp:revision>
  <dc:subject/>
  <dc:title>CSE 142 Python Slides</dc:title>
</cp:coreProperties>
</file>