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B806C9C-F58C-4045-B686-49E8C7D90C1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23D2BC0-90A4-4CB9-BBB2-716656B43A8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D12F301-FD8B-4D41-9577-EDB9475FC6D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7E6B9C0-E7C3-462B-BD35-F8621B7FE56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6DC7C7A-D7FC-4608-A1E7-6457C34588F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9BAC820-9F49-4B95-8959-7FFAD7A2C33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53B089D-B1F8-424F-A341-FCE1189718C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397441F-F2CB-4322-87E6-14C21B49442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BFCB00F-37B9-45AE-8C50-827C8D31F86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8D9775E-C8D5-4965-8B19-8E269DDE706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C9E655A-A9C4-49CA-B60B-0D84B6144B1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D540119-38A5-43F6-806B-FF0034C9090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A129393-EA44-428F-88BB-18428D0EF88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F427-9B65-480F-BFF8-B42AA51B9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A29BA-8483-4E81-A29E-DCB31B680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A28B-7EFD-46D2-86E7-BA9564FAE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EB84-D8EF-4292-BC92-5444BA2A0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6B53-723F-4997-BFAC-213AA20EE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42FB-9A41-48B9-B95D-C5A9117873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3F1E-36CB-4394-A325-9603D46F4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39B1-8BFA-4FE0-985D-FFFD9A530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3B6A-AFCC-45D2-B5AB-49E20EA6C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6858F-7F0D-465B-B85D-C9AAD6F4C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0380-434E-4CD3-80A8-7C2E15AC2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390D-913D-4E14-BBDA-323B36007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9532-59A9-4280-B0F4-72A815ECC61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E7A0-9B08-4162-AE3D-1DFDA525B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307C-B2E6-479B-AB6B-134B2183C43C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Jessica Miller</cp:lastModifiedBy>
  <cp:lastPrinted>2011-05-10T20:36:00Z</cp:lastPrinted>
  <dcterms:modified xsi:type="dcterms:W3CDTF">2011-05-11T01:08:12Z</dcterms:modified>
  <cp:revision>860</cp:revision>
  <dc:subject/>
  <dc:title>CSE 142 Python Slides</dc:title>
</cp:coreProperties>
</file>