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343650" cy="840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343200" cy="840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592440" y="-360"/>
            <a:ext cx="2749680" cy="4208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71720" y="630000"/>
            <a:ext cx="4201920" cy="31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b">
            <a:noAutofit/>
          </a:bodyPr>
          <a:lstStyle>
            <a:lvl1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D978397-1E18-4ACE-A2E1-6D1B946156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75A22E4-482B-42F4-88C4-36070C69226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ACA01803-7A8B-428E-BEE0-C27AEC38A67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C690D70-30C4-4863-BF44-03374E2DD13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973AB2BC-C089-40BF-A8D5-FE4DEEAD251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669DECF1-67CC-4EDD-9A05-B455D7C8B0C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773FD7B3-E078-415F-848C-77909FF902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0333E5E5-3D01-498F-8928-C12B50B630B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12A01FD0-D725-4905-9637-B08EE227B7B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FD2855D-1ACD-47F6-862F-19784D9792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91F542B-6630-4AC6-9840-1F8ADE0FFEB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B077E048-EA8C-4BAB-9399-9A7322BAE39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1720" y="630360"/>
            <a:ext cx="4201920" cy="3151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34680" y="3990960"/>
            <a:ext cx="507348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592440" y="7980480"/>
            <a:ext cx="27496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b">
            <a:noAutofit/>
          </a:bodyPr>
          <a:p>
            <a:pPr algn="r"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fld id="{F7380E1D-3DD5-401B-BA51-5B8E2CD5EF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3B728-1EEA-4436-9489-B1F3E75AE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B7C5-3540-4422-A2E9-BA398D060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C03F-6296-48BE-ABBA-9485278F4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2C82-27AF-43AB-BCB3-52F72EC1B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BCD9-DCDD-4E47-B063-A29819850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FB67-8BCC-472F-B23A-E72E95C0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7649-0377-4323-B1A0-E06F27BBD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1E2D-CD11-4532-814B-71BD1C24D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2604-E301-4C96-8E32-D9C63FCC2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116B-407F-4BE6-A058-2BDDC43E5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DE9A-D162-4824-B804-6E5799181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A961-8A60-409F-84AD-C09A97582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90D8-9C25-454D-8A34-2BCF2D65EFAA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F247-5495-4AE7-83A0-A48F62013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210E-D331-45A0-A8DD-13CAEACC24B5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analyser.oli.tudelft.nl/regex/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cse</cp:lastModifiedBy>
  <cp:lastPrinted>2011-05-10T20:36:00Z</cp:lastPrinted>
  <dcterms:modified xsi:type="dcterms:W3CDTF">2011-11-13T19:07:14Z</dcterms:modified>
  <cp:revision>863</cp:revision>
  <dc:subject/>
  <dc:title>CSE 142 Python Slides</dc:title>
</cp:coreProperties>
</file>