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93600" y="767880"/>
            <a:ext cx="511344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7640" rIns="10764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move the slid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03DF882-D7F4-4D8F-A0F9-6DB9FA50E8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2C33C8-E60D-4A29-86C5-2D7469A02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BCDF][+\-]?" 143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egrep "[0-9]{3}-[0-9]{3}-[0-9]{4}" faculty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CA104A-EE64-46F0-9CDD-4B8FC14A6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3661ACC-7B4B-47E3-AD06-BFBBB3566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 -r "s/([0-9]{3})-([0-9]{3})-([0-9]{4})/(\1) \2.\3/g" facname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320B7AF-912D-4F67-B730-746AC3A1A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8F0FFE-3450-4402-ADAE-2CAC8ADDE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CE48B9-7EDE-4B50-A461-58B604C40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6F80E62-FC9D-47F2-BB9E-0E301CD80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50DF91D-DD24-40B9-BEBB-AA3A0E923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66087B8-56E6-4F51-950E-12BDFEEEB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76DBBF1-6E7E-4628-B301-30E956CC1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&lt;C\&gt;" ideas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^ACT|^Scene" hamle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E8FFEF-B71C-44D7-BF3D-F1D4FC70E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p "\^_*\^" chat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8E2A1C-E78F-4FE9-8053-098EF2E35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16D03-C6C3-47DA-B057-2619095B6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CA74-F5A1-4531-9AD0-D3C42ED8A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1FB30-2C6B-42C0-A98D-4AD33D0D3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26AF-8122-4754-8F65-EBB3F7F86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0F90-BB99-4D8C-BABD-48F6045A9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29528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4200840"/>
            <a:ext cx="2944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3337D-1C1B-40DA-98AA-893F71F41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46E3-F283-484E-9F94-A101B9E1D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F1AF-3789-4FA0-9B59-54AB3F413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28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1E3C-05B9-439E-8495-0D48A817F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0D45-F0A5-454C-A6CB-18CF7A2F3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20084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9BE7-EBAF-4CF0-94B0-C768DB762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295280"/>
            <a:ext cx="4462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4200840"/>
            <a:ext cx="9144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A2182-409E-44EA-923C-AF4F981F5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4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6478-3625-4F46-AF94-5642A8735F53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576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F932-263A-46FF-9DC4-CE8D3CC6A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6646"/>
            </a:gs>
            <a:gs pos="100000">
              <a:srgbClr val="d3c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7"/>
          <p:cNvSpPr/>
          <p:nvPr/>
        </p:nvSpPr>
        <p:spPr>
          <a:xfrm>
            <a:off x="95400" y="152280"/>
            <a:ext cx="8953200" cy="6553440"/>
          </a:xfrm>
          <a:prstGeom prst="roundRect">
            <a:avLst>
              <a:gd name="adj" fmla="val 5491"/>
            </a:avLst>
          </a:prstGeom>
          <a:solidFill>
            <a:srgbClr val="ffffff"/>
          </a:solidFill>
          <a:ln w="2556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8305920" y="647712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2090-0A89-46B4-836C-4C0439209686}" type="slidenum">
              <a:rPr b="1" lang="en-US" sz="1200" spc="-1" strike="noStrike">
                <a:solidFill>
                  <a:srgbClr val="424242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6"/>
          <p:cNvSpPr/>
          <p:nvPr/>
        </p:nvSpPr>
        <p:spPr>
          <a:xfrm>
            <a:off x="723960" y="1143000"/>
            <a:ext cx="7696080" cy="1440"/>
          </a:xfrm>
          <a:prstGeom prst="line">
            <a:avLst/>
          </a:prstGeom>
          <a:ln w="28440">
            <a:solidFill>
              <a:srgbClr val="796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60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174600">
              <a:spcBef>
                <a:spcPts val="601"/>
              </a:spcBef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430280" indent="-172800">
              <a:spcBef>
                <a:spcPts val="601"/>
              </a:spcBef>
              <a:buClr>
                <a:srgbClr val="79664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765440" indent="-220680">
              <a:spcBef>
                <a:spcPts val="601"/>
              </a:spcBef>
              <a:buClr>
                <a:srgbClr val="4d4d4d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765440" indent="-22068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s.washington.edu/390a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SE 390a</a:t>
            </a:r>
            <a:br>
              <a:rPr sz="4400"/>
            </a:b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7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,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and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Calibri"/>
              </a:rPr>
              <a:t>slides created by Marty Stepp, modified by Jessica Miller and Ruth Anderson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  <a:p>
            <a:pPr marL="2286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://www.cs.washington.edu/390a/</a:t>
            </a:r>
            <a:endParaRPr b="0" lang="en-US" sz="1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set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group characters into a character set;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ill match any single character from the se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bcd]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strings containing "bart", "cart", and "dart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quivalent to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b|c|d)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but shor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[ ]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most modifier keys act as normal character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what[.!*?]*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atches "what", "what.", "what!", "what?**!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letter grades in 143.txt such as A, B+, or D-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Character rang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specify a range of characters with -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case letter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a-zA-Z0-9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lower- or uppercase letter or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 initia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nside a character set negates it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^abcd]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any character other than a, b, c, or d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ide a character set,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ust be escaped to be matched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[+\-]?[0-9]+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optional + or -, followed by </a:t>
            </a:r>
            <a:r>
              <a:rPr b="0" lang="en-US" sz="2200" spc="-1" strike="noStrike">
                <a:solidFill>
                  <a:srgbClr val="404040"/>
                </a:solidFill>
                <a:latin typeface="Symbol"/>
                <a:ea typeface="Symbol"/>
              </a:rPr>
              <a:t>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ne digit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Match phone #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aculty.html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, e.g. (206) 685-2181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age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REGEX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TEX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filenam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ubstitutes (replaces) occurrence(s) of regex with the given text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if </a:t>
            </a:r>
            <a:r>
              <a:rPr b="1" i="1" lang="en-US" sz="2000" spc="-1" strike="noStrike">
                <a:solidFill>
                  <a:srgbClr val="4d4d4d"/>
                </a:solidFill>
                <a:latin typeface="Calibri"/>
              </a:rPr>
              <a:t>filename</a:t>
            </a: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 is omitted, reads from standard input (console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sed has other uses, but most can be emulated with substitutions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 (replaces all occurrences of 143 with 390)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143/390/g" lecturenot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447920" y="144468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ream </a:t>
                      </a: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d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itor; performs regex-based replacements and alterations on 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about </a:t>
            </a: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sed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e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line-oriented;  processes input a line at a tim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makes regexes work bett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cogniz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( 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[ ]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*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+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he right way, etc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flag after las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sks for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global match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replace all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al characters must be escaped to match them literal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 -r "s/http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ttps: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\/\/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g" url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d can use other delimiters beside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/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... whatever follow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/usr | sed -r "s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usr/bin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/home/billy</a:t>
            </a:r>
            <a:r>
              <a:rPr b="1" lang="en-US" sz="2200" spc="-1" strike="noStrike">
                <a:solidFill>
                  <a:srgbClr val="333399"/>
                </a:solidFill>
                <a:latin typeface="Consolas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Consolas"/>
              </a:rPr>
              <a:t>g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ck-referenc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very span of text captured by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is given an internal numbe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you can 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</a:t>
            </a:r>
            <a:r>
              <a:rPr b="1" i="1" lang="en-US" sz="2200" spc="-1" strike="noStrike">
                <a:solidFill>
                  <a:srgbClr val="404040"/>
                </a:solidFill>
                <a:latin typeface="Consolas"/>
              </a:rPr>
              <a:t>numb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use the captured text in the replacemen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0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overall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1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is the first parenthetical captu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-references can also be used in egrep pattern match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tch “A” surrounded by the same character: “(.)A\1”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Example: swap last names with first nam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sed -r "s/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, (</a:t>
            </a:r>
            <a:r>
              <a:rPr b="1" lang="pt-BR" sz="2200" spc="-1" strike="noStrike" u="sng">
                <a:solidFill>
                  <a:srgbClr val="333399"/>
                </a:solidFill>
                <a:uFillTx/>
                <a:latin typeface="Consolas"/>
              </a:rPr>
              <a:t>[^ ]+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)/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2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 </a:t>
            </a:r>
            <a:r>
              <a:rPr b="0" lang="pt-BR" sz="2200" spc="-1" strike="noStrike">
                <a:solidFill>
                  <a:srgbClr val="333399"/>
                </a:solidFill>
                <a:latin typeface="Consolas"/>
              </a:rPr>
              <a:t>\1</a:t>
            </a:r>
            <a:r>
              <a:rPr b="0" lang="pt-BR" sz="2200" spc="-1" strike="noStrike">
                <a:solidFill>
                  <a:srgbClr val="404040"/>
                </a:solidFill>
                <a:latin typeface="Consolas"/>
              </a:rPr>
              <a:t>/g" names.txt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Reformat phone numbers with 685-2181 format to (206) 685.2181 forma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Other tool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n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upports regexes through its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rege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gum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nd . -regex ".*CSE 14[23].*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ny editors understand regexes in their Find/Replace featur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28880" y="320040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Exercise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Write a shell script that reads a list of file names from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files.t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finds any occurrences of MM/DD dates and converts them into MM/DD/YYYY date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xampl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would be changed to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04/17/2011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Yay Regular Expressions!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pic>
        <p:nvPicPr>
          <p:cNvPr id="126" name="Content Placeholder 3" descr="regular_expression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7162920" y="594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XK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Lecture summary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 syntax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mands that use regular express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extended grep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search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ed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(stream editor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in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panix.com/~elflord/unix/grep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182880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http://www.robelle.com/smugbook/regexpr.html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3320"/>
                </a:solidFill>
                <a:latin typeface="Lucida Sans"/>
              </a:rPr>
              <a:t>What is a regular expression?</a:t>
            </a:r>
            <a:endParaRPr b="1" lang="en-US" sz="40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[a-zA-Z_\-]+@(([a-zA-Z_\-])+\.)+[a-zA-Z]{2,4}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egular expressio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("regex"): a description of a pattern of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test whether a string matches the expression's patter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can use a regex to search/replace characters in a string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gular expressions are extremely powerful but tough to read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174600">
              <a:spcBef>
                <a:spcPts val="499"/>
              </a:spcBef>
              <a:buClr>
                <a:srgbClr val="ffc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alibri"/>
              </a:rPr>
              <a:t>(the above regular expression matches basic email addresses)</a:t>
            </a: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expressions occur in many place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shell commands (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rep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text editors (TextPad) allow regexes in search/replac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Java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canner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tring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split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(CSE 143 grammar solve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Consolas"/>
              </a:rPr>
              <a:t>egrep</a:t>
            </a: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 and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egrep "[0-9]{3}-[0-9]{3}-[0-9]{4}" faculty.htm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grep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s “basic” regular expressions instead of “extended”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extended has some minor differences and additional metacharacter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we’ll just use extended syntax.  See online if you’re interested in the detail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lnSpc>
                <a:spcPct val="100000"/>
              </a:lnSpc>
              <a:spcBef>
                <a:spcPts val="601"/>
              </a:spcBef>
              <a:buClr>
                <a:srgbClr val="bd0901"/>
              </a:buClr>
              <a:buFont typeface="Consola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-i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ption before regex signifies a case-insensitive match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egrep -i "mart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Marty S", "smartie", "WALMART"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419120"/>
          <a:ext cx="617220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80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eg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262626"/>
                          </a:solidFill>
                          <a:uFillTx/>
                          <a:latin typeface="Calibri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xtended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;  uses regexes in its search patterns;  equivalent to </a:t>
                      </a:r>
                      <a:r>
                        <a:rPr b="0" lang="en-US" sz="2000" spc="-1" strike="noStrike">
                          <a:solidFill>
                            <a:srgbClr val="262626"/>
                          </a:solidFill>
                          <a:latin typeface="Consolas"/>
                        </a:rPr>
                        <a:t>grep -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Basic regexe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simplest regexes simply match a particular substr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s is really a pattern, not a string!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above regular expression matches any line containing "abc"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YES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def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ef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=.abc.=.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404040"/>
                </a:solidFill>
                <a:latin typeface="Calibri"/>
              </a:rPr>
              <a:t>NO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edcb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 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Bash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Wildcards and ancho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.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(a dot) matches any character except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oo.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ooc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of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LooPy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, ..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use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\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to literally match a dot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.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characte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tches the beginning of a line; 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$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e en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^fi$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sist entirely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fi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l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beginning of a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word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&gt;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demands that pattern is the end of a word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&lt;for\&gt;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that contain the word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for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line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ideas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that refer to the C langua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ct/scene number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hamle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Special charact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|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OR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c|def|g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 "abc", "def", or "g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precedence of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^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Subject|Date)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vs.   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^Subject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|Date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here's no AND symbol. Why not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()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are for grouping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(Homer|Marge)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br>
              <a:rPr sz="2200"/>
            </a:b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Homer Simpso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or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ge Simpso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\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starts an escape sequen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many characters must be escaped to match them:  / \ $ . [ ] ( ) ^ * + 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\.\\n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containing 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.\n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Quantifiers:  * + ?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b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c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", "abc", "abcc", "abcc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",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.*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a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a", "aba", "a8qa", "a!?_a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+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1 or more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bc)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", "abcbc", "abcbcbc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8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Go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o+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gle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Google", "Gooogle", "Goooogle", ..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?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means 0 or 1 occurrenc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Marti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a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Martin" or "Martina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Dan</a:t>
            </a:r>
            <a:r>
              <a:rPr b="0" lang="en-US" sz="2200" spc="-1" strike="noStrike" u="sng">
                <a:solidFill>
                  <a:srgbClr val="404040"/>
                </a:solidFill>
                <a:uFillTx/>
                <a:latin typeface="Consolas"/>
              </a:rPr>
              <a:t>(iel)?</a:t>
            </a: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lines with "Dan" or "Daniel"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Exercis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: Find all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^^ or ^_^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type smileys in 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chat.txt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3320"/>
                </a:solidFill>
                <a:latin typeface="Lucida Sans"/>
              </a:rPr>
              <a:t>More quantifiers</a:t>
            </a:r>
            <a:endParaRPr b="1" lang="en-US" sz="4400" spc="-1" strike="noStrike">
              <a:solidFill>
                <a:srgbClr val="5a3320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{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,</a:t>
            </a:r>
            <a:r>
              <a:rPr b="1" i="1" lang="en-US" sz="2400" spc="-1" strike="noStrike">
                <a:solidFill>
                  <a:srgbClr val="262626"/>
                </a:solidFill>
                <a:latin typeface="Consolas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onsolas"/>
              </a:rPr>
              <a:t>}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eans between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occurr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a(bc){2,4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matches "abcbc", "abcbcbc", or "abcbcbcbc"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460440" indent="-231840">
              <a:spcBef>
                <a:spcPts val="601"/>
              </a:spcBef>
              <a:buClr>
                <a:srgbClr val="bd090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in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or </a:t>
            </a:r>
            <a:r>
              <a:rPr b="1" i="1" lang="en-US" sz="2400" spc="-1" strike="noStrike">
                <a:solidFill>
                  <a:srgbClr val="262626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may be omitted to specify any number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2,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2 or mor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,6}"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up to 6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853920" indent="-279360">
              <a:lnSpc>
                <a:spcPct val="100000"/>
              </a:lnSpc>
              <a:spcBef>
                <a:spcPts val="55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onsolas"/>
              </a:rPr>
              <a:t>"{3}"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means exactly 3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19:12:02Z</dcterms:created>
  <dc:creator>Marty Stepp</dc:creator>
  <dc:description>Slides used in the University of Washington's CSE 142 Python sessions.</dc:description>
  <cp:keywords>Python</cp:keywords>
  <dc:language>en-US</dc:language>
  <cp:lastModifiedBy>rea-cse</cp:lastModifiedBy>
  <cp:lastPrinted>2012-05-08T18:43:58Z</cp:lastPrinted>
  <dcterms:modified xsi:type="dcterms:W3CDTF">2012-11-06T01:04:45Z</dcterms:modified>
  <cp:revision>865</cp:revision>
  <dc:subject/>
  <dc:title>CSE 142 Python Slides</dc:title>
</cp:coreProperties>
</file>