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59244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071720" y="630000"/>
            <a:ext cx="420192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9A0D99C0-3022-4018-8484-F9FC4B3C46F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DFB71129-F8E7-4CA8-A727-6AABDF1C933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C3A52663-B1C0-4078-9237-82E3B404EBD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40F6ADED-BC6B-4FA8-BBF7-334CE3613ED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072FBEDA-8316-4005-8938-D32B8FB0CC8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875EBE42-6F4A-4754-89ED-C2D01A022E7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672D909D-D041-4C9E-9818-48EE980AD5B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F7C19EAC-0A64-463A-B815-6059C783FE2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973B2656-A337-4D8F-A663-FA026EC252C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084AB501-F1F7-44AC-A3A9-389555E66A0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81A8AF79-F8F9-42D6-8565-261D824B786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FCE02240-04DD-48F0-8C61-796F273DFEC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B9405292-0F5B-4C12-B073-0C10A490C5C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2F4F5-28A2-4C35-9FB4-573E13FBDD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D5ED6-7F1B-45BD-BC7C-B585514C79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DF3E8-EB26-4193-BF95-FC7348FC80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922B2-0B62-4851-B8CE-3159B618CE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55964-0141-4186-826F-B3EAF33C73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7A1BE-1396-4EF5-87B0-6D9C115A35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8C734-468A-41A4-A79D-EF29E10E3A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5E45E-8DD0-4AC6-A649-98A5DE4EF1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E7820-1C92-4D02-89AD-C9D8D9141F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05CB3-7300-4981-99ED-F760CFB6E0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5EB11-23DA-4C8F-BC5B-2723D4BA51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0C626-30DD-467C-815C-C97143591A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F24D-FAD0-4653-9BB6-B227D9F36F39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716E-AC34-4CA2-8318-6709107C4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D19B-B8BC-497A-849F-A2ACAD9C931C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makes regexes work bett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6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analyser.oli.tudelft.nl/regex/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Jessica Miller</cp:lastModifiedBy>
  <cp:lastPrinted>2011-05-10T20:36:00Z</cp:lastPrinted>
  <dcterms:modified xsi:type="dcterms:W3CDTF">2011-05-11T01:08:12Z</dcterms:modified>
  <cp:revision>860</cp:revision>
  <dc:subject/>
  <dc:title>CSE 142 Python Slides</dc:title>
</cp:coreProperties>
</file>