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A6E521-6858-4DA1-8D84-57196CF3E2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F2B247-354B-4893-9771-A22334DE6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AD4A00-2A18-4B7C-8456-99411CD7B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5D798B-E49E-403C-830E-A9F44FB0D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B6A475-C705-48A7-A614-8B54C64F6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5058EF-411F-43E8-88D6-BD849E4B1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0DB668-6E55-444E-924E-8ACDE1F5A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CD89FB-2BCF-4042-B9AD-1520F956E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E91108-B07D-4824-8730-98C9ECB0B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21C0E0F-67BE-44E5-8523-242A670D6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97DB42-88F0-4F95-887E-299EB13C4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E6A973-C0A6-4AD9-826E-9B9754E96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65DB7F-AAB7-47F7-AB96-83F0B7A47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D1D4-6429-4C34-A6C9-5531FA7C0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DEAE-F0CF-4D9E-A818-7F86EB615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FCAF-030C-483F-BF60-5349EA990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8050-BF43-4A6A-81C3-BDA53C3AE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E3FD4-85A7-4483-BFDD-E3390431E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383FB-7C47-4C35-A31C-4DCF8117A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1DB03-8FB2-42E5-A455-D4DBD890E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259F-68A1-4A57-967C-9BE7DE7B2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862C-48E8-4117-8407-A659CA9B9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0D2A-870B-46AD-B3BE-1FD6D509D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3F25-72F5-4148-9A03-EABBFF88F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9DF8-84B9-4BF3-B38B-233EE9BD7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6930-4042-474B-98C1-323A99E1021E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0E98-F90A-4832-B66B-658807A21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B7D8-A2DD-45A2-BE65-5C3D357C92F4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2-11-06T01:04:45Z</dcterms:modified>
  <cp:revision>865</cp:revision>
  <dc:subject/>
  <dc:title>CSE 142 Python Slides</dc:title>
</cp:coreProperties>
</file>