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D516DAE-E5DC-43E0-A2F1-26075D7A514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771AB7D-0A67-47E5-9CAA-ACFF3A561C2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FA3668C-BD1D-4AAF-B455-23171C02609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FF8FCB1-CD67-4B93-B184-2EF155BF699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329FE20-DA3D-4793-84E8-9C79288498F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F747EF5-07B6-49F5-98A7-53038BDF768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EDAD5B7-A5FE-4441-AC8D-7F8B7904D6A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C953461-D444-4B98-B834-997E0D8E337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7CACED7-24B8-47DA-913F-88E744C2835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C47B215-4EFE-451D-B971-78A1BD4CA05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741CFFA-46ED-42B5-8B05-C9B6620FC28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8DE42E2-49D4-4EB9-9469-23CD8C395E0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14B8DFA-9448-4F32-A000-CF4129569BA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92727-ED47-408A-A8BA-37E818D4D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5B43-EDC5-4FAB-8C42-CFCB317DC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AF31-EA66-43FA-9F02-A2AC1C5C4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A7AB-9CAC-49B8-8DB1-68AB13D29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F7EB-1EAA-4E23-97ED-7837ACB19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AA58-1DB3-4857-85FD-C74D1C8DE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75C6-6D39-42E4-8C96-4DE91DF14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EF19-CC61-40E3-A1C5-0083343D4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23A36-A3DF-4423-9FCB-3D5A3384A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645E-16D9-405D-AB45-E23270123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6A9A-09BF-4110-AE94-ABD8F7336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EFDD-4A34-412E-9B61-78954BFCF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16A7-B047-4707-9022-ADDF83F7AA4D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BE20-33D6-4861-8BF5-51A6DAABD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EEB5-F06F-4341-A5E6-D94FC6C403B3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Jessica Miller</cp:lastModifiedBy>
  <cp:lastPrinted>2011-05-10T20:36:00Z</cp:lastPrinted>
  <dcterms:modified xsi:type="dcterms:W3CDTF">2011-05-11T01:08:12Z</dcterms:modified>
  <cp:revision>860</cp:revision>
  <dc:subject/>
  <dc:title>CSE 142 Python Slides</dc:title>
</cp:coreProperties>
</file>