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1037874-1FEF-463C-A05B-A6C3F371790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531D98E-46CF-4475-8F8A-1AB2EEE7503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A93BDC7-C432-4581-B064-00F5B2C97A5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1B2EE72-24A2-4AFB-99D0-B94B50615A8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8CF2804-4E48-4F08-8509-37B547F77D7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FFE3073-2701-4135-BF28-B30D25297F1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08479C9-553F-4B69-8D29-EE0A188971B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A49F2D5-49E1-408E-8537-7B6C8C5AF54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4D18517-B179-45D7-B059-624B53AF96C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3B0CDDD-5E3D-4B47-A0DA-3CF5B24B1CC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7DAC8B0-FD8D-46C2-B767-A1B54DF8796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A821594-7029-4B89-B1FE-F1AFBFE727E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B716A5A-232E-4782-8B4F-ABA7620211D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2015A-D002-44DC-A0C7-5D62EF80E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A6C96-FDAD-4F9C-8D17-F086C4962E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4D03-7413-45D6-8961-AE58F2EBA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23647-2111-42D5-BD53-9E3685789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48C07-0139-45EE-8731-F2856130B4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16CE9-BAC9-4758-8E74-BA794577D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546FB-DD53-492F-99EE-2F0BC3F8F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5B5A0-BCB9-4929-AA49-C15CA8AA6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D35D3-E140-4FAE-B2F6-4A8F7A2FB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9F0E6-72CB-4E4D-84A0-2928804B06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EE555-E100-4A87-B3EE-33576A587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0C0E-2E29-4319-A3D0-2F0DE434E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B8E5-9402-4203-BB3C-951C8E164D98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5EAD-9663-41EB-B3C1-5F244F137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32AF-BA16-4D5F-A1E8-1BFBC172CE3B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1-05-10T20:36:00Z</cp:lastPrinted>
  <dcterms:modified xsi:type="dcterms:W3CDTF">2011-11-13T19:07:14Z</dcterms:modified>
  <cp:revision>863</cp:revision>
  <dc:subject/>
  <dc:title>CSE 142 Python Slides</dc:title>
</cp:coreProperties>
</file>