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59244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F65B7A0D-F70D-40FE-829E-CA9B30C1A87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8F24F2E0-5D82-4B44-9FB9-5EF5C53D688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29325C87-4E51-4828-9C54-15641A52EC2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586EF0F6-79B0-4E7B-91E7-A66AC668619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AC66B15D-E588-4859-B697-C1F6F10AC12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9CBDB579-A330-4DFA-9334-C6DDE3807BB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AAEE13CB-8F51-4105-9C16-CB13801FF7B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2A7F43EF-3C67-4C76-8C26-1D95CE97147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024DE6D6-0522-4DFE-A6B1-4667D99361D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8DB76DEB-3D6D-4888-B984-67A9DA61156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FE10FEE6-C359-4E03-90F3-0637BEA06C0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2F38F7A5-4CA2-4B87-924F-5AE7B3FDD84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4E09690-C06B-4FC8-9CB5-32564F0F524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E564F-EF12-4F55-83CA-9DA23345A7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0D355-FBB0-4D99-ACAE-E741E936BD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FB440-EA72-4900-AB50-4B3252C373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BA553-0EF0-418B-B7BC-E8DA10610D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1A191-58FD-44E5-9831-F30E1D64D5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837D5-3C65-4456-8180-FD3B36FF51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1A4B2-0AC9-4B31-8301-6FE6E8D41D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24260-541E-483B-9527-8AA941EF7F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8AFED-14EE-4F4B-A927-20D5342A90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EFB0A-6FBE-4644-A832-78193BAC06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AC17F-CA2D-4F56-972A-47F1737ECD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D2EF1-27F5-4A75-AFE6-953CB5A38B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2B2D-5C31-4B5E-968E-2F487799C6AE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8B50-33C6-447F-9F3C-1508C092D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957B-2415-40E9-A64D-7A3BB4BA22BA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analyser.oli.tudelft.nl/regex/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Jessica Miller</cp:lastModifiedBy>
  <cp:lastPrinted>2011-05-10T20:36:00Z</cp:lastPrinted>
  <dcterms:modified xsi:type="dcterms:W3CDTF">2011-05-11T01:08:12Z</dcterms:modified>
  <cp:revision>860</cp:revision>
  <dc:subject/>
  <dc:title>CSE 142 Python Slides</dc:title>
</cp:coreProperties>
</file>